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3DF-0D9B-4334-A9FA-2EC6B001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5A1-3D05-4916-B705-F51DEF7C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698-CEE3-4C76-8992-6D84E492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280-F638-4BE3-8265-6AA4213F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C05-EE7F-43BA-90EC-003FC08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998-6E5B-4DBD-96BC-926A661D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B41-8414-459F-AAA3-C2AAF71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B8E-1EE9-4DA0-9CF4-CF2CD912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E96-C2C7-4A43-ABF6-88776427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48C-A9C9-4616-8403-5EADCEE7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3F0-D5B5-4E5E-A717-BECC957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F13-A8F7-482D-8CE0-2AC3FF47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4F8B-D042-4AE2-BC53-4E8975F4EE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 for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Mary D James and Louisa Stead Music: Wade Jewett and William Kirkpatric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 2001 Wade Jewett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for Jesus, all for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being's ransomed pow'r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thoughts and words and doing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days and all my hou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hands perform His bid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feet run in His way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eyes see Jesus onl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lips speak forth His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've proved Him o'er and o'er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precious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ldlings prize their gems of beau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gilded toys of du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ast of wealth and fame and pleasu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Jesus will I tru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my eyes were fixed o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ve lost sight of all besi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enchained my spirit's vi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ing at the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've proved Him o'er and o'er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precious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what wonder! How amazi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glorious King of king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igns to call me His belov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s me rest beneath His wing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've proved Him o'er and o'er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precious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2:11Z</dcterms:modified>
  <cp:revision>8</cp:revision>
  <dc:subject/>
  <dc:title>By Thy Mercy Words by James J. Cummins Music by Greg Thompson © 2004 Greg Thompson Music</dc:title>
</cp:coreProperties>
</file>