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6A8-2F60-4447-8BFF-2AE00F01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ED5-8A33-4373-ABE5-87229899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F98-F49B-4048-AECE-44B70C04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9FE-9BD7-4111-B17B-9E6091A0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DF2-7B3F-4672-B91E-77AF43BE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C56-1F4F-4864-9BF6-7FD0CE8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CEA-4D8B-4B9D-B657-AF89796D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507-E36C-4DB6-AAE2-BF9F3056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4E3-4096-4C9F-81AD-B7105A23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5EC-C4AD-4A29-8FBC-F6F68CC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EA7-468E-43F4-AC20-F8CCDEA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4F2-37AB-470F-A1CD-0EAF5482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3A87-DE5F-4695-B846-45F146E79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 for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Mary D James and Louisa Stead Music: Wade Jewett and William Kirkpatric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 2001 Wade Jewett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for Jesus, all for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being's ransomed pow'r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thoughts and words and doing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days and all my hou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hands perform His bid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feet run in His way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eyes see Jesus onl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lips speak forth His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've proved Him o'er and o'er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precious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ldlings prize their gems of beau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gilded toys of du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st of wealth and fame and pleasu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Jesus will I tru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my eyes were fixed o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ve lost sight of all besi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enchained my spirit's vi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ing at the Cruc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've proved Him o'er and o'er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precious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what wonder! How amazi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glorious King of king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igns to call me His belov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s me rest beneath His wing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've proved Him o'er and o'er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precious Jesu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2:11Z</dcterms:modified>
  <cp:revision>8</cp:revision>
  <dc:subject/>
  <dc:title>By Thy Mercy Words by James J. Cummins Music by Greg Thompson © 2004 Greg Thompson Music</dc:title>
</cp:coreProperties>
</file>