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D9BA-0630-478B-96F6-6663537ED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9948-5751-4FE7-B361-9FB8EBFD0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98C5-C19B-4B57-8BDC-5F70631B8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3C4A-E4C4-43B0-B910-7B04675B9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747F-8DEC-4074-BB72-52542A5A3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CA20-8923-4B01-908C-FEE5A5775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0123-D51F-403D-9A55-9C38F0B97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245E-92F5-4BAA-BF43-E4ED2BAAB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B425-0026-423D-9C01-CA52A24DC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3581-B113-40F0-98BB-1F8872DE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4926-9489-47F3-BB86-2399E7DA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A2FD-47A1-41A9-AC69-AFFAEC44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6161D-B6FB-474F-A533-78544CE0265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ll Creatures of Our God and King</a:t>
            </a:r>
            <a:br>
              <a:rPr sz="40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ublic Domain Words: Saint Francis of Assisi Music: German Tun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44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creatures of our God and K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ft up your voice and with us sing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eluia! Alleluia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burning sun with golden beam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silver moon with softer gleam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praise Him! O praise Him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eluia! Alleluia! Alleluia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rushing wind that art so strong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e clouds that sail in Heaven alo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praise Him! Alleluia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rushing morn in praise rejoic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e lights of evening find a voic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praise Him! O praise Him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eluia! Alleluia! Alleluia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flowing water pure and cle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ke music for Thy Lord to hear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eluia! Alleluia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fire so masterful and brigh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givest man both warmth and ligh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praise Him! O praise Him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eluia! Alleluia! Alleluia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ye men of tender hear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giving others take your p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sing ye! Alleluia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e who long pain and sorrow bear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ise God and on Him cast your ca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praise Him! O praise Him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eluia! Alleluia! Alleluia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all things their Creator bles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worship Him in humbleness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praise Him! Alleluia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ise, praise the Father, praise the S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praise the Spirit, Three in O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praise Him! O praise Him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eluia! Alleluia! Alleluia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4T16:44:19Z</dcterms:modified>
  <cp:revision>9</cp:revision>
  <dc:subject/>
  <dc:title>By Thy Mercy Words by James J. Cummins Music by Greg Thompson © 2004 Greg Thompson Music</dc:title>
</cp:coreProperties>
</file>