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0A8-BFDB-4AD0-90C1-675994A0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675-1B56-40AF-A28D-38A3244F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146-9693-4AC2-B513-5DA1B131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D44-A9EF-4B16-A1DA-5F34D7DC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BA4-C902-40AB-9448-A4FE34F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3A0-D0CC-405B-BEF3-4F5F236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886-0D1B-4A50-845F-82AA659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14E-DCEA-4B5C-B141-72A28B6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B68-B4D6-47BE-835A-ECD24B1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2DB-C927-45EA-941F-4BF0BD2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3F4-522F-4A67-9395-BFF7E9A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F03-701C-4238-A112-438097F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2BDB-BBC6-45D1-AC20-0E5BA7DF7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Creatures of Our God and K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Saint Francis of Assisi Music: German Tu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creatures of our God and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 and with us s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burning sun with golden b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ilver moon with softer gl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rushing wind that art so st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louds that sail in Heaven al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rushing morn in praise rej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lights of evening find a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lowing water pure and cl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usic for Thy Lord to h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ire so masterful and br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ivest man both warmth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e men of tender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ving others take your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ing ye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long pain and sorrow b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God and on Him cast your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things their Creator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orship Him in humblene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praise the Father, praise the S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 the Spirit, Three in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4:19Z</dcterms:modified>
  <cp:revision>9</cp:revision>
  <dc:subject/>
  <dc:title>By Thy Mercy Words by James J. Cummins Music by Greg Thompson © 2004 Greg Thompson Music</dc:title>
</cp:coreProperties>
</file>