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E34-D60C-4F7C-A8E2-AA0BC84A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FC0-3E12-4A5F-BECD-253B2DD0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C98-5F54-4752-98BF-3C21A835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2B4-85FA-471F-B11B-109A15C8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5E1-0172-4CAF-9394-92E2D2F5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43C-EAF5-458B-AF6C-DC2D5F19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C36-EE0E-44F5-9C53-2B7FA858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864-E50A-4C15-86EB-100DF090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FD0-5CA4-4B86-9622-33FB981C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F0F-AEA3-4420-BC2A-053EC6C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F8F-C464-4037-8A4D-97B4186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B85-E10E-4963-9C24-DCDFE56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EA42-B0F7-4639-9289-9B4B8E9A56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as and Did My Savior Blee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Greg Thompson © Greg Thomp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as and did my savior bl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my Sovereign di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He devote that sacred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uch a fool as 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angeness of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in You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broken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holeness rev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bonds are my freedo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orrow my s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Your wounds I am hea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it for crimes that I hav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groaned upon the t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pity! Grace unknow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beyond deg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angeness of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in You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broken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holeness rev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bonds are my freedo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orrow my s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Your wounds I am hea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rops of grief can ne'er rep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bt of love I ow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, Lord, I give my self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all that I can 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angeness of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in You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broken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holeness rev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bonds are my freedo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orrow my s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Your wounds I am hea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39:55Z</dcterms:modified>
  <cp:revision>7</cp:revision>
  <dc:subject/>
  <dc:title>By Thy Mercy Words by James J. Cummins Music by Greg Thompson © 2004 Greg Thompson Music</dc:title>
</cp:coreProperties>
</file>