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FAF0-C28C-4BC1-AC06-D69E8B2F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A14-43AE-4198-8A11-441ED0B2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5421-8B52-4A11-8CE4-106F3A2A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C9B-AFA0-4DA5-A3B6-8A8FC28D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E284-E9AB-4969-8C52-4D4244D1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798-40B7-4E23-AF4D-3EB7F436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3F3B-FA35-4561-AD97-39E8B081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9A6-F904-4234-B53A-CB8358DB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70FE-5AA3-4443-8814-6395B216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8F9-C8B4-4E97-AFFC-AB822284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428E-72A1-461C-86FA-C2675544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7723-102F-4FEF-8914-402570E7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F7DA-B152-429A-BC70-EEB5487C87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las and Did My Savior Bleed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s: Isaac Watts   Music: Greg Thompson © Greg Thomp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as and did my savior ble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d my Sovereign di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uld He devote that sacred h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such a fool as I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rangeness of lov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life in Your d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Your broken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wholeness reveal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bonds are my freedo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sorrow my so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y Your wounds I am heal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 it for crimes that I have don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groaned upon the tre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azing pity! Grace unknown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ove beyond degre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rangeness of lov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life in Your d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Your broken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wholeness reveal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bonds are my freedo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sorrow my so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y Your wounds I am heal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drops of grief can ne'er rep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ebt of love I ow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e, Lord, I give my self aw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all that I can d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rangeness of lov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life in Your d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Your broken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wholeness reveal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bonds are my freedom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sorrow my so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y Your wounds I am heal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02:06Z</dcterms:created>
  <dc:creator>Zachary</dc:creator>
  <dc:description/>
  <dc:language>en-US</dc:language>
  <cp:lastModifiedBy>Zachary</cp:lastModifiedBy>
  <dcterms:modified xsi:type="dcterms:W3CDTF">2013-01-04T16:39:55Z</dcterms:modified>
  <cp:revision>7</cp:revision>
  <dc:subject/>
  <dc:title>By Thy Mercy Words by James J. Cummins Music by Greg Thompson © 2004 Greg Thompson Music</dc:title>
</cp:coreProperties>
</file>