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D7C-7796-4BFA-A007-FB1238BC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E1C-ACB0-4B51-970F-09CA598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BE5-6BFB-437A-9FB7-0A71595E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3B3-6882-429A-9C2F-4209EAD9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37A-67C1-491C-B013-6BB0C57F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B39-2B5E-4854-939A-4F2F0B3F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1D4-60D5-445F-B64C-799E6B78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DE6-5308-4CA1-B982-F43184B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B04-AF3B-4434-B0C3-29ABDFD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10D-4CED-4C66-AE58-FB71E1B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FB4-DE37-4BE9-8C10-3206330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A0A-4EF5-471F-BD56-E05071F3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6302-F353-4AFC-B791-BFCC36721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Bobby Mac and Guy Purdy © 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 and did my savior bl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id my Sovereign di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He devote that sacred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inners such as 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it for sins that I hav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uffered on the t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pity! Grace unknow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beyond deg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might the sun in darkness hide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ell might the sun in darkness hide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ut His glory in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 shut His glory i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hrist, the great Redeemer died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an the creature's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might I hide my blushing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His dear cross app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olve my heart in thankful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lt mine eyes to tea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rops of grief can ne'er repay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ut drops of grief can ne'er repay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bt of love I owe: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debt of love I owe: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Lord, I give my self awa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ll that I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8:42Z</dcterms:modified>
  <cp:revision>6</cp:revision>
  <dc:subject/>
  <dc:title>By Thy Mercy Words by James J. Cummins Music by Greg Thompson © 2004 Greg Thompson Music</dc:title>
</cp:coreProperties>
</file>