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918-5779-440A-ACDC-09B2DE5C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440-CDA0-4707-9819-E0EF844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DA0-23EE-4E8D-AF74-12CC4D92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10C-8D40-4439-8AC8-08C070CC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B34-5E91-48D5-8AE6-A443416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6C3-39C0-4B58-84A4-AA2CCD22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58A-E3E8-4BEB-ABDB-36F4DA24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C73-76FC-4A80-98B8-BC7EB71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3AE-36F8-43E3-A0A1-98F6A77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E1E-E4A1-48B6-A6EA-4DA3AE4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39E-492A-4DE2-8C49-565AD34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282-E7D6-468A-9BE0-246DFCE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78B-DE5A-4E5E-B950-0934AA198E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Bobby Mac and Guy Purdy © Bobby Guy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 and did my savior ble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id my Sovereign di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He devote that sacred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inners such as 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it for sins that I hav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uffered on the t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pity! Grace unknow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beyond deg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might the sun in darkness hide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ell might the sun in darkness hide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ut His glory in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 shut His glory i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hrist, the great Redeemer died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an the creature's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might I hide my blushing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His dear cross appea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olve my heart in thankful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lt mine eyes to tea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rops of grief can ne'er repay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ut drops of grief can ne'er repay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bt of love I owe: 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debt of love I owe: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Lord, I give my self awa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ll that I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8:42Z</dcterms:modified>
  <cp:revision>6</cp:revision>
  <dc:subject/>
  <dc:title>By Thy Mercy Words by James J. Cummins Music by Greg Thompson © 2004 Greg Thompson Music</dc:title>
</cp:coreProperties>
</file>