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B52-C7D5-4473-9EA6-EB6816F7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D5F-A922-4675-A024-47EB0AB3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6EC-AC22-4DB1-AC4A-03803562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508-551E-4274-9CB6-502BF133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AFC-025C-4973-93B2-B9FFBB82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EAF-E68B-4EE8-B113-57B21182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E39-E49E-4300-952D-154CC9FD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B52-AA98-4A89-815A-27BBA454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19C-B096-4685-94A4-2988C4F3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9E3-2FCE-412F-927D-19CBA740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5D6-8509-49D6-815F-9D278C57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A6B-ED12-4D82-9BE5-0ACD3A7E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5514-6F6D-480D-9B5C-8471105754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Debtor to Mercy Alone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ugustus Toplady Music: Kevin Twit © 1998 Kevin Twit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debtor to mercy al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covenant mercy I sing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fear, with Thy righteousness 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person and offering to bring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errors of law and of God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e can have nothing to do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avior's obedience and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de all my transgressions from 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k which His goodness began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rm of His strength will complete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romise is yea and amen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ever was forfeited yet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gs future, nor things that are 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ll things below nor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make Him His purpose foreg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sever my soul from His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name from the palms of His h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ternity will not era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ressed on His heart it rem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arks of indelible grace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I to the end shall endur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sure as the earnest is given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happy, but not more secur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orified spirits in heav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I to the end shall endur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sure as the earnest is given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happy, but not more secur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orified spirits in heav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29:02Z</dcterms:modified>
  <cp:revision>2</cp:revision>
  <dc:subject/>
  <dc:title>By Thy Mercy Words by James J. Cummins Music by Greg Thompson © 2004 Greg Thompson Music</dc:title>
</cp:coreProperties>
</file>