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B73-18E4-4E6C-87EE-B96F1582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343-61AC-4622-BC5F-082FCD18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AEB-D379-4572-9747-305C3370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F23-2790-4780-8771-9C65243D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36C-956B-4D02-91A9-F51B217A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802-7EE0-4B87-9AC5-97C6E4A4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067-E1F9-4C99-87E1-34D5E9A2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38F-442A-4594-9DAF-80362A25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C2D-DCB1-4FB3-9496-39D5F3A5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8D6-324E-4E4E-98BC-1A0C3852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E2F-D4BC-4B6C-87A5-24CA9105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FA2-6C82-4561-A32F-242BB44C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0F63-3D8F-4009-B0E6-C79E73CCC5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Debtor to Mercy Alone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ugustus Toplady Music: Kevin Twit © 1998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debtor to mercy al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covenant mercy I sing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fear, with Thy righteousness 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person and offering to bring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errors of law and of God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e can have nothing to do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avior's obedience and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de all my transgressions from 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k which His goodness began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rm of His strength will complete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romise is yea and amen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ever was forfeited yet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gs future, nor things that are n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ll things below nor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make Him His purpose foreg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sever my soul from His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name from the palms of His h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ternity will not era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ressed on His heart it rem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arks of indelible grace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I to the end shall endur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sure as the earnest is given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happy, but not more secur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rified spirits in heav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I to the end shall endur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sure as the earnest is given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happy, but not more secur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rified spirits in heav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29:02Z</dcterms:modified>
  <cp:revision>2</cp:revision>
  <dc:subject/>
  <dc:title>By Thy Mercy Words by James J. Cummins Music by Greg Thompson © 2004 Greg Thompson Music</dc:title>
</cp:coreProperties>
</file>