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A02-F220-4BFE-9619-C6418DEE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CFC-69C6-4BDD-BB6C-8CB1DC1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9ED-4A49-4CD0-9191-E72D474B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E2F-B8EB-46C3-9B57-5A4F6300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836-C1C6-4F3D-8AB2-35A9B16C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179-B5DD-411B-98AB-03642133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83C-2FFD-4A4C-A9B5-FECDE926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BB3-DAF6-4D52-9AC4-BCE3A3D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AB0-FC2D-46AD-A7D7-E665ACB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B5E-8A3F-4AA6-A8F2-476A5ED2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3D1-9C4F-4AD9-A3BA-9911B38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CBE-C618-453B-833C-E9132D61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296-B542-4852-ACF1-BB3A927687F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F6D-2EA3-4D17-BE50-13DD1B5EA3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ide With M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Newton   Music: Justin Smith ©2007 Justin Smith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ide with me; fast falls the event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deepens; Lord with me ab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other helpers, fail and comforts fl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of the helpless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on my head, in early youth didst smi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though rebellious, and perverse meanwhi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not left me, though I oft left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o the close Lord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y presence, every passing ho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ut Thy grace, can foil the tempter’s pow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, like Thyself, my guide and stay can b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cloud and sunshine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ar no foe, with Thee at hand to b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s have no weight, tears lose their bitter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is thy sting death? Where grave thy victo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iumph still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 Thou Thy cross, before my closing eye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ine through the gloom, and point me to the sk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’s morning breaks, and earth’s vain shadows fl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fe, in death, Lord, abide with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Kevin Twit</cp:lastModifiedBy>
  <dcterms:modified xsi:type="dcterms:W3CDTF">2013-11-06T13:28:07Z</dcterms:modified>
  <cp:revision>6</cp:revision>
  <dc:subject/>
  <dc:title>By Thy Mercy Words by James J. Cummins Music by Greg Thompson © 2004 Greg Thompson Music</dc:title>
</cp:coreProperties>
</file>