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391-2DEA-47C2-B83C-7E0C046B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521-56CD-463B-8B20-4EDD69CD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BAC-E437-4345-9440-C665220F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D81-E264-41AA-97A3-E5B27919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40B-685E-4A79-B75A-3C9EAF9B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03D-16E6-4452-8554-DBC506C4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E59-A5E7-4056-9842-37DF131B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925-46B9-4F2C-B51D-E6F8A733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2CF-C7C6-47A7-BCD4-B8F80AD6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84E-1A74-4077-BEAC-45E6907F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FA9-AE82-42B8-A42D-1C7041B0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990-9D28-4962-A3F9-F2898854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265F-21A6-40EA-91D9-6A838F3C7D9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9F61-577E-4647-AA7A-F1F9A0F720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bide With Me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Newton   Music: Justin Smith ©2007 Justin Smith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ide with me; fast falls the event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rkness deepens; Lord with me ab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other helpers, fail and comforts fl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 of the helpless, abide with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on my head, in early youth didst smi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, though rebellious, and perverse meanwhi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not left me, though I oft left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o the close Lord, abide with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y presence, every passing hou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ut Thy grace, can foil the tempter’s pow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, like Thyself, my guide and stay can b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cloud and sunshine, abide with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ear no foe, with Thee at hand to b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s have no weight, tears lose their bitter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is thy sting death? Where grave thy victo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riumph still, abide with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d Thou Thy cross, before my closing eye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ine through the gloom, and point me to the sk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en’s morning breaks, and earth’s vain shadows fl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ife, in death, Lord, abide with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Kevin Twit</cp:lastModifiedBy>
  <dcterms:modified xsi:type="dcterms:W3CDTF">2013-11-06T13:28:07Z</dcterms:modified>
  <cp:revision>6</cp:revision>
  <dc:subject/>
  <dc:title>By Thy Mercy Words by James J. Cummins Music by Greg Thompson © 2004 Greg Thompson Music</dc:title>
</cp:coreProperties>
</file>