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AF30-E94A-4875-92AE-A2DD5E02C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752B5-3937-4DBE-99E9-B939A9526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F4B54-CF23-4EBE-9901-19CFDBE1D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CCB3A-55B2-4766-97B5-21A2DBD93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4D504-B6DE-438B-9D26-E119127BE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E2461-5160-4D32-B438-C8FED5A3C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43C6F-7A71-47B8-A201-B63B7682F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0669A-17D6-4917-8F17-50A32ABE2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37ABA-BF1F-423A-9B9E-C8204CF04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F401-6831-4AA9-97AF-87148D766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10D88-8D18-4BBF-B115-94741F565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8E91-AEF7-4813-9D8F-119919839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8A9DF-84DC-4BC3-8BD3-9473D7364D2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me and Welcome</a:t>
            </a:r>
            <a:br>
              <a:rPr sz="40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ords: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omas Hawei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Music: Matthew Perryman Jones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©2004 Smoldering Wick Music (ASCAP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rom the cross uplifted hig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ere the Savior deigns to di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melodious sounds I hea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ursting on my ravished ea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ove¹s redeeming work is don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me and welcome, sinner, com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prinkled now with blood the thron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y beneath thy burdens groa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n my pierced body lai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ustice owns the ransom pai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ow the knee and kiss the S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me and welcome, sinner, com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pread for thee the festal boar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e with richest dainties store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 thy Father¹s bosom presse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Yet again a child confesse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ever from His house to ro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me and welcome, sinner, com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oon the days of life shall e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o, I come, your Savior, Frie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afe your spirit to conve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 the realms of endless d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Up to my eternal hom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me and welcome, sinner, com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me and welcome, sinner, com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1:02:06Z</dcterms:created>
  <dc:creator>Zachary</dc:creator>
  <dc:description/>
  <dc:language>en-US</dc:language>
  <cp:lastModifiedBy>Zachary</cp:lastModifiedBy>
  <dcterms:modified xsi:type="dcterms:W3CDTF">2013-01-04T21:58:14Z</dcterms:modified>
  <cp:revision>6</cp:revision>
  <dc:subject/>
  <dc:title>By Thy Mercy Words by James J. Cummins Music by Greg Thompson © 2004 Greg Thompson Music</dc:title>
</cp:coreProperties>
</file>