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9A05-D47C-4C04-832C-F1557BBE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38AE-8F7E-4BB9-8490-2EE8624B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F1C2-C3A7-400B-A46B-82F9F9F2D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973B-5FED-43CE-8946-F8C5DD99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841D-33BB-4A4A-8677-F2AF4DC3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F735-F61D-4C08-B825-3DE9434E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2823-6CEB-4EC7-B3A8-5BBD8527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4E30-819E-4959-85F0-82E61E65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EB88-54D2-44DE-B026-59983E11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0D16-3E55-4E83-BC86-4B98B1B1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B457-07F1-4602-8960-29FD61A7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58D7-310A-48B8-B8C7-666BF810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8EFA-62A7-40D4-B66F-E47176BB49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e and Welcome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omas Hawe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Music: Matthew Perryman Jones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©2004 Smoldering Wick Music (ASCAP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the cross uplifted hi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the Savior deigns to d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melodious sounds I he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rsting on my ravished e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ve¹s redeeming work is d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and welcome, sinner, c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rinkled now with blood the thr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 beneath thy burdens gro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my pierced body la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stice owns the ransom pa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w the knee and kiss the S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and welcome, sinner, c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read for thee the festal bo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 with richest dainties stor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y Father¹s bosom pres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t again a child confes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ver from His house to ro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and welcome, sinner, c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on the days of life shall e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, I come, your Savior, Frie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fe your spirit to conv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 realms of endless d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p to my eternal h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and welcome, sinner, c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and welcome, sinner, c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1:58:14Z</dcterms:modified>
  <cp:revision>6</cp:revision>
  <dc:subject/>
  <dc:title>By Thy Mercy Words by James J. Cummins Music by Greg Thompson © 2004 Greg Thompson Music</dc:title>
</cp:coreProperties>
</file>