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F24-7624-4846-B0B4-E165D81D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44B-9FA1-4182-9579-F3930767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F72-50A2-491F-BDF8-42BF8545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05CF-439E-442F-91AA-339B5D86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C52A3-F768-408E-AB6C-583D9016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4FFFF-9441-4577-917E-FD0E0845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B05B8-8EC0-4E56-84EB-CD3566A5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62259-0D90-4EAD-A9B0-C1B121F5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043F8-7186-4AF5-8BC0-DE0A9690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16F99-425B-4014-9680-A88A2A5F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8A5E6-589F-4D3D-B6A7-8E8AE77D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2FC-3255-49DA-9947-9D9AD31B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8338E-7312-49CD-81D9-431D855F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D2D58-FFDD-4C58-BCDE-AF093495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F62BF-57D4-4DCE-8B0F-7A991DA5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E0301-702B-4F6B-BF25-8E22EDCA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F468C-2CC4-49C6-BC87-14B77BAB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3AA-1838-47BF-A9CC-7877A45A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E25A-DECC-48D9-89E6-98747D9B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C14-894B-456F-84AF-5FAC4B32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0F4-6EB7-4BB7-B8CC-23982948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A1E6-27C6-4A05-A480-DEB39983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6ADF-423A-4D58-83B2-54B896CF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534-7ABF-4DB7-AF32-5F71C004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567B-D90D-4DDD-BD82-B0A3878685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07C5-4E24-4EB6-ABBE-BAF074CE61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tting It All Togeth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Bu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nnon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, Mo, and Ho 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mix of Lower , Middle, and Higher Order questions contribute towards greater opportunities for learn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ower Order – simple recall, yes/no, define, describe, identify, designa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iddle Order – explain, interpret, relate, combine, summarize, generalize, compare and contrast, analyz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igher Order – predict, apply, infer, create, judge, value, defend, justif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28656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clusive Respon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’s reaction to student responses affects students’ self-concept which affects lear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’s comments should acknowledge effort and particip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void rating answ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257800" y="23623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onse Ti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ad air between a fair question and answer does not mean that the students did not understand the question, students process at different speeds and they should be given enough time to construct a respon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o not - repeat the question, give clu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o – accept the answer as genuine, allow time for corre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ands-F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 positive culture in your classroom where all students take a leading role in their educ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 all to learn, all must be involved, not just those with their hands up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udents need to know that they will be obligated to participate in their own learning by discontinuing the practice of calling on only those who raise their hand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00600" y="2590920"/>
            <a:ext cx="35053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in Based Tools for the Classroo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ructor: Robin Sene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tober 17,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0 Engaging Brain-Based Tools for the Classroo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Michael A. Scadd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ram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ords we hear in the classroom help to “frame” the outcome of the classroo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void words that instill failur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on’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et’s tr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as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 words that promote a positive view, things that you want to occu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et’s do it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05520" y="2433600"/>
            <a:ext cx="312408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ewiring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wiring sets the stage for a learning experience by causing the learner to become more acute to the desired topic or stimul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ilds anticip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s expec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stage curtains"/>
          <p:cNvPicPr/>
          <p:nvPr/>
        </p:nvPicPr>
        <p:blipFill>
          <a:blip r:embed="rId2"/>
          <a:stretch/>
        </p:blipFill>
        <p:spPr>
          <a:xfrm>
            <a:off x="5105520" y="2743200"/>
            <a:ext cx="31194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o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omplete thoughts, discussions, or unanswered questions lead to loo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ted loops activate retained learn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oid loops in instruction by incorporating loop completing exercises into your routine, such as a time at the end of the less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095800" y="1905120"/>
            <a:ext cx="28512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eedba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urate feedback paves the way to students who understand where their learning is taking them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edback that stirs emotion makes memories meaningfu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285768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nd Maps and Mindscap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Mind Maps to review is effective with most learn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type of graphic source incorporates several techniques that help students recall and retain better than other method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8320" y="2301840"/>
            <a:ext cx="40384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le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flection is an important part of the learning process and should inclu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learning go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pro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edback about what was lear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what was learned has changed the stud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184720" y="1905120"/>
            <a:ext cx="296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20:49:20Z</dcterms:created>
  <dc:creator> </dc:creator>
  <dc:description/>
  <dc:language>en-US</dc:language>
  <cp:lastModifiedBy> </cp:lastModifiedBy>
  <dcterms:modified xsi:type="dcterms:W3CDTF">2010-10-16T02:59:01Z</dcterms:modified>
  <cp:revision>25</cp:revision>
  <dc:subject/>
  <dc:title>Enhancing Relationships</dc:title>
</cp:coreProperties>
</file>