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7F8-25BE-4DBF-B25E-B741A18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9D3-2815-41FF-8505-C731CD9B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A64-A100-42CB-8F60-1ECF4651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775-ABF4-4E01-9587-F41782A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AE07-81EB-4550-8CBF-FB3A4B8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E4FEB-9706-40D4-B8CC-8539388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572E-BCA1-4D5F-B7A2-0C673FB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FE34F-56FE-4535-8A4C-F79AD87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9303-3CDC-4FB2-A691-49D430F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CAE80-A121-4CED-8DE3-D91808A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9AB09-ABCA-44AC-89CF-1E0EEDF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929-DE3D-43DF-BE6D-A4C44598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F44E5-7CCA-4E5D-A25B-4961EC8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D311-D67C-42D5-AAFF-6EBE6E5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16ABA-ED9B-484D-9949-233F0BE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F2EE8-1464-4633-9362-9992E5A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DD925-D058-41C4-B7D3-4393008A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A85-CC10-47FD-A649-EBA37BF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97E-FBCC-4D44-9B04-4F67637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669-69E8-4206-9E76-1A15303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82B-7129-47CB-9A39-01A8E8C6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704-1DA3-4FA0-8A9E-017D52D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A44-4B2A-48D0-B8C3-47B0C67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2D3-5635-4354-A621-C6ABEF0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86F-5E9C-49A9-9D52-93B96D9D4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5BAB-07D8-4403-89AA-7DE95AC0F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ing Patterns and Coh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u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non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ugh Dra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that passes from immediate memory to working memory is retai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age is caused through meaningful learning experien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learning te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ous graphic sources, methods, and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abo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retained in working memory needs to be refined and enhanced through learning trial and err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acher/student partnership shares responsibility for refinement through various learning experien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c knowledge is made unique through this proc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only one pathway to teach causes repetition that causes a weak learning l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ing is strengthened as we use multiple pathways to create l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in themes ties our brain based processes toge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people related themes makes connections to students… connections are critical to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in 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Robin Sen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 19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0 Engaging Brain-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Michael A. Scad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m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need to manage the classroom rather than the stud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eparate areas f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ip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se areas are the same, stress levels can inhibit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ycles of Concentr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brains cycle through different levels of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rgy Cyc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ary learning cycles are best in the mor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ary learning cycles are best in the afterno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ory cyc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is best suited for learning spelling, math, science, writing, and problem solv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noon is best suited for learning literature, social studies, drama, and s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 Cha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occurs as cognitive function is combined with physical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instruction surpasses the attention span of the student, learning cea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 span equals the student’s age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10 years = 10 minu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orporating physical function boosts ener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oss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d and eye movement assists in processing information, crossing from one side of the brain to the oth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overs maximize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ons should include touch and move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movement creates learning blocks, which slow or inhibit learning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roving Memory Lin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is retained through several pathways to mem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rongest pathway is hands-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eakest is audi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mory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assists learn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must be a daily part of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ify the procedure for re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nge set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orporate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49:20Z</dcterms:created>
  <dc:creator> </dc:creator>
  <dc:description/>
  <dc:language>en-US</dc:language>
  <cp:lastModifiedBy> </cp:lastModifiedBy>
  <dcterms:modified xsi:type="dcterms:W3CDTF">2010-09-20T01:27:58Z</dcterms:modified>
  <cp:revision>5</cp:revision>
  <dc:subject/>
  <dc:title>Enhancing Relationships</dc:title>
</cp:coreProperties>
</file>