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C316-B1CE-4F78-8032-A74129ED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09E-47AB-488A-A786-5D530C1A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D7E-27EA-4D81-8A5B-C74AD5EB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B5B5-67E1-489B-9A33-C7ADE97B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9132F-4897-426C-A079-7B76EB38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E3C09-81A2-4181-A332-4FC29DE0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7C49A-208D-4595-AACF-B6D8F57A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3E464-8B52-4FCE-878B-49084C50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764C9-D0E8-4AC4-B38E-3D6ED6F1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A534A-ED11-4CEF-B2E4-B6765F36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77997-7AB1-48BF-BCAF-CF55C47D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BAEB-348A-4A18-9FD2-79FB1618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F8246-C6BC-4E7B-A99B-4D440D28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1ED44-8ECB-4B72-B259-D94C00AD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3380D-7629-4797-9481-3857600C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3E4A0-FA07-4E36-A08B-8C79018A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CD72F-33A8-4DF9-8F45-AC716390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C2A-81AA-4D40-AF39-A25C3BA0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0D21-8A27-4808-B00C-5075621D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E32F-E25A-48A1-A035-DA964235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BE8-A1A3-4890-B1E9-4F9AD301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184E-09D0-414D-97F4-C65000B6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F3C6-B982-4716-87BA-F5A8F4DB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99D-3223-483F-AA1B-1D82E9F9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7C8F-3DA8-4EA3-AD09-A32949556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29F2-0E5A-4F3B-9395-0F7877239B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moting Understan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Bu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nnon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lling Your Own String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ol over your own life translates to control over the success of your educ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not let someone turn you into a pupp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ople can only take control of your life if you give them permi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t the str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o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addition to “Pulling your own strings” positive goal setting contributes to students accepting responsibility for their educational succ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s should be “SMARTY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 pecif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 easur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cti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 ealist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 ime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 ou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yffirm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s need to provide a positive zone in the classroom to help foster positive self-talk in stud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enage students have between 35,000 and 60,000 thoughts per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thoughts shape our students self-conce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itive in = positive attitudes = su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verview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students to value learning they must have a clear target, overviews provide th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 that clarify the targe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m I expected to lear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will I able to learn i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will I know when I have been successful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will I be able to use it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in Based Tools for the Classroo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ructor: Robin Sene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tober 3,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0 Engaging Brain-Based Tools for the Classroo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Michael A. Scadd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put Through Learning Sty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ing styles var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jor Sty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sual - se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ditory - he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inesthetic - touch/fe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ctile - small motor control/busy with material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nor Sty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lfactory - sme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ustatory - tast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arning Preference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rtain conditions have a positive or negative impact on student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se conditions vary per stud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ditions include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ing sty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tiva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ultiple Intelligen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ligence is broader than the traditionally recognized, linguistic and math/logical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intelligenc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rapersonal – understanding ourselv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personal – relating to 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sual/spatial – understanding size and dist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sical – ability to play, sing, or mak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inesthetic – coordin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turalistic – understand our place in nature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tivato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ors that cause us to take ac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rviv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eed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ve and Conn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f-wor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ur Great 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questions prompt better decision making in students and helps teach responsi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do you wan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re you doing to get i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it work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is your pl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IF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’s in it for me?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type of internal motivation helps develop higher level thinking in stud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type of motivation helps students buy into their learn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20:49:20Z</dcterms:created>
  <dc:creator> </dc:creator>
  <dc:description/>
  <dc:language>en-US</dc:language>
  <cp:lastModifiedBy> </cp:lastModifiedBy>
  <dcterms:modified xsi:type="dcterms:W3CDTF">2010-10-03T05:07:51Z</dcterms:modified>
  <cp:revision>14</cp:revision>
  <dc:subject/>
  <dc:title>Enhancing Relationships</dc:title>
</cp:coreProperties>
</file>