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B3F-F92B-40B1-B3BB-577E075A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955-6A95-4BB2-9F5F-2227AE6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E79-92E1-49C8-BADE-4D8BDE9A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FBB-AA04-47FA-8E49-B71573F1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DC138-C4DD-48A1-A211-FDDE1659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24CEE-2831-499D-9CBF-684541F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2F2F-56A8-4B5B-BB21-08AB7C1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4B82A-5094-43D9-BCF4-B3847C8E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9A42-E224-4BAE-BA4D-0C094521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00D79-CC1A-43C0-B48B-184CDF0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74B8-E736-45E1-8E22-1A771CD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9C0-4959-4372-9F8E-64CF4A5B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FC883-31FA-4C95-A117-3CC936A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A73F-4A6A-42CB-BBEB-FE87481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3EC0E-E7A8-46EB-BAC5-E83513C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60E54-9E36-47A8-A57E-EDF099B6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911B1-1D24-412F-894C-0E8D8CA9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72F-21D7-47FB-898F-F103734C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15F-BBE9-421E-94C8-2F8AD30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9A2-84C2-41E5-80CC-7D45A6A2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CC9-C891-408E-B45E-ACACFE5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3FE-36E7-4043-9075-E1B41FD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859-C262-4303-BE0C-F8D6FCB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9D0-99D8-4090-AAC5-B5BBE00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CFB1-3DA9-4835-938B-ECA95F477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839-FF74-436B-A75C-DDC9FB359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hancing Relationshi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u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nnon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eathing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led breathing flushes negative stress and allows for clearer thinking and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led breathing al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s control an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energ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lax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xation can lead to a better learning state throug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ure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xation list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iminating Extrinsic Rew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s cause the brain to operate in a stressful competitiv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ments of encouragement creates intrinsic motivation and rewarding satisf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nishment and Consequ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nishment is the result of an emotional re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quences are decisions made through discussion and calm thin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must be known, fair, and cl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teach students that their decisions result in consequences for themsel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in 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or: Robin Sen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tember 5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0 Engaging Brain-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Michael A. Scad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otional Lin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aching and learning process is all about relationships, to 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sh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out their family, interests, and ambi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 statements about what you believe 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r purpose as a teach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sha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ugh a “Student Showcase” or similar platform the same type of information, each student gets a turn to be on display and is given a time to share with the clas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tapho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metaphors and personal stories to reinforce and model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rather than r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your stories vivid, using details, voices, props, and your own pers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 student experience with a story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ules, Guidelines, and Agre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control is established through a combination of the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s need to be fair and consis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 are expectations of classroom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eements evolve through discus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o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d choice promotes intrinsic motivation and lowers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choices have consequences, some good, some b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ning and losing through choice helps students develop life skills to deal with thes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ss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ss inhibits learning and is person def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e th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review and ref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ing and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ing sufficient time for tas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t-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-ups, or positive comments, build self-esteem and reduce negative self-ima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t-ups encourage positive self-talk which leads to positive self-bel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49:20Z</dcterms:created>
  <dc:creator> </dc:creator>
  <dc:description/>
  <dc:language>en-US</dc:language>
  <cp:lastModifiedBy> </cp:lastModifiedBy>
  <dcterms:modified xsi:type="dcterms:W3CDTF">2010-09-05T23:14:15Z</dcterms:modified>
  <cp:revision>3</cp:revision>
  <dc:subject/>
  <dc:title>Enhancing Relationships</dc:title>
</cp:coreProperties>
</file>