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52B-64E5-43A2-9639-7FB4D954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70D-42B3-44A6-8C48-4C62D304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ECC-7561-4D2C-8B40-41075D06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0E9-4F76-4FF4-A0DF-25857414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6FE-C231-48E9-9427-05C6137B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00D-7910-4F0C-86A4-D4CCC76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D1E-953F-4C64-B227-AFD213D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0EF-8374-4846-8FA2-24362CB2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23D-72CF-4F24-851D-06E9C4F2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5CB-4D70-42FD-94FE-844D5FE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03C-6604-4ABF-8912-A2A07CF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81B2-78E7-4A67-AE88-D17FC68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E0D-442E-48FF-8E8D-715F6C4FB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expect from GC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ex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CSE in history would be nice, preferably a B or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my historical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worked extremely h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2:57:50Z</dcterms:created>
  <dc:creator>06harragan</dc:creator>
  <dc:description/>
  <dc:language>en-US</dc:language>
  <cp:lastModifiedBy>06harragan</cp:lastModifiedBy>
  <dcterms:modified xsi:type="dcterms:W3CDTF">2009-09-09T12:57:52Z</dcterms:modified>
  <cp:revision>3</cp:revision>
  <dc:subject/>
  <dc:title>What I expect from GCSE his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06Harragan@colne.essex.sch.uk</vt:lpwstr>
  </property>
  <property fmtid="{D5CDD505-2E9C-101B-9397-08002B2CF9AE}" pid="3" name="_AuthorEmailDisplayName">
    <vt:lpwstr>06Harragan</vt:lpwstr>
  </property>
  <property fmtid="{D5CDD505-2E9C-101B-9397-08002B2CF9AE}" pid="4" name="_EmailSubject">
    <vt:lpwstr>Please review 'What I expect from GCSE history'</vt:lpwstr>
  </property>
  <property fmtid="{D5CDD505-2E9C-101B-9397-08002B2CF9AE}" pid="5" name="_ReviewCycleID">
    <vt:r8>-1857861868</vt:r8>
  </property>
</Properties>
</file>