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AA3A-2329-4EB8-B4C1-64274A56E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33FA-628B-4D63-B19C-ED230A5C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8948-5ACF-429E-BA0B-795051338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F149-DA94-4F20-A2A2-23F9F5E22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AB82-4724-4002-9773-EE8C0BA3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7F7A-EAAF-43CE-AC87-8928DCCC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78A9-8E5C-4BAE-9AB5-305F9902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91E3-0869-46CA-B5E5-ABDA7BA1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BAA3-7259-4082-AB9C-957DEC44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285D-638C-4C12-AA98-AE2675A4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E162-E03E-475F-9A5E-5E8F94AB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0CA9-B4C1-403A-A0CC-C86577F2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E842-6ED2-4734-8D0E-41638B903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 expect from GCSE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 exp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CSE in history would be nice, preferably a B or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mprove my historical knowled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e worked extremely h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400800" y="41148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2:57:50Z</dcterms:created>
  <dc:creator>06harragan</dc:creator>
  <dc:description/>
  <dc:language>en-US</dc:language>
  <cp:lastModifiedBy>06harragan</cp:lastModifiedBy>
  <dcterms:modified xsi:type="dcterms:W3CDTF">2009-09-09T12:57:52Z</dcterms:modified>
  <cp:revision>3</cp:revision>
  <dc:subject/>
  <dc:title>What I expect from GCSE histo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uthorEmail">
    <vt:lpwstr>06Harragan@colne.essex.sch.uk</vt:lpwstr>
  </property>
  <property fmtid="{D5CDD505-2E9C-101B-9397-08002B2CF9AE}" pid="3" name="_AuthorEmailDisplayName">
    <vt:lpwstr>06Harragan</vt:lpwstr>
  </property>
  <property fmtid="{D5CDD505-2E9C-101B-9397-08002B2CF9AE}" pid="4" name="_EmailSubject">
    <vt:lpwstr>Please review 'What I expect from GCSE history'</vt:lpwstr>
  </property>
  <property fmtid="{D5CDD505-2E9C-101B-9397-08002B2CF9AE}" pid="5" name="_ReviewCycleID">
    <vt:r8>-1857861868</vt:r8>
  </property>
</Properties>
</file>