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E5AE-28CF-412D-9785-EFB59F3BC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B546-A74F-4511-A1C5-CD58EDFD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B2120-C07F-4652-9EA7-1B6E7924B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FA5E9-D55D-4541-A1CD-9CDBA8917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F483-4FDD-42B8-9473-C625FAB0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5EB2-8512-48BE-9124-BC68EECE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BEA3-893C-43C5-BD01-C4AEFD13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3B08B-E1BF-4327-B031-C72C859F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E079C-6344-424F-B480-0BC6A200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5AFF-6B52-4EFD-90BB-9A5D06E7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3492-9BA4-46A0-BFED-8AC2BC98F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07DB-AE2B-488C-B398-ED488E297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1232-E475-4CED-AC14-DC4408299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ater polo Spectating for Beg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information will help  you achieve water polo spectator “gold medal”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 saw a foul but the referee did not call it………..WHY?</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cal word is </a:t>
            </a:r>
            <a:r>
              <a:rPr b="1" lang="en-US" sz="3200" spc="-1" strike="noStrike">
                <a:solidFill>
                  <a:srgbClr val="000000"/>
                </a:solidFill>
                <a:latin typeface="Arial"/>
              </a:rPr>
              <a:t>ADVAN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eree should not declare an ordinary foul if there still is a possibility to play the ball. If the foul will reward the defense, that foul should NOT be call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also applies to potential passes  and possible shoo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es are looking at position, possession and probable go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does anyone want to referee this gam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 these referees sure do have a lot to evaluate….hmmmm.</a:t>
            </a:r>
            <a:endParaRPr b="0" lang="en-US" sz="3200" spc="-1" strike="noStrike">
              <a:solidFill>
                <a:srgbClr val="000000"/>
              </a:solidFill>
              <a:latin typeface="Arial"/>
            </a:endParaRPr>
          </a:p>
        </p:txBody>
      </p:sp>
      <p:pic>
        <p:nvPicPr>
          <p:cNvPr id="65" name="" descr=""/>
          <p:cNvPicPr/>
          <p:nvPr/>
        </p:nvPicPr>
        <p:blipFill>
          <a:blip r:embed="rId1"/>
          <a:stretch/>
        </p:blipFill>
        <p:spPr>
          <a:xfrm>
            <a:off x="3048120" y="3962520"/>
            <a:ext cx="320040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LL UNDE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all CAN go underw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rule:  to take the whole ball underwater </a:t>
            </a:r>
            <a:r>
              <a:rPr b="1" lang="en-US" sz="3200" spc="-1" strike="noStrike">
                <a:solidFill>
                  <a:srgbClr val="000000"/>
                </a:solidFill>
                <a:latin typeface="Arial"/>
              </a:rPr>
              <a:t>when tack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yer can be forced to take the ball under or they can take it under water on their own and if a defender touches the arm that is holding the b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feree will blow the whistle and the ball is awarded to the defense. (Turn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in water polo</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RE ball must pass over the goal line in order for a goal to be sco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eree in the “front court” will usually be standing on or near the goal line as the shot is taken to make sure the entire ball has passed over the goal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ig games, sometimes there are goal judges to help with this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EE THROW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yer has time to get balanced and look for a player to pass to when awarded a free th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defense on the free throw results in an exclusion of the defensive p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ee throw awarded outside of 5 meters can be shot on go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I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ar a different color cap than field p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special privile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touch the ball with two ha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not advance beyond the half lin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a:off x="3581280" y="4343400"/>
            <a:ext cx="25909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getting rolled mea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yer has been removed for the rest of the g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a player get rolled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onduct:  use of obscene language or gestures. Refuse obedience or show disrespect for a refe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ggressive fouling. Brutality and fight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see the referee add to the exclusion motion rolling of the fists over each other letting the player, coach and table know it is a game exclus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 I ask the referee a ques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please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game is over and the referee has signed the score sheet, they are ready to answer any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st to talk with them in the “office” and use a conversational tone.</a:t>
            </a:r>
            <a:endParaRPr b="0" lang="en-US" sz="3200" spc="-1" strike="noStrike">
              <a:solidFill>
                <a:srgbClr val="000000"/>
              </a:solidFill>
              <a:latin typeface="Arial"/>
            </a:endParaRPr>
          </a:p>
        </p:txBody>
      </p:sp>
      <p:pic>
        <p:nvPicPr>
          <p:cNvPr id="79" name="" descr=""/>
          <p:cNvPicPr/>
          <p:nvPr/>
        </p:nvPicPr>
        <p:blipFill>
          <a:blip r:embed="rId1"/>
          <a:stretch/>
        </p:blipFill>
        <p:spPr>
          <a:xfrm>
            <a:off x="3886200" y="495288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else can I do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r for your kid and t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 clinics and ask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h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a referee at the end of a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the table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GRATUALTION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chieved gold medal status!</a:t>
            </a:r>
            <a:endParaRPr b="0" lang="en-US" sz="3200" spc="-1" strike="noStrike">
              <a:solidFill>
                <a:srgbClr val="000000"/>
              </a:solidFill>
              <a:latin typeface="Arial"/>
            </a:endParaRPr>
          </a:p>
        </p:txBody>
      </p:sp>
      <p:pic>
        <p:nvPicPr>
          <p:cNvPr id="84" name="" descr=""/>
          <p:cNvPicPr/>
          <p:nvPr/>
        </p:nvPicPr>
        <p:blipFill>
          <a:blip r:embed="rId1"/>
          <a:stretch/>
        </p:blipFill>
        <p:spPr>
          <a:xfrm>
            <a:off x="3429000" y="2666880"/>
            <a:ext cx="312408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ill I see and hear at a water polo gam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fast action, swimming, treading water or eggbeater, physical contact between players, a really cool yellow ball, coaches directing the action, referees blowing their whistles a lot, and both teams trying to outscore each other.</a:t>
            </a:r>
            <a:endParaRPr b="0" lang="en-US" sz="3200" spc="-1" strike="noStrike">
              <a:solidFill>
                <a:srgbClr val="000000"/>
              </a:solidFill>
              <a:latin typeface="Arial"/>
            </a:endParaRPr>
          </a:p>
        </p:txBody>
      </p:sp>
      <p:pic>
        <p:nvPicPr>
          <p:cNvPr id="45" name="" descr=""/>
          <p:cNvPicPr/>
          <p:nvPr/>
        </p:nvPicPr>
        <p:blipFill>
          <a:blip r:embed="rId1"/>
          <a:stretch/>
        </p:blipFill>
        <p:spPr>
          <a:xfrm>
            <a:off x="3657600" y="4800600"/>
            <a:ext cx="1527120" cy="141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me about players and the pool marking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field players and one goalie per team in the water at the same time.  A 2 meter line, a 5 meter line, and a half court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players and coaches sit on a team bench on the d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lusion area is located in the water in front of the player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LE WORKER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olks operate the game clock, the 35 second shot clock, keep a recorded summary of the game, and there is an exclusion secret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usually volunt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he table sometime because it will help you understand more about the game of water po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me more about the refere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ally cool humans!  They have taken a rules test and gone to clinics to improve their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es are calling the game to protect players against injury and to maintain the integrity of the g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 their whistles to communicate to players and also use hand signals pointing the direction the ball is go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referee stuff</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 referees on each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ossible they stand on opposite sides of the p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play, one is the front court referee and one watches the back cou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es strive to be consistent in their calls for the entire game and tourna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es are evaluated by the head r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istle work</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e whistle</a:t>
            </a:r>
            <a:r>
              <a:rPr b="0" lang="en-US" sz="3200" spc="-1" strike="noStrike">
                <a:solidFill>
                  <a:srgbClr val="000000"/>
                </a:solidFill>
                <a:latin typeface="Arial"/>
              </a:rPr>
              <a:t> means the team who has the ball now gets a free pass.  NO DEFENSE on this free p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wo whistles</a:t>
            </a:r>
            <a:r>
              <a:rPr b="0" i="1" lang="en-US" sz="3200" spc="-1" strike="noStrike">
                <a:solidFill>
                  <a:srgbClr val="000000"/>
                </a:solidFill>
                <a:latin typeface="Arial"/>
              </a:rPr>
              <a:t> </a:t>
            </a:r>
            <a:r>
              <a:rPr b="0" lang="en-US" sz="3200" spc="-1" strike="noStrike">
                <a:solidFill>
                  <a:srgbClr val="000000"/>
                </a:solidFill>
                <a:latin typeface="Arial"/>
              </a:rPr>
              <a:t>means the defense now gets the ball (turno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ny whistles</a:t>
            </a:r>
            <a:r>
              <a:rPr b="0" i="1" lang="en-US" sz="3200" spc="-1" strike="noStrike">
                <a:solidFill>
                  <a:srgbClr val="000000"/>
                </a:solidFill>
                <a:latin typeface="Arial"/>
              </a:rPr>
              <a:t> </a:t>
            </a:r>
            <a:r>
              <a:rPr b="0" lang="en-US" sz="3200" spc="-1" strike="noStrike">
                <a:solidFill>
                  <a:srgbClr val="000000"/>
                </a:solidFill>
                <a:latin typeface="Arial"/>
              </a:rPr>
              <a:t>means something big just happened, usually a defensive player has been excluded for 20 seconds.</a:t>
            </a:r>
            <a:endParaRPr b="0" lang="en-US" sz="3200" spc="-1" strike="noStrike">
              <a:solidFill>
                <a:srgbClr val="000000"/>
              </a:solidFill>
              <a:latin typeface="Arial"/>
            </a:endParaRPr>
          </a:p>
        </p:txBody>
      </p:sp>
      <p:pic>
        <p:nvPicPr>
          <p:cNvPr id="56" name="" descr=""/>
          <p:cNvPicPr/>
          <p:nvPr/>
        </p:nvPicPr>
        <p:blipFill>
          <a:blip r:embed="rId1"/>
          <a:stretch/>
        </p:blipFill>
        <p:spPr>
          <a:xfrm>
            <a:off x="6858000" y="380880"/>
            <a:ext cx="1219320" cy="10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ULS?  Like the N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ctually in water polo a whistle means </a:t>
            </a:r>
            <a:r>
              <a:rPr b="1" lang="en-US" sz="3200" spc="-1" strike="noStrike">
                <a:solidFill>
                  <a:srgbClr val="000000"/>
                </a:solidFill>
                <a:latin typeface="Arial"/>
              </a:rPr>
              <a:t>GO!</a:t>
            </a:r>
            <a:r>
              <a:rPr b="0" lang="en-US" sz="3200" spc="-1" strike="noStrike">
                <a:solidFill>
                  <a:srgbClr val="000000"/>
                </a:solidFill>
                <a:latin typeface="Arial"/>
              </a:rPr>
              <a:t>  Who is going?  Everyone!  Offense tries to score right after a foul especially at the center forward pos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you will see a lot of movement by players who are trying to create because of the whistle that was bl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kind of fouls are there in water polo?</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ategories of fouls and some examp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dinary</a:t>
            </a:r>
            <a:r>
              <a:rPr b="0" lang="en-US" sz="2800" spc="-1" strike="noStrike">
                <a:solidFill>
                  <a:srgbClr val="000000"/>
                </a:solidFill>
                <a:latin typeface="Arial"/>
              </a:rPr>
              <a:t>:  or minor fouls like reaching for the ball over an opponent  who is not holding the ball and who is facing away from the go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a:t>
            </a:r>
            <a:r>
              <a:rPr b="0" lang="en-US" sz="2800" spc="-1" strike="noStrike">
                <a:solidFill>
                  <a:srgbClr val="000000"/>
                </a:solidFill>
                <a:latin typeface="Arial"/>
              </a:rPr>
              <a:t>: a defensive player who holds, sinks, or pulls back an offensive player who has offensive advantage.  This happens a lot at the 2 meter defensive positi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nalty</a:t>
            </a:r>
            <a:r>
              <a:rPr b="0" lang="en-US" sz="2800" spc="-1" strike="noStrike">
                <a:solidFill>
                  <a:srgbClr val="000000"/>
                </a:solidFill>
                <a:latin typeface="Arial"/>
              </a:rPr>
              <a:t>: any foul that prevents a probable go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8:56:47Z</dcterms:created>
  <dc:creator>Northside ISD</dc:creator>
  <dc:description/>
  <dc:language>en-US</dc:language>
  <cp:lastModifiedBy>Northside ISD</cp:lastModifiedBy>
  <dcterms:modified xsi:type="dcterms:W3CDTF">2007-03-27T17:01:37Z</dcterms:modified>
  <cp:revision>11</cp:revision>
  <dc:subject/>
  <dc:title>Water polo Spectating for Beginners</dc:title>
</cp:coreProperties>
</file>