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5AF-1410-4667-89EC-922FD82D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02A-A4AF-48F0-8384-C235020C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D6A-D74A-4B03-9686-0740988A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2FE-25EF-44D3-A0D2-B463D78C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224-3DB3-49CA-9D79-343B6D40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3B6-94D9-48C9-A160-C7B89297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E3F-187C-41DC-9A69-082E8D2C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9B4-4070-4FD0-B541-C012A37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07D-CB84-4CD0-86EF-4C41C253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CFB-E79A-4D02-B373-CC8CB25B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826-32FB-43B4-B356-5BC762DC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96D-0B9D-4B1F-AE75-37C2B74F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A1C0-4460-43B1-8D62-1419D2B27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ek two.Where does our energy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ES OUR ENERGY come from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1. Our energy comes from water, oil, manure, coal, wind, solar, &amp; natural g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ES OUR ENERGY G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.Our energy goes to transportation, industrial, residential, commercial and electric pow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3.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PROS AND CONS OF OUR ENERGY SOURCES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he pros and cons of our energy ar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uclear and renewable sour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ARE THE ENERGY SOURCESS FOUND (I.E.WHAT REGIONS)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Wherever we can find uranium and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in most oil found in the Middle East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188120" y="4648320"/>
          <a:ext cx="12700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88120" y="4648320"/>
                    <a:ext cx="1270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8320" y="2133720"/>
            <a:ext cx="552240" cy="392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9400" y="2057400"/>
            <a:ext cx="766800" cy="519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7058160" y="4343400"/>
          <a:ext cx="15523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58160" y="4343400"/>
                    <a:ext cx="15523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019920" y="1905120"/>
            <a:ext cx="577800" cy="628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467480" y="2057400"/>
            <a:ext cx="648000" cy="56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8229600" y="2057400"/>
            <a:ext cx="609480" cy="52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5334120" y="2057400"/>
            <a:ext cx="533160" cy="44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4648320" y="2819520"/>
            <a:ext cx="628560" cy="45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5867280" y="990720"/>
            <a:ext cx="1081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9:07:20Z</dcterms:created>
  <dc:creator>Student</dc:creator>
  <dc:description/>
  <dc:language>en-US</dc:language>
  <cp:lastModifiedBy>Student</cp:lastModifiedBy>
  <dcterms:modified xsi:type="dcterms:W3CDTF">2012-08-31T18:25:15Z</dcterms:modified>
  <cp:revision>2</cp:revision>
  <dc:subject/>
  <dc:title>Where does energy come from?</dc:title>
</cp:coreProperties>
</file>