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BBB-53F3-4985-B150-D617CC2E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1DF-A4D8-43D9-8398-04DADEF4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559-FFF6-4258-90F0-A68CC453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A32-929A-47C2-A7B6-79DF19B3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63B-80E8-411E-8501-8802C6CF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378-747F-4E4B-95D6-38F803C3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2CF-07FC-4DA4-928B-2AB0B9B2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CBA-BA79-4E59-AEBA-09E8B05A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34E-913E-4D8C-B2D6-AB3398FB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81A-0106-4839-B4D8-64D77B5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914-DBAD-4AA1-9987-427041E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5B7-35A4-47B0-8E8C-81A2548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CE1F-5949-4066-917A-62DE67A85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ek two.Where does our energy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ES OUR ENERGY come from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 Our energy comes from water, oil, manure, coal, wind, solar, &amp; natural g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ES OUR ENERGY G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Our energy goes to transportation, industrial, residential, commercial and electric pow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PROS AND CONS OF OUR ENERGY SOURCE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pros and cons of our energy a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clear and renewable sour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THE ENERGY SOURCESS FOUND (I.E.WHAT REGIONS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erever we can find uranium and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most oil found in the Middle East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188120" y="4648320"/>
          <a:ext cx="12700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88120" y="4648320"/>
                    <a:ext cx="1270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8320" y="2133720"/>
            <a:ext cx="552240" cy="392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766800" cy="5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7058160" y="4343400"/>
          <a:ext cx="15523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58160" y="4343400"/>
                    <a:ext cx="15523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019920" y="1905120"/>
            <a:ext cx="577800" cy="628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467480" y="2057400"/>
            <a:ext cx="648000" cy="56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8229600" y="2057400"/>
            <a:ext cx="609480" cy="52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5334120" y="2057400"/>
            <a:ext cx="533160" cy="44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4648320" y="2819520"/>
            <a:ext cx="628560" cy="45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5867280" y="990720"/>
            <a:ext cx="1081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9:07:20Z</dcterms:created>
  <dc:creator>Student</dc:creator>
  <dc:description/>
  <dc:language>en-US</dc:language>
  <cp:lastModifiedBy>Student</cp:lastModifiedBy>
  <dcterms:modified xsi:type="dcterms:W3CDTF">2012-08-31T18:25:15Z</dcterms:modified>
  <cp:revision>2</cp:revision>
  <dc:subject/>
  <dc:title>Where does energy come from?</dc:title>
</cp:coreProperties>
</file>