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75863" cy="756285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3C82D-FD7D-41DA-96FC-2C62B4DD1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03280" y="1770120"/>
            <a:ext cx="906768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03280" y="4376520"/>
            <a:ext cx="906768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DB046-A472-44BB-BC47-10705469E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0328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514980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03280" y="43765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5149800" y="43765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AA5E6-8941-444C-89F7-257FDA62A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03280" y="17701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569400" y="17701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635160" y="17701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03280" y="43765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569400" y="43765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635160" y="4376520"/>
            <a:ext cx="291960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85A0B-F91D-4600-8FB5-7C4CB4B09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3280" y="1770120"/>
            <a:ext cx="9067680" cy="49896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6114E-45EE-4C48-A6E7-5CC67BC12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3B40A-D774-40F8-8A94-D29632DE4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03280" y="1770120"/>
            <a:ext cx="442476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5149800" y="1770120"/>
            <a:ext cx="442476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7191D-D5CA-4AD1-9425-2942CCC64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B84B5-605C-467A-AD1C-9F4014CF1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7F47D-8BD1-4952-9F47-D4EBEA1AB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0328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5149800" y="1770120"/>
            <a:ext cx="442476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03280" y="43765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50C80-48D0-4EDD-9213-3FF71C493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03280" y="1770120"/>
            <a:ext cx="442476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514980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5149800" y="43765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0BD6-101D-4F20-8EF2-363D86867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0328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5149800" y="1770120"/>
            <a:ext cx="442476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03280" y="4376520"/>
            <a:ext cx="9067680" cy="23799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5366D-BC8D-46C6-8F95-52DD2C0CF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3280" y="1770120"/>
            <a:ext cx="9067680" cy="49896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2920" y="68896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6280" y="6889680"/>
            <a:ext cx="31921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4480" y="68896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66DB28-3157-47A8-B633-1256C6D1C970}"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454640" y="2286000"/>
            <a:ext cx="5146560" cy="3429000"/>
          </a:xfrm>
          <a:prstGeom prst="rect">
            <a:avLst/>
          </a:prstGeom>
          <a:ln w="0">
            <a:noFill/>
          </a:ln>
        </p:spPr>
      </p:pic>
      <p:sp>
        <p:nvSpPr>
          <p:cNvPr id="42" name=""/>
          <p:cNvSpPr/>
          <p:nvPr/>
        </p:nvSpPr>
        <p:spPr>
          <a:xfrm>
            <a:off x="1600200" y="657360"/>
            <a:ext cx="6858000" cy="942840"/>
          </a:xfrm>
          <a:prstGeom prst="rect">
            <a:avLst/>
          </a:prstGeom>
          <a:noFill/>
          <a:ln w="0">
            <a:noFill/>
          </a:ln>
        </p:spPr>
        <p:style>
          <a:lnRef idx="0"/>
          <a:fillRef idx="0"/>
          <a:effectRef idx="0"/>
          <a:fontRef idx="minor"/>
        </p:style>
        <p:txBody>
          <a:bodyPr lIns="90000" rIns="90000" tIns="9792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ffffff"/>
                </a:solidFill>
                <a:latin typeface="Arial"/>
              </a:rPr>
              <a:t>Arnt Jensen</a:t>
            </a:r>
            <a:endParaRPr b="0" lang="en-US" sz="6000" spc="-1" strike="noStrike">
              <a:solidFill>
                <a:srgbClr val="000000"/>
              </a:solidFill>
              <a:latin typeface="Arial"/>
            </a:endParaRPr>
          </a:p>
        </p:txBody>
      </p:sp>
      <p:sp>
        <p:nvSpPr>
          <p:cNvPr id="43" name=""/>
          <p:cNvSpPr/>
          <p:nvPr/>
        </p:nvSpPr>
        <p:spPr>
          <a:xfrm>
            <a:off x="685800" y="2286000"/>
            <a:ext cx="3200400" cy="3429000"/>
          </a:xfrm>
          <a:prstGeom prst="rect">
            <a:avLst/>
          </a:prstGeom>
          <a:noFill/>
          <a:ln w="0">
            <a:noFill/>
          </a:ln>
        </p:spPr>
        <p:style>
          <a:lnRef idx="0"/>
          <a:fillRef idx="0"/>
          <a:effectRef idx="0"/>
          <a:fontRef idx="minor"/>
        </p:style>
        <p:txBody>
          <a:bodyPr lIns="90000" rIns="90000" tIns="60840" bIns="45000" anchor="t">
            <a:noAutofit/>
          </a:bodyPr>
          <a:p>
            <a:pPr>
              <a:lnSpc>
                <a:spcPct val="93000"/>
              </a:lnSpc>
              <a:buClr>
                <a:srgbClr val="ffffff"/>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Co-Founder of PlayDea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Originally a developer fo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IO Interactiv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Game and Art director of</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Limbo and Limbo 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buClr>
                <a:srgbClr val="ffffff"/>
              </a:buClr>
              <a:buSzPct val="45000"/>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Began concept work in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2003 when he becam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unsatisfied with IO</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Interactive's corporat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 </a:t>
            </a:r>
            <a:r>
              <a:rPr b="0" lang="en-US" sz="1800" spc="-1" strike="noStrike">
                <a:solidFill>
                  <a:srgbClr val="ffffff"/>
                </a:solidFill>
                <a:latin typeface="Arial"/>
              </a:rPr>
              <a:t>nature</a:t>
            </a:r>
            <a:endParaRPr b="0" lang="en-US" sz="1800" spc="-1" strike="noStrike">
              <a:solidFill>
                <a:srgbClr val="000000"/>
              </a:solidFill>
              <a:latin typeface="Arial"/>
            </a:endParaRPr>
          </a:p>
        </p:txBody>
      </p:sp>
      <p:sp>
        <p:nvSpPr>
          <p:cNvPr id="44" name=""/>
          <p:cNvSpPr/>
          <p:nvPr/>
        </p:nvSpPr>
        <p:spPr>
          <a:xfrm>
            <a:off x="4552920" y="7315200"/>
            <a:ext cx="573408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blog.politiken.dk/klik/2010/09/15/limbo-og-den-nye-danske-spiljournalistik/</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914400"/>
            <a:ext cx="10076040" cy="5670720"/>
          </a:xfrm>
          <a:prstGeom prst="rect">
            <a:avLst/>
          </a:prstGeom>
          <a:ln w="0">
            <a:noFill/>
          </a:ln>
        </p:spPr>
      </p:pic>
      <p:sp>
        <p:nvSpPr>
          <p:cNvPr id="46" name=""/>
          <p:cNvSpPr/>
          <p:nvPr/>
        </p:nvSpPr>
        <p:spPr>
          <a:xfrm>
            <a:off x="7543800" y="6172200"/>
            <a:ext cx="2266920" cy="97488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ffffff"/>
                </a:solidFill>
                <a:latin typeface="Trebuchet MS"/>
              </a:rPr>
              <a:t>LIMBO</a:t>
            </a:r>
            <a:endParaRPr b="0" lang="en-US" sz="6000" spc="-1" strike="noStrike">
              <a:solidFill>
                <a:srgbClr val="000000"/>
              </a:solidFill>
              <a:latin typeface="Arial"/>
            </a:endParaRPr>
          </a:p>
        </p:txBody>
      </p:sp>
      <p:sp>
        <p:nvSpPr>
          <p:cNvPr id="47" name=""/>
          <p:cNvSpPr/>
          <p:nvPr/>
        </p:nvSpPr>
        <p:spPr>
          <a:xfrm>
            <a:off x="5522760" y="7086600"/>
            <a:ext cx="4553280" cy="317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Uncertain of his sister's fate, a boy enters Limbo</a:t>
            </a:r>
            <a:endParaRPr b="0" lang="en-US" sz="1600" spc="-1" strike="noStrike">
              <a:solidFill>
                <a:srgbClr val="000000"/>
              </a:solidFill>
              <a:latin typeface="Arial"/>
            </a:endParaRPr>
          </a:p>
        </p:txBody>
      </p:sp>
      <p:sp>
        <p:nvSpPr>
          <p:cNvPr id="48" name=""/>
          <p:cNvSpPr/>
          <p:nvPr/>
        </p:nvSpPr>
        <p:spPr>
          <a:xfrm>
            <a:off x="0" y="7300800"/>
            <a:ext cx="480060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gamesetwatch.com/2011/06/limbo_heads_to_the_playstation.php</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10076040" cy="6297480"/>
          </a:xfrm>
          <a:prstGeom prst="rect">
            <a:avLst/>
          </a:prstGeom>
          <a:ln w="0">
            <a:noFill/>
          </a:ln>
        </p:spPr>
      </p:pic>
      <p:sp>
        <p:nvSpPr>
          <p:cNvPr id="50" name=""/>
          <p:cNvSpPr/>
          <p:nvPr/>
        </p:nvSpPr>
        <p:spPr>
          <a:xfrm>
            <a:off x="6629400" y="4951440"/>
            <a:ext cx="3448080" cy="21351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Limbo is a 2D puzzle platformer. Players solve simple physics based puzzles to progress through the haunting story. Most puzzles involve a concept of trial and death, where incorrect answers to the puzzle results in the gruesome death of the character. The game is very simple with only three buttons.</a:t>
            </a:r>
            <a:endParaRPr b="0" lang="en-US" sz="1600" spc="-1" strike="noStrike">
              <a:solidFill>
                <a:srgbClr val="000000"/>
              </a:solidFill>
              <a:latin typeface="Arial"/>
            </a:endParaRPr>
          </a:p>
        </p:txBody>
      </p:sp>
      <p:sp>
        <p:nvSpPr>
          <p:cNvPr id="51" name=""/>
          <p:cNvSpPr/>
          <p:nvPr/>
        </p:nvSpPr>
        <p:spPr>
          <a:xfrm>
            <a:off x="0" y="7315200"/>
            <a:ext cx="525780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alivetinyworld.com/2010/07/30/fumbling-for-meaning-in-limbo/</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504720"/>
            <a:ext cx="10076040" cy="5667480"/>
          </a:xfrm>
          <a:prstGeom prst="rect">
            <a:avLst/>
          </a:prstGeom>
          <a:ln w="0">
            <a:noFill/>
          </a:ln>
        </p:spPr>
      </p:pic>
      <p:sp>
        <p:nvSpPr>
          <p:cNvPr id="53" name=""/>
          <p:cNvSpPr/>
          <p:nvPr/>
        </p:nvSpPr>
        <p:spPr>
          <a:xfrm>
            <a:off x="457200" y="5178600"/>
            <a:ext cx="5943600" cy="190800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Whilst Limbo is a game there is very little story or context behind it. Players are able to make their own decision and story to complement the short game. The game begins with a nameless boy waking up in a forest. He progress through the forest to a nearby city. There are no cutscenes, dialogue or other story based ideas. The game was purposely developed to avoid revealing content so players could interpret the meaning in their own way.</a:t>
            </a:r>
            <a:endParaRPr b="0" lang="en-US" sz="1600" spc="-1" strike="noStrike">
              <a:solidFill>
                <a:srgbClr val="000000"/>
              </a:solidFill>
              <a:latin typeface="Arial"/>
            </a:endParaRPr>
          </a:p>
        </p:txBody>
      </p:sp>
      <p:sp>
        <p:nvSpPr>
          <p:cNvPr id="54" name=""/>
          <p:cNvSpPr/>
          <p:nvPr/>
        </p:nvSpPr>
        <p:spPr>
          <a:xfrm>
            <a:off x="6610320" y="7315200"/>
            <a:ext cx="367668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villains.wikia.com/wiki/The_Spider_(Limbo)</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10076040" cy="5667480"/>
          </a:xfrm>
          <a:prstGeom prst="rect">
            <a:avLst/>
          </a:prstGeom>
          <a:ln w="0">
            <a:noFill/>
          </a:ln>
        </p:spPr>
      </p:pic>
      <p:sp>
        <p:nvSpPr>
          <p:cNvPr id="56" name=""/>
          <p:cNvSpPr/>
          <p:nvPr/>
        </p:nvSpPr>
        <p:spPr>
          <a:xfrm>
            <a:off x="914400" y="4800600"/>
            <a:ext cx="8458200" cy="193680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600" spc="-1" strike="noStrike">
                <a:solidFill>
                  <a:srgbClr val="ffffff"/>
                </a:solidFill>
                <a:latin typeface="Arial"/>
              </a:rPr>
              <a:t>Jensen heavily drew inspiration from film noir to set the art style of the game. Using a monochromatic palette along with out of focus scenery and a film grain filter he is able to create a exceptionally powerful style. Many have praised it as minimalistic and frightening. The horror style atmosphere of the game is backed up with ghoulish sound effects and an eerie lack of soundtrack. Techniques such as removing wind sound effects when enemies approach only seem to heighten the atmosphere of the game. Jensen has also created an immensely stunning world. The amount of detail put into simple things especially in the background scenery really creates a beautiful world.</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7" name=""/>
          <p:cNvSpPr/>
          <p:nvPr/>
        </p:nvSpPr>
        <p:spPr>
          <a:xfrm>
            <a:off x="4095720" y="7315200"/>
            <a:ext cx="6191280" cy="2602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designingsound.org/2011/08/limbo-exclusive-interview-with-martin-stig-andersen/</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1163520"/>
            <a:ext cx="10076040" cy="5694480"/>
          </a:xfrm>
          <a:prstGeom prst="rect">
            <a:avLst/>
          </a:prstGeom>
          <a:ln w="0">
            <a:noFill/>
          </a:ln>
        </p:spPr>
      </p:pic>
      <p:sp>
        <p:nvSpPr>
          <p:cNvPr id="59" name=""/>
          <p:cNvSpPr/>
          <p:nvPr/>
        </p:nvSpPr>
        <p:spPr>
          <a:xfrm>
            <a:off x="5943600" y="5943600"/>
            <a:ext cx="5029200" cy="1255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limbogame.org</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youtube.com/watch?v=kD5F54SZkMA</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pc.ign.com/articles/118/1185648p1.html</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pcgamer.com/review/limbo-review/</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60" name=""/>
          <p:cNvSpPr/>
          <p:nvPr/>
        </p:nvSpPr>
        <p:spPr>
          <a:xfrm>
            <a:off x="5238720" y="7300800"/>
            <a:ext cx="5505480" cy="2606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http://alivetinyworld.com/2010/07/30/fumbling-for-meaning-in-limbo/</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9T12:45:02Z</dcterms:created>
  <dc:creator/>
  <dc:description/>
  <dc:language>en-US</dc:language>
  <cp:lastModifiedBy/>
  <cp:revision>1</cp:revision>
  <dc:subject/>
  <dc:title/>
</cp:coreProperties>
</file>