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7BD-0AE7-40AA-978C-79AF191A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A91-AF00-49AF-964F-E04DD96F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C62-421E-4FE4-984B-F9F014AA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F22-C7FA-4447-A9B4-9C9AA219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7C8B-5191-4B01-BFD5-A7EDD674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8F50-62C0-4C96-9241-57FD7BB2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5A8B-8918-4A61-8FDB-1556F4B7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3FD4-9F90-4F74-AC88-124C9B5D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4D90-10D4-4DB9-BB0F-B73FD1A3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874C-6D16-482F-B8A2-A94C2D0E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950C-1716-47B1-BBF6-1684CD5D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539-1A0F-446E-A668-0A45943C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2FE9-1505-4852-AED3-35C919B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F357-502C-405D-96AD-13C05FC2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B906-BC0D-451C-9144-ABF22051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6185-CB88-4DA4-8404-B9BD31C0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FF16-A1CD-43D6-A46D-112A1F21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A43-0AE3-4796-BEEE-0E070C8F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DA6-1049-4C58-A366-15DD27DC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360-16CD-46EF-A45A-3CF2B0C3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855-6502-4A00-B67D-D296F8EA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6B6-7519-4D1A-B5AB-FCBA8FA7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39E-2418-46D2-B644-AE4BF79C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190-62D1-4D35-875E-3D47E50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383C-AD25-4123-BE1B-E0864BD88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0339-E66B-4227-B4EC-2AED6B6C0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Humbolt’s Mystical Magical Emporiu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t 7.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a modell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talie c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h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22906" r="70256" b="15049"/>
          <a:stretch/>
        </p:blipFill>
        <p:spPr>
          <a:xfrm>
            <a:off x="2484360" y="1197000"/>
            <a:ext cx="3703680" cy="424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0" y="1268280"/>
            <a:ext cx="24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 made a helpful shopping list for Humbolt’s shop .This includes both baisic and complex items for his shop . We also had a tight budget to spend on his shop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56360" y="1557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1557360"/>
            <a:ext cx="291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instructions were very easy to follow and achive. because of basic instructons I have mad my shopping list a little more complex than a simple shopping list by adding couler, making the collums bigger and adding talbes around the list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Formular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12731" r="13369" b="14100"/>
          <a:stretch/>
        </p:blipFill>
        <p:spPr>
          <a:xfrm>
            <a:off x="250920" y="1125360"/>
            <a:ext cx="8642160" cy="4392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50920" y="551664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551664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achive this formular we used a spacific tool to add all of this by going  onto.format,cells,number and there you have it . All done very simple and very easy also makes your work look mor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8595" r="30883" b="10279"/>
          <a:stretch/>
        </p:blipFill>
        <p:spPr>
          <a:xfrm>
            <a:off x="1547640" y="1125360"/>
            <a:ext cx="5688360" cy="3672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763640" y="551664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this ,we added up our monthy earnings and converted them into charts , to see what month earned the most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f evaluatio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 have learned a lot of skills whilst doing this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 think I have achived a level 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cause I have done as I have been asked throuought the te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 I was to creat my own buisness data modeling would come in han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0:37:24Z</dcterms:created>
  <dc:creator>11coxn</dc:creator>
  <dc:description/>
  <dc:language>en-US</dc:language>
  <cp:lastModifiedBy>11coxn</cp:lastModifiedBy>
  <dcterms:modified xsi:type="dcterms:W3CDTF">2012-05-21T10:43:39Z</dcterms:modified>
  <cp:revision>5</cp:revision>
  <dc:subject/>
  <dc:title>Slide 1</dc:title>
</cp:coreProperties>
</file>