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9865-EF26-4C31-9493-B111C7251A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7023-412F-46C8-AFFF-37E6119D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748CC-6CC7-4D1D-8CCA-B3AA2A57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9557-C9D8-4AC5-9780-9B78728402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402BD-CC90-4BA2-A974-078E31072D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A3E77-46C8-4FBF-85C6-3D80F905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D2EB4-3713-4627-AD8A-FAE5126B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6BE54-B208-4560-A7C4-21D73553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DA31E-E20B-4ABA-801D-034B26E0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0F54A-C974-4163-9746-0346A531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224B0-0D64-4B04-8491-E0A47863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316A4-3596-42D1-BD90-5265280D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E2D5B-B314-463C-87A0-9436D65B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263B7-E277-4F27-A7F2-11843338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06838-615B-47F2-9185-067E2EB7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74388-F673-48DF-8DFC-42FB88EB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899B6-B73C-4F39-8B18-66DD7EE0C5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F39B3-96DB-40D5-81FE-0FEA3DE7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90D48-943C-470A-881A-B976D09B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8729C-AF4C-4AE0-8D84-C3C2FB0C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4A843-D703-4A43-BAE3-D5E1102E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9209F-37E9-440E-87DC-349C7534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E9BE-0CD2-44BC-B944-BE7F6E7D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A0178-F222-44D4-B78D-77BED29E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/2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8271F-ED19-4C0E-B601-D5C1E0B261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/2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DBDE4-7DAB-4478-8643-BF88BC6345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oyle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em, Leonie, Benjamin and Sa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i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background is a combination of Irish, German an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m’s parents came to Australia in their early teenage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hen moved to Papua New Guinea where he was raised as a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ach family there are different tradi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Christmas Eve, we have always had the tradition of close friends and family come over to celebrate and have eggno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Easter Sunday, we have always had an Easter Egg hunt in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ded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Shem’s side he has 3 brothers and 1 sister with 12 nieces and neph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Leonie’s side she has 2 brothers with 4 nieces and nephe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