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2AC0-860A-4B68-BE28-63C166E29D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5CAF-CC54-4E62-B4E0-D09A779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FB458-3F61-48AD-95FC-6064E04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992A-CD9E-4958-9123-F93584AC7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794AE-37D5-4742-83BD-62991B5A6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AB0A0-A39A-4FF3-BB20-45CC7628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A8C09-5F07-401E-A25D-D93082D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EFF7-B7BF-40CB-B01C-9C7355B2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DBA27-9C7F-4E17-B3B4-CDE9B0AF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6CDAE-3AC4-49F1-8D3E-9C258973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4CE9F-A8F3-45A3-907D-B95F41D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28F5-3F5C-4902-846E-517B52EB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47F31-E48E-4EBB-8897-6A37D4D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C6996-4098-43E4-B9BF-A6367F0B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47A3-8EFF-42CC-8385-8FBCB42A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D5AC0-8B4A-448F-957F-E520BA1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38BA-2863-4E16-A0F6-37E87D909E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95D9-83BE-4815-9514-B450F336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B822-F98D-414B-AD55-D5FB869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F718-5BDD-4B3E-BB5A-55A5450D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87DC-1BFA-4432-8F42-ECE3A1F1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DA98-A466-46F2-877A-BEC0B66B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F943-809D-4083-8080-2C8D3247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D9F4-23CC-4EE8-86E2-E6C7C1B1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F836-2B9C-4D27-A386-F6C2B12D48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/29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8068B-DD87-4E5D-B83E-95CE2647DE8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oyle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m, Leonie, Benjamin and Sa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i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r background is a combination of Irish, German an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m’s parents came to Australia in their early teenage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moved to Papua New Guinea where he was raised as a chi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ach family there are different tradi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Christmas Eve, we have always had the tradition of close friends and family come over to celebrate and have eggno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Easter Sunday, we have always had an Easter Egg hunt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ded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Shem’s side he has 3 brothers and 1 sister with 12 nieces and nephe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Leonie’s side she has 2 brothers with 4 nieces and nephe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