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3F5-FFAD-4804-B552-38129ABD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B8B-F879-40FF-B072-83B6553A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647-FFFB-4332-8F17-2A653D44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39DF-298F-4100-9BEB-C6FEDC36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69A-76E2-4A61-9169-F3AAEE31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4D7-7970-4D7C-9FBE-F516FF2B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3BD-FD12-4283-B9E4-2FBF2C47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ABB-1FF6-4B22-B1E6-1EACC8F5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0F3F-CFD4-4FDB-AAF0-3A8BD110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FDB-E1B8-423D-806B-5CCD907C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0EB3-8653-4AAB-B35D-A464E95C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606-562A-44BF-9138-54395391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72B1-B078-4098-BF9C-A4C37B416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detective busine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onnor Brom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3024360" cy="149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024360" cy="14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 txBox="1"/>
          <p:nvPr/>
        </p:nvSpPr>
        <p:spPr>
          <a:xfrm>
            <a:off x="3348000" y="0"/>
            <a:ext cx="312408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hart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68360" y="1268280"/>
            <a:ext cx="4316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76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pi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19162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different types of charts that you can use in Exc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915240" y="115920"/>
          <a:ext cx="2228760" cy="1019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15240" y="115920"/>
                    <a:ext cx="22287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 flipV="1">
            <a:off x="7020000" y="83628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1413000"/>
            <a:ext cx="122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hunut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183280" y="2205000"/>
            <a:ext cx="396072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69426" b="39895"/>
          <a:stretch/>
        </p:blipFill>
        <p:spPr>
          <a:xfrm>
            <a:off x="0" y="1268280"/>
            <a:ext cx="1332000" cy="1440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0" r="29132" b="52320"/>
          <a:stretch/>
        </p:blipFill>
        <p:spPr>
          <a:xfrm>
            <a:off x="5904000" y="1052640"/>
            <a:ext cx="324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see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think I have achieved a level 3b because I didn’t put that much effet in to it and I didn’t do as much as I normally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have learnt how to use Formula. I have learnt how to use exc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ould use it in the real world in scince to help solve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9:05:53Z</dcterms:created>
  <dc:creator>10bromleyc</dc:creator>
  <dc:description/>
  <dc:language>en-US</dc:language>
  <cp:lastModifiedBy>10bromleyc</cp:lastModifiedBy>
  <dcterms:modified xsi:type="dcterms:W3CDTF">2012-05-04T09:32:21Z</dcterms:modified>
  <cp:revision>2</cp:revision>
  <dc:subject/>
  <dc:title>My detective business </dc:title>
</cp:coreProperties>
</file>