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4BA-CE6B-4A6E-A37B-0618D124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6EE1-09EE-4D31-B139-D1CCC4B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009-09F1-4781-90A8-9C911BA9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8B85-5248-498E-9BF1-C0C2F673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853-5AED-48A6-A1C4-F9BE8AA5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4BE-EBD6-41D0-9FF8-281EB2EF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6FA-02F6-44C8-AF9E-891E376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183-03AC-4513-9542-C5886BD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A7E-6B50-456E-B5D1-E6D82416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74A3-470E-493F-8BC5-9AD438A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6C5-28E3-47CC-BAAB-3DF11A7D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B20-10C9-4B53-BED2-045D0E52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CF7-D6E0-4EA4-AB35-5AD538533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2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nor Br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.1. (8:30 to 10:30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ll woken up at 8:30 am. Then They all get breakfast, Choosing from Cereal. Which are Coco pops, Wetabix, Porridge and toast. Then They have a choose to either muck around or revise for the test. That leaves them 1 and an hou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p.2. (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31:58Z</dcterms:created>
  <dc:creator>10bromleyc</dc:creator>
  <dc:description/>
  <dc:language>en-US</dc:language>
  <cp:lastModifiedBy>10bromleyc</cp:lastModifiedBy>
  <dcterms:modified xsi:type="dcterms:W3CDTF">2012-02-10T10:37:12Z</dcterms:modified>
  <cp:revision>2</cp:revision>
  <dc:subject/>
  <dc:title>Episode 2: </dc:title>
</cp:coreProperties>
</file>