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9F394-F4BC-4CDD-8D48-A98846E3E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3C578-1DEA-47B5-B632-1946445BE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3125F-5F79-45CB-ABCE-8F9A1E9CC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BDFE0-EB63-4919-828B-7DEFCE543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9BF47-AC74-47AF-BFB5-3B9160377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156EC-061F-460B-A6C0-A4791CC61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45484-3014-4419-869E-ECEC56A39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5878C-94B8-4CD5-AFD9-60CECA0F6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63F5B-EE6C-4689-8293-263E0CE8A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B23B3-A942-43DD-AC13-9E3291D8A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90C82-6170-4C60-9484-F1EA81353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543CF-1438-4E1F-8CC2-0B6B15F35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4c27e7"/>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5282B-9C75-4838-93D1-FECC20EA845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Too Much Too You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By Hannah B, Louise, Sophie and Tazm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Too Much Too Young</a:t>
            </a: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We are Too Much Too Young and we will be talking to you about how we feel the media is impacting on children and weather this impact is good or bad, each of us will be talking about the four chosen subjects of:</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 </a:t>
            </a:r>
            <a:r>
              <a:rPr b="0" lang="en-GB" sz="1800" spc="-1" strike="noStrike">
                <a:solidFill>
                  <a:srgbClr val="ff0000"/>
                </a:solidFill>
                <a:latin typeface="Calibri"/>
              </a:rPr>
              <a:t>Film</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 </a:t>
            </a:r>
            <a:r>
              <a:rPr b="0" lang="en-GB" sz="1800" spc="-1" strike="noStrike">
                <a:solidFill>
                  <a:srgbClr val="ff0000"/>
                </a:solidFill>
                <a:latin typeface="Calibri"/>
              </a:rPr>
              <a:t>TV</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 </a:t>
            </a:r>
            <a:r>
              <a:rPr b="0" lang="en-GB" sz="1800" spc="-1" strike="noStrike">
                <a:solidFill>
                  <a:srgbClr val="ff0000"/>
                </a:solidFill>
                <a:latin typeface="Calibri"/>
              </a:rPr>
              <a:t>Music</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 </a:t>
            </a:r>
            <a:r>
              <a:rPr b="0" lang="en-GB" sz="1800" spc="-1" strike="noStrike">
                <a:solidFill>
                  <a:srgbClr val="ff0000"/>
                </a:solidFill>
                <a:latin typeface="Calibri"/>
              </a:rPr>
              <a:t>Cartoons. </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Film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Text Box 4"/>
          <p:cNvSpPr/>
          <p:nvPr/>
        </p:nvSpPr>
        <p:spPr>
          <a:xfrm>
            <a:off x="611280" y="1773360"/>
            <a:ext cx="6121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I chose to talk about The Hole as I believe its certificate of 12A is unacceptable as there are many scaring things in this film that terrified me, for example there were clown puppets and little dead girls which cried blood. If this scared me what would a 12 year old feel? I feel some certificates to films are inappropri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Music</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Text Box 4"/>
          <p:cNvSpPr/>
          <p:nvPr/>
        </p:nvSpPr>
        <p:spPr>
          <a:xfrm>
            <a:off x="539640" y="1700280"/>
            <a:ext cx="806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684360" y="1916280"/>
            <a:ext cx="669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I chose to talk about music because I believe the music of today is influencing children in a bad way, lyrics to most songs are inappropriate and are played when children are listening Rihanna S&amp;M for example is played during the day time when children are listening, its content is not suitable for childr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TV</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hose to talk about TV as I believe it has changed dramatically, I feel the industry has felt the need to modernise there shows. This is good in some ways but TV shows such as the 1990’s bananas in pyjamas I feel has had its originality taken away by this modernisation, also I believe the quality in learning is not as good as used to be in the night garden for example I feel they talk jibberish and I feel they should be encouraging speech like with most shows they have produced from my childhood.</a:t>
            </a:r>
            <a:r>
              <a:rPr b="0" lang="en-GB"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Cartoons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Text Box 4"/>
          <p:cNvSpPr/>
          <p:nvPr/>
        </p:nvSpPr>
        <p:spPr>
          <a:xfrm>
            <a:off x="684360" y="1844640"/>
            <a:ext cx="7127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800" spc="-1" strike="noStrike">
                <a:solidFill>
                  <a:srgbClr val="ff0000"/>
                </a:solidFill>
                <a:latin typeface="Arial"/>
              </a:rPr>
              <a:t>I chose cartoons as I feel over the years cartoons have been influencing the way children think, such as SpongeBob square pants so children are now learning things that are not necessary as you will not find a pineapple under the sea. I feel older cartoons from my generation have more mean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4T11:19:30Z</dcterms:created>
  <dc:creator>Martin</dc:creator>
  <dc:description/>
  <dc:language>en-US</dc:language>
  <cp:lastModifiedBy>Louise</cp:lastModifiedBy>
  <dcterms:modified xsi:type="dcterms:W3CDTF">2011-12-12T10:57:14Z</dcterms:modified>
  <cp:revision>10</cp:revision>
  <dc:subject/>
  <dc:title>Too Much Too Young</dc:title>
</cp:coreProperties>
</file>