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677-D3D9-41CC-AFB5-47B1B873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A98-8053-407A-80AF-F3C81563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D24-0590-42AC-9BDF-632513C9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120-5991-44B8-B776-17E47B57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917-CC7F-4F88-A2B1-344A8B2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EB1-3430-49D7-ACF4-08645945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720-20DE-40A1-BDC6-406959B0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B6B-4495-4897-8D49-881C9AEE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9A3-522F-4BB8-A96D-B6C13066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263-F3B8-4128-B2DB-3173D2AC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09A-4769-4EF0-8D4B-FE3C3438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7D6-260A-4CC3-BA74-F9688C1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5548-6959-4BE8-A722-5F44E5A9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2060280"/>
            <a:ext cx="6696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6600" spc="-1" strike="noStrike">
                <a:solidFill>
                  <a:srgbClr val="000000"/>
                </a:solidFill>
                <a:latin typeface="Arial"/>
              </a:rPr>
              <a:t>تبسمك في وجه أخيك صدق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32000" y="4221000"/>
            <a:ext cx="2795760" cy="199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00360" y="7650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 u="sng">
                <a:solidFill>
                  <a:srgbClr val="ff99ff"/>
                </a:solidFill>
                <a:uFillTx/>
                <a:latin typeface="Arial"/>
                <a:cs typeface="Andalus"/>
              </a:rPr>
              <a:t>الإبتسا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5:21:09Z</dcterms:created>
  <dc:creator>lib_</dc:creator>
  <dc:description/>
  <dc:language>en-US</dc:language>
  <cp:lastModifiedBy>lib_</cp:lastModifiedBy>
  <dcterms:modified xsi:type="dcterms:W3CDTF">2011-11-30T05:23:02Z</dcterms:modified>
  <cp:revision>1</cp:revision>
  <dc:subject/>
  <dc:title>Slide 1</dc:title>
</cp:coreProperties>
</file>