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AAE-17EA-4692-A7F9-F7DD911D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9D6-8793-4CD5-A93A-1A4DA550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A9A-2B6E-4633-BC5F-912828FE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839-C32E-4BF3-AFBE-8734C50F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7C8-863C-489E-9727-A2A1E11D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A6C-DBE6-44CC-B7D8-A1732140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8DE-982D-45D6-83D7-FB82081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1F1-E31D-497E-8E95-1099261C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67A-DFEA-4DA5-9D7D-CCC3AEB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55C-9BDF-432B-99AE-0B39618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397-3C21-423F-979C-E3DD6DF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015-C389-493A-9F75-7A802D0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6EC2-7250-42C5-9334-9A1BD0F03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band stru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Olivia Bo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1413000"/>
            <a:ext cx="1871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842920" y="2349360"/>
            <a:ext cx="64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3213000"/>
            <a:ext cx="1152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3500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34936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3213000"/>
            <a:ext cx="108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3213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rap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19280" y="2349360"/>
            <a:ext cx="360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4149720"/>
            <a:ext cx="1081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44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2349360"/>
            <a:ext cx="21600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221000"/>
            <a:ext cx="115272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422100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45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2349360"/>
            <a:ext cx="576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4508640"/>
            <a:ext cx="1152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4724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64000" y="16286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nd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2349360"/>
            <a:ext cx="19429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o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333360"/>
            <a:ext cx="5400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49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nd pi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2421000"/>
            <a:ext cx="1513080" cy="25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3213000"/>
            <a:ext cx="7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3789360"/>
            <a:ext cx="6697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78936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: home  pictures  music   photos  gigs  shop  tour 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5013360"/>
            <a:ext cx="20512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01336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nd b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133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75640" y="2133720"/>
            <a:ext cx="0" cy="43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0:08:01Z</dcterms:created>
  <dc:creator>10bonnero</dc:creator>
  <dc:description/>
  <dc:language>en-US</dc:language>
  <cp:lastModifiedBy>10bonnero</cp:lastModifiedBy>
  <dcterms:modified xsi:type="dcterms:W3CDTF">2011-11-18T10:38:43Z</dcterms:modified>
  <cp:revision>3</cp:revision>
  <dc:subject/>
  <dc:title>My band structure </dc:title>
</cp:coreProperties>
</file>