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B9DF-3D96-4CAF-8A84-A27444B80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A9E2-920D-4292-A27E-DB1AE9E55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B35C-BD84-4AB5-9928-3EE3D2CEA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5D1A-53C0-45D9-A441-20B10608E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853F-2952-459B-BD0B-EB9E7061C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4E5C-6B2C-41D1-ACA6-7488C6B2A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9E25-C723-4088-99FB-4515B6C53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1347-A977-4D00-92E6-B9422DD72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99AE-CA82-4F0E-9E06-FF9CF9A64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8700-AC0D-46BE-974D-8277B1CA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1341-4161-4F96-BEE6-7638E684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386D-55A6-438D-A633-76CB5C192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81646-DC61-4978-BCFA-FE0D513A91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nd webs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Connor Brom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16360" y="1557360"/>
            <a:ext cx="208728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2195280" y="2781360"/>
            <a:ext cx="64764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76360" y="3860640"/>
            <a:ext cx="12952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d bi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19640" y="2637000"/>
            <a:ext cx="72720" cy="12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59280" y="3860640"/>
            <a:ext cx="158400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40360" y="2708280"/>
            <a:ext cx="115236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48360" y="4221000"/>
            <a:ext cx="187164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788000" y="2637000"/>
            <a:ext cx="2736720" cy="12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667640" y="3716280"/>
            <a:ext cx="12970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ld t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684000" y="2565360"/>
            <a:ext cx="2158920" cy="194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4653000"/>
            <a:ext cx="1368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46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nd n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272360" y="0"/>
            <a:ext cx="1871640" cy="122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d 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704000" y="5418000"/>
            <a:ext cx="1440000" cy="14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 cd co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4984920"/>
            <a:ext cx="2016000" cy="18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s of b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2708280"/>
            <a:ext cx="1979640" cy="20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lin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-Home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-Bi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-Gi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ld t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Ne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137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nd B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020000" y="189000"/>
            <a:ext cx="2124000" cy="158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916280"/>
            <a:ext cx="2050920" cy="23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lin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Bi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Gi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ld t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Ne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940360" y="3860640"/>
            <a:ext cx="3311640" cy="3097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1197000"/>
            <a:ext cx="3240360" cy="19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band m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40000" y="3213000"/>
            <a:ext cx="3095640" cy="25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band m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516640"/>
            <a:ext cx="2232000" cy="122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band m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1916280"/>
            <a:ext cx="2771640" cy="1366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band m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79640" y="115920"/>
            <a:ext cx="3887640" cy="10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band m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5805360"/>
            <a:ext cx="1800360" cy="10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tu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24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48360" y="189000"/>
            <a:ext cx="2016360" cy="143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2708280"/>
            <a:ext cx="1403280" cy="158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lin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Bi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Gi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ld t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Ne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372360" y="4508640"/>
            <a:ext cx="2592360" cy="19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s of gi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987640" y="2276640"/>
            <a:ext cx="3384720" cy="21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tures of there last g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5445000"/>
            <a:ext cx="4140360" cy="141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cke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348000" y="981000"/>
            <a:ext cx="237636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209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ict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708280"/>
            <a:ext cx="1403280" cy="158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lin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Bi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Gi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ld t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Ne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1268280"/>
            <a:ext cx="2376360" cy="1366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m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8720" y="3546360"/>
            <a:ext cx="2735280" cy="331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d toge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1844640"/>
            <a:ext cx="3600720" cy="129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m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5850000"/>
            <a:ext cx="223200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m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9280" y="4365720"/>
            <a:ext cx="2808360" cy="10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m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00720" y="3213000"/>
            <a:ext cx="2447640" cy="10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m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300720" y="115920"/>
            <a:ext cx="2158920" cy="1441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53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orld tou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2349360"/>
            <a:ext cx="183528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lin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Bi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Gi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ld t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Ne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04000" y="0"/>
            <a:ext cx="2016000" cy="177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03640" y="2205000"/>
            <a:ext cx="2305080" cy="25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651640" y="4797360"/>
            <a:ext cx="3311280" cy="172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tu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5516640"/>
            <a:ext cx="2916360" cy="1341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c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8T10:06:57Z</dcterms:created>
  <dc:creator>10bromleyc</dc:creator>
  <dc:description/>
  <dc:language>en-US</dc:language>
  <cp:lastModifiedBy>10bromleyc</cp:lastModifiedBy>
  <dcterms:modified xsi:type="dcterms:W3CDTF">2011-11-18T10:39:27Z</dcterms:modified>
  <cp:revision>3</cp:revision>
  <dc:subject/>
  <dc:title>Band website</dc:title>
</cp:coreProperties>
</file>