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EA0-8B25-4F34-9741-E6E1C404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03C-19CE-45EF-88B3-E072441E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5532-652E-4A39-BBD1-8D1A60CF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56C7-7976-43DE-BCBE-AF67684C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C41A-A33E-4E14-95C3-626B8973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D71-B484-4ACF-B940-523FBA40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D5E2-FEEE-45BB-A904-41DAA604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567-AA5D-4213-81F7-D99B9A58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60ED-A407-4BF8-BB66-FCBF06C2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5DA-4639-4259-B17B-57D06A1E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4384-07B8-431E-92C2-61F3329B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B9B1-9399-42C8-B94C-ADE67C0B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2375-2E5C-45DA-9F0C-F44CE6FF8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egan Spe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24000" y="1268280"/>
            <a:ext cx="5038920" cy="205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ihanna&amp;nicki minaj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a group with rihanna and Nicki mina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oth create 2 songs then combine them together then it becomes a big h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already best friends so it is easier to make one bit hit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 of Rihan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132000" y="333360"/>
            <a:ext cx="1927440" cy="266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948360" y="260280"/>
            <a:ext cx="1992600" cy="309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762200" cy="2590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059280" y="3573360"/>
            <a:ext cx="2400120" cy="190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68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68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5805360"/>
            <a:ext cx="52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 of nicki mina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1762200" cy="25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348000" y="1628640"/>
            <a:ext cx="273384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516720" y="12682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22:46Z</dcterms:created>
  <dc:creator>10spencerm</dc:creator>
  <dc:description/>
  <dc:language>en-US</dc:language>
  <cp:lastModifiedBy>10spencerm</cp:lastModifiedBy>
  <dcterms:modified xsi:type="dcterms:W3CDTF">2011-11-22T14:14:47Z</dcterms:modified>
  <cp:revision>4</cp:revision>
  <dc:subject/>
  <dc:title>The Twist</dc:title>
</cp:coreProperties>
</file>