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C1EF-12EA-4AC1-9CEF-207C09EA4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793C-C702-4D26-A710-696F1A1B3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C7E4-43FB-40BC-BBDF-768C9DD74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1AC2-6B23-4479-AEB9-DF343C221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02FE-9D31-4F3F-A424-39A0105B4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B64E-C141-4221-AE9F-5C9EF785B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C7DD-0CC9-4FA0-B9D5-C3F8A52DD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C834-2A1A-43A4-8A1C-B5B0E514B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7C2E-0448-4B48-BA2D-D9A7AAD78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F283-A07D-4F5E-958B-D05380636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E974-F7DE-44C2-BA2D-4E93E2BE9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F6A1-7B99-456D-ACCD-89F54D468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5E118-B193-4A0E-8F02-5C470163E5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Megan Spenc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124000" y="1268280"/>
            <a:ext cx="5038920" cy="205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Rihanna&amp;nicki minaj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are the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s a group with rihanna and Nicki mina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both create 2 songs then combine them together then it becomes a big h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are already best friends so it is easier to make one bit hit toge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ctures of Rihan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3132000" y="333360"/>
            <a:ext cx="1927440" cy="2664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6948360" y="260280"/>
            <a:ext cx="1992600" cy="309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179280" y="189000"/>
            <a:ext cx="1762200" cy="25905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3059280" y="3573360"/>
            <a:ext cx="2400120" cy="19051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768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" dur="768" fill="hold"/>
                                        <p:tgtEl>
                                          <p:spTgt spid="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6" dur="768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8" dur="768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360" y="5805360"/>
            <a:ext cx="5219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ictures of nicki minaj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55640" y="2133720"/>
            <a:ext cx="1762200" cy="25905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3348000" y="1628640"/>
            <a:ext cx="2733840" cy="16765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6516720" y="126828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5T14:22:46Z</dcterms:created>
  <dc:creator>10spencerm</dc:creator>
  <dc:description/>
  <dc:language>en-US</dc:language>
  <cp:lastModifiedBy>10spencerm</cp:lastModifiedBy>
  <dcterms:modified xsi:type="dcterms:W3CDTF">2011-11-22T14:14:47Z</dcterms:modified>
  <cp:revision>4</cp:revision>
  <dc:subject/>
  <dc:title>The Twist</dc:title>
</cp:coreProperties>
</file>