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3C83-6DCF-4FF8-BEAE-59B5D7072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Y (ETF) last 6 months of stock price movements. Note the technical indicators such as the simple moving average in red and the exponential moving average in gr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155-9DA0-4C09-A048-7BB69C80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A71-958A-4770-ADB0-11FEC6BF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80B-BE9F-437B-9A4B-D9E8E0E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BFD-398B-461D-B464-C9EF77BA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FC7-50B7-4305-9491-969CEAA4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8FB-582C-4C39-B980-D4AC877E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E1C-BB77-479F-85F7-DE26590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346-CA61-45D1-860F-B5CD8E1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375-B1AE-42DC-83D1-67F94DD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8C2-5648-41FC-ADC2-64FF0D5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53A-6AFD-495A-8CC0-D36A0723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E49-1996-4D26-B68C-6B9076D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901-DD87-4A60-AF49-2BC6B75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46C-DB50-4ADD-B342-764209B41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wer of Ev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ary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tic Algorith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tic 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l Analysis of the Stock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Genetic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Genetic Programs? Advantages and disadvantages over other techn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nsions to the algorithm \ future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tion of Genetic Programming to Financial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 &amp;&amp; B) || !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can be performed via a depth-first recursive traversal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terminals are operators 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,OR,NOT,XOR,IF,I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,-,*,/, sine, cosine, square, cube, square root, loga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inals are values that are either constants or cells in your data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/>
          <p:nvPr/>
        </p:nvCxnSpPr>
        <p:spPr>
          <a:xfrm>
            <a:off x="6227280" y="685440"/>
            <a:ext cx="8391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6"/>
          <p:cNvCxnSpPr/>
          <p:nvPr/>
        </p:nvCxnSpPr>
        <p:spPr>
          <a:xfrm flipH="1">
            <a:off x="5465160" y="685440"/>
            <a:ext cx="5338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8"/>
          <p:cNvCxnSpPr/>
          <p:nvPr/>
        </p:nvCxnSpPr>
        <p:spPr>
          <a:xfrm>
            <a:off x="5465880" y="1752480"/>
            <a:ext cx="83880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4474440" y="1676520"/>
            <a:ext cx="6865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3"/>
          <p:cNvSpPr/>
          <p:nvPr/>
        </p:nvSpPr>
        <p:spPr>
          <a:xfrm>
            <a:off x="5774040" y="30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974480" y="1295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4325040" y="243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6153480" y="2449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952320" y="129528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2"/>
          <p:cNvCxnSpPr>
            <a:stCxn id="80" idx="2"/>
            <a:endCxn id="82" idx="0"/>
          </p:cNvCxnSpPr>
          <p:nvPr/>
        </p:nvCxnSpPr>
        <p:spPr>
          <a:xfrm>
            <a:off x="7245720" y="1665000"/>
            <a:ext cx="11880" cy="849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TextBox 15"/>
          <p:cNvSpPr/>
          <p:nvPr/>
        </p:nvSpPr>
        <p:spPr>
          <a:xfrm>
            <a:off x="7106760" y="25146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3" descr="AST.jpg"/>
          <p:cNvPicPr/>
          <p:nvPr/>
        </p:nvPicPr>
        <p:blipFill>
          <a:blip r:embed="rId1"/>
          <a:stretch/>
        </p:blipFill>
        <p:spPr>
          <a:xfrm>
            <a:off x="228600" y="1371600"/>
            <a:ext cx="871848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219320" y="3808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AST for a Smal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e Algorith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initial population completely at rand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erate through the population of individuals, assigning a fitness value from the fitness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lecti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stically select a portion of the population based on their fit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ross-Ove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 individuals probabilistically, based on fitness, to “mate”, creating new individuals for the next population through cross-over. Repeat until the population is it’s original size (prior to sel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ta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terate through the new population, performing a mutation on each new individual using a pre-determined prob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eat 2-5 unti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fit individual’s fitness is above a certain threshold,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rtain number of iterations have been m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mplementation of Genetic Operator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population created at random, generally adhering to some size constraints (max no. tree-nodes or chromosome lengt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ion: fitness function determined by the problem dom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ation and Crossover: GA’s and GP’s differ in the implementation of the genetic operator due to the different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genetic algorithms, you are manipulating a one-dimensional data structure, such as an array or 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genetic programming, you are manipulating the AST, which adds additional complex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gure algorithm with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centage of individuals created from sele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centage of individuals created through cross-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utation probability (usually applied to the whole popula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ing the correct parameters is more an art than a sci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. Financial Analysis of the Stock Marke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bl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dict future stock pr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a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ily stock prices from Yahoo finan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chnical Analy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Prediction of future price movements purely from charts and numerical analysis of prior price m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undamental Analy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Using fundamentals about a firm to predict it’s performance (the Warren Buffet style of investing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rning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viden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ce to book rati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ssets\Liabili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rket senti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chnical Indic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focus primarily on technical indi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“Technical Analysis” approach to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Moving Averag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value over n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nential Moving Averag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ghted moving avera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ntribution of the different data points to the average is weighted using logarithmically decreasing we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 series of data points Y, using a weight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0 and 1, the EMA for the perio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given recursive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dicators are mainly based on these two types of a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re-compute many different technical indicators for the particular stock we are trading from the historical p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3880" y="4419720"/>
            <a:ext cx="3962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Our Genetic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puts are prices, trading volume and technical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ata points, along with some randomly generated constants, are used to create the leaf nodes in the evolved AST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ST’s form a mathematical or Boolean expression over these data points that outputs a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pping of input\output da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lean inputs go through relational operators as the inputs are numeric, so a relational operator takes in numeric values and returns a Boolean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lean output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e = Bu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lse = s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ematical outputs: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 1   = Bu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=0    = s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mple Run 1 – Mathematical Expre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04920" y="914400"/>
            <a:ext cx="4038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on-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65.9530 Fitness (TD) 3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DayOfWeekInd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86.9936 Fitness (TD) 4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CL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267080" y="954000"/>
            <a:ext cx="44960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89.2572 Fitness (TD) 7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MinDow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ower of E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 is everywhere in modern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natural environment – process of natural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rs in our own immune system – development of antibo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our brains – pruning of less useful neu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rs in our economy – businesses need to adapt or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niel Dennet – evolution requires just two thing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erfect replicators – agents that copy themselves imperf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 pressure from the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ample Run 2 – Boolean Expression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28600" y="838080"/>
            <a:ext cx="85345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on-Terminals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41.2275 Fitness (TD) 7 Nod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-0.38 * [MACD12]) &gt;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.7905528712042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-0.07 * [PercentVolumeOscillator]) &gt; (-0.98 * [WeekOfMonth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ample Run 2 – Boolean Expressions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Non-Terminals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46.6535 Fitness (TD) 5 Nod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BooleanFunctions.X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BooleanFunctions.BiCondi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-0.34 * [EMA50]) &gt; (-0.37 * [SMA50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0.31 * [MondayOfMonth]) &gt; (-0.18 * [RelativeStrengthIndex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5. Why Evolutionary Algorithm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dvantage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ver other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 to understand. Cf. a Neural Network: “What does node 57 do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y configu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’t suffer from the curse of dimens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sively researched and well-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flex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applied to any problem where you have a fitness function defined, and can come up with an appropriate re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can be turned into an actual program that is human readable, and can then be ran at speed in real-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ily parallelizable – different populations can be simultaneously evolved and individuals migrated between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combined with other machine learning algorithms to enhance their performance, such as neural networks (evolving connection weights), decision trees (random forests)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used to optimize more formal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Why Evolutionary Algorithm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advantag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other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gnation of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pre-dominance of certain individuals over the rest of the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-fit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the most fit solution that was evolved, not necessarily the optim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 to determine the optim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space is  huge - the space of all programs that can be created by your AST representation. Trying to evolve programs to solve complex problems where the solutions are non-trivial is not prac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. Automated Trad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History of Tra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Pit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the beginning, traders in the PIT use hand signals to place buy and sell ord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Quants Arrive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d Thorpe invents the an algorithm for pricing options that eventually morphs into the famous Black Scholes options pricing mod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ats Hits Wall Street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number of other mathematical techniques arise from the field of statistics, to take advantage of miss-pricings of contracts traded on the stock exchange, such as statistical arbitrage, pairs trading and other techniques built around mean reversion of pric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lligence Amplification: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Computers get faster and cheaper, the first electronic exchanges appear, and computational power is leveraged to assist humans in making trading decis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Black box trading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Companies start to use computers to actually place trades in real-time in the stock market. Today it is estimated that 70% of the trades placed on the market are created by trading algorith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I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panies are increasingly turning to machine learning algorithms to improve their trading operations. AI algorithms used in the real world includ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ural Networ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tic Algorithms \ Genetic Prog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zzy Logic Prog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ural Language Processing algorithms to process and react to n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 Work on Genetic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hing algorithms – encourage diversity by restricting mating to groups of similar individuals, or ‘niches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mmatical Evolution – separation of phenotype from geno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evolution – antagonistic relationships between two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-operative evolution – co-operative co-evolution between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olution of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ldwin Effect – intelligence amplifies the speed of ev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nk DNA – carry non-coding sections of DNA to allow for greater d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harles_darwin_l.jpg"/>
          <p:cNvPicPr/>
          <p:nvPr/>
        </p:nvPicPr>
        <p:blipFill>
          <a:blip r:embed="rId1"/>
          <a:stretch/>
        </p:blipFill>
        <p:spPr>
          <a:xfrm>
            <a:off x="228600" y="895320"/>
            <a:ext cx="4343400" cy="573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“Descent through modification over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fossils_1.jpg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Evolutionary Algorith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an simulate evolution in a compu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ary algorithms are useful for solving problems where a problem is too complex or poorly understood to solve with more formal methods (such as with math or logic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tic Operato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lect a portion of the population for reproduction using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ITNESS FUN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are a lot of problems that are extremely hard to solve formally, such as the travelling salesman problem, or creating a model of the stock marke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wever, it is often easy to quantify how effective a potential solution to a problem is, i.e. how far do you need to travel (travelling salesmen problem) or how much money would it have made (financial model). Published first paper titled: “Text Categorization for Assessing Multiple Documents Integration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ividuals are selected probabilistically based on fitn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motes genetic divers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elps prevent the algorithm becoming stuck in local maxima \ or minim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ree main algorithm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ank-based selectio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– assign ordinal numbers (ranks) to each individual based on fitness. Use the ordinal rank to assign a probability of sele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oulette wheel selectio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choose probabilistically based on fitness, each slot in the wheel is proportional to the fitness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ournament selectio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randomly pick pairs of individuals, and select the fitter of the two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olution occurs due to modifications to the genome that occur in the replic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nature, this occurs through mutation and cross-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river of evolution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.g. single-celled organisms (although some bacteria can exchange RNA molec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 mutation (change a single gene or alle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apping of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rsal of a section of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oss-O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ome is created from both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greater diversity in the subsequent offspring, as no children are exact or nearly exact replicas of their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80880" y="304920"/>
            <a:ext cx="84582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present the solution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Algorithm: String or sequence of ‘genes’. E.g. a string of 1’s and 0’s, or letters, or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Program: An abstract syntax tree (AST) representing a compu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bstract Syntax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ormal languages can be represented as an abstract syntax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s a context free grammar (CF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represent a mathematical expression, Boolean expression, or a complet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Terminals (leaves) and Non-terminals (intermediate no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+ 2y – 3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>
            <a:off x="6095520" y="4201920"/>
            <a:ext cx="8391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 flipH="1">
            <a:off x="5333400" y="4201920"/>
            <a:ext cx="5338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8"/>
          <p:cNvCxnSpPr/>
          <p:nvPr/>
        </p:nvCxnSpPr>
        <p:spPr>
          <a:xfrm>
            <a:off x="5334120" y="5268600"/>
            <a:ext cx="8388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0"/>
          <p:cNvCxnSpPr/>
          <p:nvPr/>
        </p:nvCxnSpPr>
        <p:spPr>
          <a:xfrm flipH="1">
            <a:off x="4342680" y="5192280"/>
            <a:ext cx="68652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5643360" y="38210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4842720" y="4811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4193280" y="59547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022800" y="587844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860520" y="481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3:09:28Z</dcterms:created>
  <dc:creator>Simon</dc:creator>
  <dc:description/>
  <dc:language>en-US</dc:language>
  <cp:lastModifiedBy>Simon</cp:lastModifiedBy>
  <dcterms:modified xsi:type="dcterms:W3CDTF">2011-11-16T04:34:40Z</dcterms:modified>
  <cp:revision>238</cp:revision>
  <dc:subject/>
  <dc:title>The Application of Genetic Programming to Financial Modeling</dc:title>
</cp:coreProperties>
</file>