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3823-23F6-45E0-9D64-31142CC26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Y (ETF) last 6 months of stock price movements. Note the technical indicators such as the simple moving average in red and the exponential moving average in gre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26B6-C773-4C0C-93B5-F34AFAF0A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700-64C5-47CE-8136-E5069301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E07-2D07-47A3-9917-5D78AE08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9C6-84E9-41F9-AFB9-14419C50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6AC-EB6F-4503-AB0D-C1520247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75A-A707-4624-948D-777DB1AB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44D-DEAB-46B3-8A3A-E7FDBFDD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090-A9E3-4EBD-B3D9-16CF87D3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CBF-32DC-4254-A0F8-A514084A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B06-EF46-42EC-97DC-F83BC6AE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027-5215-4C2F-911E-AEDCAA12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E0D-76DA-483E-80FA-F063D84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3D5-79E6-4649-8A46-FB53CACA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51F5-8F2A-449D-88CB-C0FF9AE25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ower of Evol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olutionary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tic Algorith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tic 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nancial Analysis of the Stock Mar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ur Genetic Pr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Genetic Programs? Advantages and disadvantages over other techniq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nsions to the algorithm \ future 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7520"/>
            <a:ext cx="82296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tion of Genetic Programming to Financial M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lean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A &amp;&amp; B) || !C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can be performed via a depth-first recursive traversal of the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terminals are operators e.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,OR,NOT,XOR,IF,I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+,-,*,/, sine, cosine, square, cube, square root, logarit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minals are values that are either constants or cells in your data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Straight Arrow Connector 4"/>
          <p:cNvCxnSpPr/>
          <p:nvPr/>
        </p:nvCxnSpPr>
        <p:spPr>
          <a:xfrm>
            <a:off x="6227280" y="685440"/>
            <a:ext cx="83916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6"/>
          <p:cNvCxnSpPr/>
          <p:nvPr/>
        </p:nvCxnSpPr>
        <p:spPr>
          <a:xfrm flipH="1">
            <a:off x="5465160" y="685440"/>
            <a:ext cx="5338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Straight Arrow Connector 8"/>
          <p:cNvCxnSpPr/>
          <p:nvPr/>
        </p:nvCxnSpPr>
        <p:spPr>
          <a:xfrm>
            <a:off x="5465880" y="1752480"/>
            <a:ext cx="838800" cy="610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 flipH="1">
            <a:off x="4474440" y="1676520"/>
            <a:ext cx="68652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13"/>
          <p:cNvSpPr/>
          <p:nvPr/>
        </p:nvSpPr>
        <p:spPr>
          <a:xfrm>
            <a:off x="5774040" y="304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4974480" y="12952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4325040" y="243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6153480" y="24494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6952320" y="129528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2"/>
          <p:cNvCxnSpPr>
            <a:stCxn id="80" idx="2"/>
            <a:endCxn id="82" idx="0"/>
          </p:cNvCxnSpPr>
          <p:nvPr/>
        </p:nvCxnSpPr>
        <p:spPr>
          <a:xfrm>
            <a:off x="7245720" y="1665000"/>
            <a:ext cx="11880" cy="849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TextBox 15"/>
          <p:cNvSpPr/>
          <p:nvPr/>
        </p:nvSpPr>
        <p:spPr>
          <a:xfrm>
            <a:off x="7106760" y="25146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3" descr="AST.jpg"/>
          <p:cNvPicPr/>
          <p:nvPr/>
        </p:nvPicPr>
        <p:blipFill>
          <a:blip r:embed="rId1"/>
          <a:stretch/>
        </p:blipFill>
        <p:spPr>
          <a:xfrm>
            <a:off x="228600" y="1371600"/>
            <a:ext cx="871848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1219320" y="3808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e AST for a Smal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e Algorithm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 initial population completely at rando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erate through the population of individuals, assigning a fitness value from the fitness fun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lecti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abilistically select a portion of the population based on their fit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ross-Over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ect individuals probabilistically, based on fitness, to “mate”, creating new individuals for the next population through cross-over. Repeat until the population is it’s original size (prior to sele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ta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terate through the new population, performing a mutation on each new individual using a pre-determined proba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eat 2-5 unti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st fit individual’s fitness is above a certain threshold, 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rtain number of iterations have been m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mplementation of Genetic Operator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itial population created at random, generally adhering to some size constraints (max no. tree-nodes or chromosome lengt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ection: fitness function determined by the problem dom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ation and Crossover: GA’s and GP’s differ in the implementation of the genetic operator due to the different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genetic algorithms, you are manipulating a one-dimensional data structure, such as an array or 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genetic programming, you are manipulating the AST, which adds additional complex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igure algorithm with th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centage of individuals created from selec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ercentage of individuals created through cross-o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utation probability (usually applied to the whole populatio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lecting the correct parameters is more an art than a sci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3. Financial Analysis of the Stock Marke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ble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dict future stock pr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a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ily stock prices from Yahoo financ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chnical Analys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Prediction of future price movements purely from charts and numerical analysis of prior price mov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undamental Analys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Using fundamentals about a firm to predict it’s performance (the Warren Buffet style of investing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rning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viden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ice to book rati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ssets\Liabili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rket sentime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chnical Indic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focus primarily on technical indic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 “Technical Analysis” approach to inv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Moving Averag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erage value over n observ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nential Moving Averag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ighted moving avera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ntribution of the different data points to the average is weighted using logarithmically decreasing we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a series of data points Y, using a weight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0 and 1, the EMA for the perio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given recursivel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dicators are mainly based on these two types of ave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pre-compute many different technical indicators for the particular stock we are trading from the historical p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523880" y="4419720"/>
            <a:ext cx="39625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360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Our Genetic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puts are prices, trading volume and technical indic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data points, along with some randomly generated constants, are used to create the leaf nodes in the evolved AST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ST’s form a mathematical or Boolean expression over these data points that outputs a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mapping of input\output dat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lean inputs go through relational operators as the inputs are numeric, so a relational operator takes in numeric values and returns a Boolean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lean output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ue = Bu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lse = s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hematical outputs: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 1   = Bu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=0    = s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mple Run 1 – Mathematical Expres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04920" y="914400"/>
            <a:ext cx="40384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Non-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65.9530 Fitness (TD) 3 Nod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Unary.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Unary.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[DayOfWeekInd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86.9936 Fitness (TD) 4 Nod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Unary.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Binary.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[CLV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267080" y="954000"/>
            <a:ext cx="44960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89.2572 Fitness (TD) 7 Nod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Unary.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Binary.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Binary.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Unary.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[MinDow1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ower of Ev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olution is everywhere in modern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natural environment – process of natural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curs in our own immune system – development of antibo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our brains – pruning of less useful neur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curs in our economy – businesses need to adapt or f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niel Dennet – evolution requires just two thing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erfect replicators – agents that copy themselves imperfec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on pressure from the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ample Run 2 – Boolean Expression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28600" y="838080"/>
            <a:ext cx="8534520" cy="47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Non-Terminals 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***************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41.2275 Fitness (TD) 7 Nod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BooleanFunctions.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BooleanFunctions.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BooleanFunctions.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(-0.38 * [MACD12]) &gt;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0.7905528712042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BooleanFunctions.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(-0.07 * [PercentVolumeOscillator]) &gt; (-0.98 * [WeekOfMonth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ample Run 2 – Boolean Expressions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Non-Terminals</a:t>
            </a: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ermin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*****************************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D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46.6535 Fitness (TD) 5 Nod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----------------------------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BooleanFunctions.X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BooleanFunctions.BiCondi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-0.34 * [EMA50]) &gt; (-0.37 * [SMA50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0.31 * [MondayOfMonth]) &gt; (-0.18 * [RelativeStrengthIndex]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5. Why Evolutionary Algorithms?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dvantages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ver other techniqu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sy to understand. Cf. a Neural Network: “What does node 57 do?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sy to imp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ly configu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’t suffer from the curse of dimensio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sively researched and well-underst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flex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applied to any problem where you have a fitness function defined, and can come up with an appropriate re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 can be turned into an actual program that is human readable, and can then be ran at speed in real-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sily parallelizable – different populations can be simultaneously evolved and individuals migrated between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combined with other machine learning algorithms to enhance their performance, such as neural networks (evolving connection weights), decision trees (random forests)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used to optimize more formal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Why Evolutionary Algorithm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sadvantag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other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gnation of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id pre-dominance of certain individuals over the rest of the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-fit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 the most fit solution that was evolved, not necessarily the optim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d to determine the optimal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ch space is  huge - the space of all programs that can be created by your AST representation. Trying to evolve programs to solve complex problems where the solutions are non-trivial is not prac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6. Automated Trading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 History of Trad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Pit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 the beginning, traders in the PIT use hand signals to place buy and sell ord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Quants Arrive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d Thorpe invents the an algorithm for pricing options that eventually morphs into the famous Black Scholes options pricing mod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tats Hits Wall Street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 number of other mathematical techniques arise from the field of statistics, to take advantage of miss-pricings of contracts traded on the stock exchange, such as statistical arbitrage, pairs trading and other techniques built around mean reversion of price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ntelligence Amplification: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Computers get faster and cheaper, the first electronic exchanges appear, and computational power is leveraged to assist humans in making trading decis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Black box trading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Companies start to use computers to actually place trades in real-time in the stock market. Today it is estimated that 70% of the trades placed on the market are created by trading algorith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I: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mpanies are increasingly turning to machine learning algorithms to improve their trading operations. AI algorithms used in the real world include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143000" indent="-743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ural Networ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43000" indent="-743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netic Algorithms \ Genetic Progra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43000" indent="-743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zzy Logic Progra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43000" indent="-743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tural Language Processing algorithms to process and react to ne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ture Work on Genetic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ching algorithms – encourage diversity by restricting mating to groups of similar individuals, or ‘niches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mmatical Evolution – separation of phenotype from geno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evolution – antagonistic relationships between two spe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-operative evolution – co-operative co-evolution between spe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olution of spe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aldwin Effect – intelligence amplifies the speed of ev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unk DNA – carry non-coding sections of DNA to allow for greater d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harles_darwin_l.jpg"/>
          <p:cNvPicPr/>
          <p:nvPr/>
        </p:nvPicPr>
        <p:blipFill>
          <a:blip r:embed="rId1"/>
          <a:stretch/>
        </p:blipFill>
        <p:spPr>
          <a:xfrm>
            <a:off x="228600" y="895320"/>
            <a:ext cx="4343400" cy="5734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win “Descent through modification over t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fossils_1.jpg"/>
          <p:cNvPicPr/>
          <p:nvPr/>
        </p:nvPicPr>
        <p:blipFill>
          <a:blip r:embed="rId2"/>
          <a:stretch/>
        </p:blipFill>
        <p:spPr>
          <a:xfrm>
            <a:off x="5334120" y="914400"/>
            <a:ext cx="31240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Evolutionary Algorith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can simulate evolution in a compu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olutionary algorithms are useful for solving problems where a problem is too complex or poorly understood to solve with more formal methods (such as with math or logic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etic Operator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lect a portion of the population for reproduction using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ITNESS FUNC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are a lot of problems that are extremely hard to solve formally, such as the travelling salesman problem, or creating a model of the stock marke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wever, it is often easy to quantify how effective a potential solution to a problem is, i.e. how far do you need to travel (travelling salesmen problem) or how much money would it have made (financial model). Published first paper titled: “Text Categorization for Assessing Multiple Documents Integration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dividuals are selected probabilistically based on fitnes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motes genetic divers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elps prevent the algorithm becoming stuck in local maxima \ or minim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ree main algorithm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Rank-based selection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– assign ordinal numbers (ranks) to each individual based on fitness. Use the ordinal rank to assign a probability of selec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Roulette wheel selection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– choose probabilistically based on fitness, each slot in the wheel is proportional to the fitness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(draw diagram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Tournament selection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– randomly pick pairs of individuals, and select the fitter of the two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olution occurs due to modifications to the genome that occur in the replica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nature, this occurs through mutation and cross-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river of evolution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e.g. single-celled organisms (although some bacteria can exchange RNA molecu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draw diagr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int mutation (change a single gene or alle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apping of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ersal of a section of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oss-O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ome is created from both par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greater diversity in the subsequent offspring, as no children are exact or nearly exact replicas of their par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draw diagr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80880" y="304920"/>
            <a:ext cx="84582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represent the solution to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Algorithm: String or sequence of ‘genes’. E.g. a string of 1’s and 0’s, or letters, or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Program: An abstract syntax tree (AST) representing a computer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bstract Syntax Tr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formal languages can be represented as an abstract syntax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des a context free grammar (CF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represent a mathematical expression, Boolean expression, or a complet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Terminals (leaves) and Non-terminals (intermediate nod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 + 2y – 3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4"/>
          <p:cNvCxnSpPr/>
          <p:nvPr/>
        </p:nvCxnSpPr>
        <p:spPr>
          <a:xfrm>
            <a:off x="6095520" y="4201920"/>
            <a:ext cx="83916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6"/>
          <p:cNvCxnSpPr/>
          <p:nvPr/>
        </p:nvCxnSpPr>
        <p:spPr>
          <a:xfrm flipH="1">
            <a:off x="5333400" y="4201920"/>
            <a:ext cx="53388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8"/>
          <p:cNvCxnSpPr/>
          <p:nvPr/>
        </p:nvCxnSpPr>
        <p:spPr>
          <a:xfrm>
            <a:off x="5334120" y="5268600"/>
            <a:ext cx="83880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10"/>
          <p:cNvCxnSpPr/>
          <p:nvPr/>
        </p:nvCxnSpPr>
        <p:spPr>
          <a:xfrm flipH="1">
            <a:off x="4342680" y="5192280"/>
            <a:ext cx="686520" cy="83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xtBox 13"/>
          <p:cNvSpPr/>
          <p:nvPr/>
        </p:nvSpPr>
        <p:spPr>
          <a:xfrm>
            <a:off x="5643360" y="38210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4842720" y="481176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4193280" y="59547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6022800" y="587844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6860520" y="48117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3:09:28Z</dcterms:created>
  <dc:creator>Simon</dc:creator>
  <dc:description/>
  <dc:language>en-US</dc:language>
  <cp:lastModifiedBy>Simon</cp:lastModifiedBy>
  <dcterms:modified xsi:type="dcterms:W3CDTF">2011-11-16T04:34:40Z</dcterms:modified>
  <cp:revision>238</cp:revision>
  <dc:subject/>
  <dc:title>The Application of Genetic Programming to Financial Modeling</dc:title>
</cp:coreProperties>
</file>