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3AC4-402B-41CD-9924-13CBD28B9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make sure that you spell everything correctly, this can affect the whole email as you may have made an error in the To: field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have the symbols &lt;&gt; and not , or . And that you get your own Gmail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 click Bcc and not Cc, also make sure that you type undisclosed recipients before your Gmail addre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AFE-B5BC-4284-97F9-F45338A7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F71-3EDF-427B-9F0C-51F3D50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A7B-59B0-43F3-AABB-06E03099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7C5-FE87-47BE-9D1D-DE899672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05C1-13E5-4595-A865-CC8FA4D5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8BA-D25E-402E-AE78-7FB52EF2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667-AC8F-45F5-A614-60B813D3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DF1-B577-4F5D-BDE1-7BE5B824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3A8-1A18-46D4-BF0B-B9529E77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975-A8E6-4ACE-AB67-CE8FE4AC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9FF-934F-4461-BDFF-388FB7C4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989-32DF-4C5F-8B10-34918031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FD8-BF76-48C4-8358-43EB893D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How to send a bcc email, G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orgia"/>
              </a:rPr>
              <a:t>The dummies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Firstly go onto Gma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Then compose m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1115640" y="270828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Go to the addres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793116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Georgia"/>
              </a:rPr>
              <a:t>Type ‘Undisclosed recipients’ followed by your own Gmail address in the to: field, for example, Undisclosed recipients &lt;ryan.dof.goff@gmail.com</a:t>
            </a:r>
            <a:r>
              <a:rPr b="0" lang="en-GB" sz="3200" spc="-1" strike="noStrike">
                <a:solidFill>
                  <a:srgbClr val="0000ff"/>
                </a:solidFill>
                <a:latin typeface="Georgia"/>
              </a:rPr>
              <a:t>&gt;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91380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3708000" y="4005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Click add bcc, under the to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2340000" y="3428640"/>
            <a:ext cx="1511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afterw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eorgia"/>
              </a:rPr>
              <a:t>A box will appear under the To: field where you’ll type the contacts you wish to send the email 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2290680"/>
            <a:ext cx="7307280" cy="456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V="1">
            <a:off x="2700360" y="429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Georgia"/>
              </a:rPr>
              <a:t>After typing the email/adding files, se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>
            <a:off x="1692360" y="5013360"/>
            <a:ext cx="358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Georgia"/>
              </a:rPr>
              <a:t>Here’s a quick vide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867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5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04:43Z</dcterms:created>
  <dc:creator>06martir</dc:creator>
  <dc:description/>
  <dc:language>en-US</dc:language>
  <cp:lastModifiedBy>06martir</cp:lastModifiedBy>
  <dcterms:modified xsi:type="dcterms:W3CDTF">2011-11-11T12:09:43Z</dcterms:modified>
  <cp:revision>7</cp:revision>
  <dc:subject/>
  <dc:title>How to use bcc, Gmail</dc:title>
</cp:coreProperties>
</file>