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D413-F93B-48E7-B70E-AEDC7B25D7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make sure that you spell everything correctly, this can affect the whole email as you may have made an error in the To: field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have the symbols &lt;&gt; and not , or . And that you get your own Gmail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click Bcc and not Cc, also make sure that you type undisclosed recipients before your Gmail addr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145-05FF-44A2-92A9-27AAB473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437-2CFB-4F13-A598-4FEAD467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C76-901A-466E-A30F-A808CD08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260-8C53-4989-B086-C67F7CD8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362-EE21-4BC0-A17C-27FF800B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3B2-7FD7-4866-80B8-D598242C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288-1194-47D4-B278-96BAB8F4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F7C-B4F1-498D-86E9-23F1E579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D04-394E-42C4-A483-C639161C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BA4-5B9A-46FA-9F7F-E748A113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1BD-C7BA-407A-8719-4E51425E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072-1588-498B-941B-4579C3B0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9A0A-D2E5-4B7A-BB55-2618A34F6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How to send a bcc email, G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eorgia"/>
              </a:rPr>
              <a:t>The dummie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Firstly go onto Gma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Then compose 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1115640" y="270828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Go to the addres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7931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Georgia"/>
              </a:rPr>
              <a:t>Type ‘Undisclosed recipients’ followed by your own Gmail address in the to: field, for example, Undisclosed recipients &lt;ryan.dof.goff@gmail.com</a:t>
            </a:r>
            <a:r>
              <a:rPr b="0" lang="en-GB" sz="3200" spc="-1" strike="noStrike">
                <a:solidFill>
                  <a:srgbClr val="0000ff"/>
                </a:solidFill>
                <a:latin typeface="Georgia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91380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 flipV="1">
            <a:off x="3708000" y="4005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Click add bcc, under the t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2340000" y="3428640"/>
            <a:ext cx="1511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after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eorgia"/>
              </a:rPr>
              <a:t>A box will appear under the To: field where you’ll type the contacts you wish to send the email 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2290680"/>
            <a:ext cx="7307280" cy="4567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2700360" y="429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orgia"/>
              </a:rPr>
              <a:t>After typing the email/adding files, s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1692360" y="5013360"/>
            <a:ext cx="3585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Here’s a quick vide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8674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35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04:43Z</dcterms:created>
  <dc:creator>06martir</dc:creator>
  <dc:description/>
  <dc:language>en-US</dc:language>
  <cp:lastModifiedBy>06martir</cp:lastModifiedBy>
  <dcterms:modified xsi:type="dcterms:W3CDTF">2011-11-11T12:09:43Z</dcterms:modified>
  <cp:revision>7</cp:revision>
  <dc:subject/>
  <dc:title>How to use bcc, Gmail</dc:title>
</cp:coreProperties>
</file>