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678-CD0C-47D2-ABBD-A6FF68ACF0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make sure that you spell everything correctly, this can affect the whole email as you may have made an error in the To: field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have the symbols &lt;&gt; and not , or . And that you get your own Gmail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click Bcc and not Cc, also make sure that you type undisclosed recipients before your Gmail addr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2A4-E904-4A41-8CAE-83D6B8B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B1B-7F31-4023-8FDF-8DCB9B19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267-E7E8-4D3E-870F-1C4A443E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200-3365-48DE-BF6A-F14D4742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6BC-0DA8-4363-A31B-ECA9C8B2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5AB-5AE2-48B4-9E6A-CD443635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605-FB68-4424-942D-49D90CC1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332-0D48-4F47-84F5-51A19E2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512-B516-4350-9B8A-B7E1B76D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545-6951-4137-B317-F5457B7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137-ACBE-4E2F-970C-F4D0595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99F-8A14-4BE7-AB4C-EDF6423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FFC-3330-43A3-AFAD-00E6B856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How to send a bcc email, G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mmie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ly go onto Gma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compose 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115640" y="270828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addres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31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‘Undisclosed recipients’ followed by your own Gmail address in the to: field, for example, Undisclosed recipients &lt;ryan.dof.goff@gmail.c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91380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3708000" y="4005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add bcc, under the 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2340000" y="3428640"/>
            <a:ext cx="1511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x will appear under the To: field where you’ll type the contacts you wish to send the email 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2290680"/>
            <a:ext cx="730728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2700360" y="429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typing the email/adding files, s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169236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a quick vide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867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5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4:43Z</dcterms:created>
  <dc:creator>06martir</dc:creator>
  <dc:description/>
  <dc:language>en-US</dc:language>
  <cp:lastModifiedBy>06martir</cp:lastModifiedBy>
  <dcterms:modified xsi:type="dcterms:W3CDTF">2011-11-10T14:21:01Z</dcterms:modified>
  <cp:revision>4</cp:revision>
  <dc:subject/>
  <dc:title>How to use bcc, Gmail</dc:title>
</cp:coreProperties>
</file>