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76EF-12F1-4905-BED4-9A93F2E1C8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need to make sure that you spell everything correctly, this can affect the whole email as you may have made an error in the To: field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have the symbols &lt;&gt; and not , or . And that you get your own Gmail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click Bcc and not Cc, also make sure that you type undisclosed recipients before your Gmail addr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E3E-2F17-4FA1-807E-B397B6D9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04F-7A6A-4CA0-94F2-0A47D53B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0536-EDA4-4925-95E6-8C1B8744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19C-07C2-446F-830C-BEBA9ED3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96B-81E5-4F43-9BDD-3EFCE691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E4B-8C58-40B2-815A-EBFC6C86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E35-266F-4BA0-B5C5-DDB4E3E8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951-7921-49C7-BED6-AC914EE2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32D-A6DC-42F5-965E-9CCA1676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8C22-E30B-4D71-8BFC-5F1EE737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13D-4C3B-4D61-A76D-E72972FF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D51-6604-4A67-A4FC-DFC9906B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FE3E-C484-4722-8436-2BA70D918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How to send a bcc email, G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ummie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ly go onto Gmai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compose 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>
            <a:off x="1115640" y="270828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to the address 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793116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 ‘Undisclosed recipients’ followed by your own Gmail address in the to: field, for example, Undisclosed recipients &lt;ryan.dof.goff@gmail.co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6913800" cy="4319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 flipV="1">
            <a:off x="3708000" y="4005000"/>
            <a:ext cx="11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add bcc, under the t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2340000" y="3428640"/>
            <a:ext cx="1511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w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x will appear under the To: field where you’ll type the contacts you wish to send the email 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2290680"/>
            <a:ext cx="7307280" cy="4567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2700360" y="4292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 typing the email/adding files, se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1692360" y="5013360"/>
            <a:ext cx="3585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’s a quick vide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86744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35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3:04:43Z</dcterms:created>
  <dc:creator>06martir</dc:creator>
  <dc:description/>
  <dc:language>en-US</dc:language>
  <cp:lastModifiedBy>06martir</cp:lastModifiedBy>
  <dcterms:modified xsi:type="dcterms:W3CDTF">2011-11-10T14:21:01Z</dcterms:modified>
  <cp:revision>4</cp:revision>
  <dc:subject/>
  <dc:title>How to use bcc, Gmail</dc:title>
</cp:coreProperties>
</file>