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263-C88F-49D0-9671-B9BCCD27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50B-1EC5-49E0-936F-F2D348B4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D0D-755A-4C7C-A947-364B8337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6EE-974D-47F6-8AFB-0A737CC0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A20-94F4-40D5-BCF5-CDC627E0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903-76E9-468C-AF53-7D5EBD13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927-B24A-4BA1-89A5-856EBAE2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15F-BE34-45E7-93C1-C77A0E66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B9E-3953-4E84-A678-21B93EC6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70E-232F-4D90-8846-6E70493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4FC-7E9C-4840-9108-21366C5A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2DC-4C2D-4BE5-AE10-47AA795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F39-A049-40F8-97A7-EF8D7DC7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, my name is Megan Spencer I am 12 years old I was born on the 28 of April 1999.i have one brother and no sister I have to pets that are dogs-and i go to the Kingswood school. I like to go out with my friends and have a la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07:06Z</dcterms:created>
  <dc:creator>10spencerm</dc:creator>
  <dc:description/>
  <dc:language>en-US</dc:language>
  <cp:lastModifiedBy>10spencerm</cp:lastModifiedBy>
  <dcterms:modified xsi:type="dcterms:W3CDTF">2011-10-04T13:57:23Z</dcterms:modified>
  <cp:revision>2</cp:revision>
  <dc:subject/>
  <dc:title>Slide 1</dc:title>
</cp:coreProperties>
</file>