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E11-FE20-4C61-8F3F-9807CBC1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7A6-58FC-4572-A9C4-87FBD8C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C9D-FF74-4D5F-B5D2-082810E0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EB6-789A-46F0-99BF-829D59AB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BC-6B6C-4361-8283-C6C2187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EA6-44C6-4D55-8C65-F838A5D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754-A641-4998-81E5-04A7AD9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3AC-1531-443D-8B32-76EE1CA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56C-1759-4208-9B10-229E56E6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833-09B9-47E3-901C-ABB1B3A5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21A-9A86-43A6-99EE-94FBA92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6BB-CF8E-4A37-B6EB-D64F78E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68A6-819A-4BFC-BA8E-9FCE0B75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, my name is Megan Spencer I am 12 years old I was born on the 28 of April 1999.i have one brother and no sister I have to pets that are dogs-and i go to the Kingswood school. I like to go out with my friends and have a la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07:06Z</dcterms:created>
  <dc:creator>10spencerm</dc:creator>
  <dc:description/>
  <dc:language>en-US</dc:language>
  <cp:lastModifiedBy>10spencerm</cp:lastModifiedBy>
  <dcterms:modified xsi:type="dcterms:W3CDTF">2011-10-04T13:57:23Z</dcterms:modified>
  <cp:revision>2</cp:revision>
  <dc:subject/>
  <dc:title>Slide 1</dc:title>
</cp:coreProperties>
</file>