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152-900A-4036-AE67-2809C136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8AF-216D-4DFE-A9DC-54812A0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300-F1F1-4BBA-9028-7B2B156E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7BD-CE61-482A-AA48-8A09BE90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FFE-F552-4C9E-B0C9-6A1C5B9F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B4E-5133-4F66-A229-BB4A3CDF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244-DF97-4863-B237-F6BAB0D0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AB29-B14E-4F7C-8F96-A6FDD508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B1A-75C9-45E6-B780-9DDAE55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87B-55E9-4741-B5F6-8B1EA7D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D9D-B723-4820-A9F9-9DD2D4B9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FE7-F839-487C-93E6-5EAE6ED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4546-F4CC-4048-A358-E195D5596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urbigfoot.com/bigfoot_facts.html" TargetMode="External"/><Relationship Id="rId2" Type="http://schemas.openxmlformats.org/officeDocument/2006/relationships/hyperlink" Target="http://ourbigfoot.com/bigfoot_footprints.html" TargetMode="External"/><Relationship Id="rId3" Type="http://schemas.openxmlformats.org/officeDocument/2006/relationships/hyperlink" Target="http://ourbigfoot.com/bigfoot_facts.html" TargetMode="External"/><Relationship Id="rId4" Type="http://schemas.openxmlformats.org/officeDocument/2006/relationships/hyperlink" Target="http://ourbigfoot.com/bigfoot_videos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620640"/>
            <a:ext cx="55404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is big foo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cts and opinions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6210360"/>
            <a:ext cx="509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 MeganSpencer&lt;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 facts about big 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gfoot is an interesting phenomena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urbigfoot.com/bigfoot_fac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gfoot footprin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 have been found and reported for over seventy year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ourbigfoot.com/bigfoot_fac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re have been man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igfoot video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, Bigfoot stories, and Bigfoot sounds, hair, and foot tracks 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claimed to be proof of the legendary animal's existence.  Yet, to date, there has been no live Bigfoot 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body, or carcass found that would put the Bigfoot debate to rest for good. http://ourbigfoot.com/bigfoot_fac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 think that these are facts because I know that there is no actual proof of big foot being real-there has been loads of fake proof of bigfoot on videos so that people could get famous because of finding big fo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843280" cy="221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12000" y="115920"/>
            <a:ext cx="1790640" cy="2205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2665440" cy="191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43280" y="278136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69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17002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f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285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37:54Z</dcterms:created>
  <dc:creator>10spencerm</dc:creator>
  <dc:description/>
  <dc:language>en-US</dc:language>
  <cp:lastModifiedBy>10spencerm</cp:lastModifiedBy>
  <dcterms:modified xsi:type="dcterms:W3CDTF">2011-09-13T13:55:11Z</dcterms:modified>
  <cp:revision>2</cp:revision>
  <dc:subject/>
  <dc:title>Slide 1</dc:title>
</cp:coreProperties>
</file>