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01B-7211-4E8B-8ECD-D6803E31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9C8-5E1F-4E66-8FFA-D2F37B1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AE1-FC01-4479-B061-DB90A599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3EA-5ECD-4736-948D-8FE49EB7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2D3-8C37-4727-92A7-FF1CB2A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0FB-5C16-4E54-BD53-C24B77F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188-3209-47E9-9C89-3269CA6C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9B0-8611-4E77-A76F-8165545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DE3-56DF-431D-992C-D0E9F5D4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1EF-7005-4CDE-B83D-1E726B5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DB6-092B-46F0-BBAE-61F3484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AF9-BEBD-44F0-B661-990D04A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8D7-EA89-4C68-AEEA-E40B59F3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urbigfoot.com/bigfoot_facts.html" TargetMode="External"/><Relationship Id="rId2" Type="http://schemas.openxmlformats.org/officeDocument/2006/relationships/hyperlink" Target="http://ourbigfoot.com/bigfoot_footprints.html" TargetMode="External"/><Relationship Id="rId3" Type="http://schemas.openxmlformats.org/officeDocument/2006/relationships/hyperlink" Target="http://ourbigfoot.com/bigfoot_facts.html" TargetMode="External"/><Relationship Id="rId4" Type="http://schemas.openxmlformats.org/officeDocument/2006/relationships/hyperlink" Target="http://ourbigfoot.com/bigfoot_videos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620640"/>
            <a:ext cx="55404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is big foo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cts and opinion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6210360"/>
            <a:ext cx="50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eganSpencer&lt;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 facts about big 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gfoot is an interesting phenomena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gfoot footprin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have been found and reported for over seventy year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re have been man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igfoot vide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Bigfoot stories, and Bigfoot sounds, hair, and foot tracks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laimed to be proof of the legendary animal's existence.  Yet, to date, there has been no live Bigfoot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body, or carcass found that would put the Bigfoot debate to rest for good. 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 think that these are facts because I know that there is no actual proof of big foot being real-there has been loads of fake proof of bigfoot on videos so that people could get famous because of finding big f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43280" cy="221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115920"/>
            <a:ext cx="1790640" cy="220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2665440" cy="191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3280" y="278136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6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700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28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37:54Z</dcterms:created>
  <dc:creator>10spencerm</dc:creator>
  <dc:description/>
  <dc:language>en-US</dc:language>
  <cp:lastModifiedBy>10spencerm</cp:lastModifiedBy>
  <dcterms:modified xsi:type="dcterms:W3CDTF">2011-09-13T13:55:11Z</dcterms:modified>
  <cp:revision>2</cp:revision>
  <dc:subject/>
  <dc:title>Slide 1</dc:title>
</cp:coreProperties>
</file>