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3F359-3B03-40E0-966F-6D26392F0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4D423-A150-451E-B81F-EA8F61E2B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28468-4AC8-47AC-853F-39AEF01F8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FDD4E-34EB-4237-9108-92B71D0C5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367E4-3A83-42DE-826B-32345698A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2D64E-C6EE-44CA-BC05-B0C2F0928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70106-E2D1-4ABF-874E-59CEE8AF0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B19C2-E967-402D-B42B-DA67FD2FE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194CC-BFD6-4255-AFDC-B3919B9A1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0B661-11E7-4888-B83B-0E59AD4DD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E98ED-3D39-4E06-A780-9D2A41E3B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39F78-4D3D-4535-8A51-EC9F1E8D1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7c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9FB7E-C5A1-4CCD-AC25-7BE3586D88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7c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900000" y="692280"/>
            <a:ext cx="7056720" cy="2636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Facts and  Opinion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547640" y="4437000"/>
            <a:ext cx="6048720" cy="16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By Megan Spencer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7c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ct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d you know the lion would be defeated by a polar bear in a battle between the two?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lphins sleep with there eyes op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dragonfly has a life span of 24 ho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3T13:15:25Z</dcterms:created>
  <dc:creator>10spencerm</dc:creator>
  <dc:description/>
  <dc:language>en-US</dc:language>
  <cp:lastModifiedBy>10spencerm</cp:lastModifiedBy>
  <dcterms:modified xsi:type="dcterms:W3CDTF">2011-09-13T13:27:25Z</dcterms:modified>
  <cp:revision>2</cp:revision>
  <dc:subject/>
  <dc:title>Slide 1</dc:title>
</cp:coreProperties>
</file>