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BFF-2F3C-41B5-BEAF-85BB7B04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D4B-4776-4EF4-820E-5BA185D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FFA-55C2-4B1B-BCE1-78310BA4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69B-B0D0-4A9C-8C22-6627E16F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5A5-4ADF-4D21-898B-A611A957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AD8-77E2-43B3-A30A-E415274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ED3-7F8C-4579-9DB7-93B05A9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1B5-B742-4F72-AB83-A3205E4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ED4-82AF-47C7-87AD-1D936E6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F50-700E-41CC-A0CA-59859B8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0C6-59D9-43F2-8C87-68F62E1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DFB-F9C1-434E-A403-FEF3308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4EEB-C53F-4E5F-8224-64EC09DA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692280"/>
            <a:ext cx="7056720" cy="26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cts and  Opin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4437000"/>
            <a:ext cx="604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 Megan Spenc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e lion would be defeated by a polar bear in a battle between the two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phins sleep with there eye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agonfly has a life span of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15:25Z</dcterms:created>
  <dc:creator>10spencerm</dc:creator>
  <dc:description/>
  <dc:language>en-US</dc:language>
  <cp:lastModifiedBy>10spencerm</cp:lastModifiedBy>
  <dcterms:modified xsi:type="dcterms:W3CDTF">2011-09-13T13:27:25Z</dcterms:modified>
  <cp:revision>2</cp:revision>
  <dc:subject/>
  <dc:title>Slide 1</dc:title>
</cp:coreProperties>
</file>