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D8F9-BD97-4BBB-AE44-87EE60C999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for this website is so you can watch what you want when you w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1 buttons used and hyperlinks can take you to another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udience for this website is for people to buy things that they w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1 buttons used and hyperlinks can take you to another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8DB7-37FE-4E57-939C-CCCB8DBCC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8208-491D-4707-8E07-872D433E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7907-3B0D-4164-A49F-0A73A13D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C1DE-2641-45C2-B627-5F700FB56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82DF-1143-4F71-92AD-1E007822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69AF-6977-4287-B2BA-CC1964FF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16C1-E430-4495-8A31-6541FD9B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9AF3-72B7-4274-B1E9-3F8A6EA7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0752-A26C-4101-9CAC-477951E4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581C-7325-4247-8B28-81424513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97CB-3720-4D47-8D96-B6A8C330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3DFB-68BE-4ACC-AF1C-6110E003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66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AD01-E017-4164-80A6-3717BEFD9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66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7883640" cy="4926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020000" y="2997360"/>
            <a:ext cx="1297080" cy="1439640"/>
          </a:xfrm>
          <a:prstGeom prst="wedgeRoundRectCallout">
            <a:avLst>
              <a:gd name="adj1" fmla="val -81824"/>
              <a:gd name="adj2" fmla="val 5716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BC Iplayer allows you to watch programmes that have already been air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11280" y="476280"/>
            <a:ext cx="460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adcasting Organisation Example BBC Ip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77080" y="1268280"/>
            <a:ext cx="1366920" cy="10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arch bar helps you find the things you want to w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197000"/>
            <a:ext cx="1366560" cy="1079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vigation bar helps you find out what has happened in the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3313080" cy="503280"/>
          </a:xfrm>
          <a:prstGeom prst="wedgeRoundRectCallout">
            <a:avLst>
              <a:gd name="adj1" fmla="val 15453"/>
              <a:gd name="adj2" fmla="val -21466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s has been used in this Power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66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6769080" cy="4230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04000" y="1916280"/>
            <a:ext cx="1943280" cy="504720"/>
          </a:xfrm>
          <a:prstGeom prst="wedgeRoundRectCallout">
            <a:avLst>
              <a:gd name="adj1" fmla="val -71731"/>
              <a:gd name="adj2" fmla="val 13710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on the size of the wri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66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6875640" cy="4297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588000" y="2133720"/>
            <a:ext cx="1873440" cy="792000"/>
          </a:xfrm>
          <a:prstGeom prst="wedgeRoundRectCallout">
            <a:avLst>
              <a:gd name="adj1" fmla="val -111101"/>
              <a:gd name="adj2" fmla="val 7404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n the size of the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66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Review of bbc ip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ence: teenagers and ad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is f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s the purpose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s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are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to get around the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loading is all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66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848360" cy="4905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835280" y="476280"/>
            <a:ext cx="63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08720" y="1628640"/>
            <a:ext cx="1584360" cy="1008360"/>
          </a:xfrm>
          <a:prstGeom prst="wedgeRoundRectCallout">
            <a:avLst>
              <a:gd name="adj1" fmla="val -102703"/>
              <a:gd name="adj2" fmla="val 4512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arch bar helps you find what you want to bu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476280"/>
            <a:ext cx="1512720" cy="1582560"/>
          </a:xfrm>
          <a:prstGeom prst="wedgeRoundRectCallout">
            <a:avLst>
              <a:gd name="adj1" fmla="val 21458"/>
              <a:gd name="adj2" fmla="val 9463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vigation bar you can click on them and they can take you to another page these are called Hyperli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2276640"/>
            <a:ext cx="1511280" cy="1152360"/>
          </a:xfrm>
          <a:prstGeom prst="wedgeRoundRectCallout">
            <a:avLst>
              <a:gd name="adj1" fmla="val -61555"/>
              <a:gd name="adj2" fmla="val 6873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first come on to the website it brings up items that you can bu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32000" y="3860640"/>
            <a:ext cx="2952720" cy="648000"/>
          </a:xfrm>
          <a:prstGeom prst="wedgeRoundRectCallout">
            <a:avLst>
              <a:gd name="adj1" fmla="val -36722"/>
              <a:gd name="adj2" fmla="val -14509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s has been used in this Power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66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Review of Amaz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ence: adults and teena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is f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eets the purpose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s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are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to get a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downloading is all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66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8243640" cy="5268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851280" y="40464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websi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08720" y="549360"/>
            <a:ext cx="1584360" cy="863640"/>
          </a:xfrm>
          <a:prstGeom prst="wedgeRoundRectCallout">
            <a:avLst>
              <a:gd name="adj1" fmla="val -92486"/>
              <a:gd name="adj2" fmla="val 5257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rch bar is so you can look for other websi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8360" y="1557360"/>
            <a:ext cx="1727280" cy="1008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o is to tell people what website that this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2421000"/>
            <a:ext cx="1728720" cy="936720"/>
          </a:xfrm>
          <a:prstGeom prst="wedgeRoundRectCallout">
            <a:avLst>
              <a:gd name="adj1" fmla="val 89578"/>
              <a:gd name="adj2" fmla="val 5017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igation bar is so people can other th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66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Review of Kingsw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ence: students and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: it is f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eets the purpose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s: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are not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to get around the s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ownload is all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66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39354" t="0" r="26594" b="60865"/>
          <a:stretch/>
        </p:blipFill>
        <p:spPr>
          <a:xfrm>
            <a:off x="1332000" y="1197000"/>
            <a:ext cx="6192720" cy="4448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219640" y="2997360"/>
            <a:ext cx="3024360" cy="792000"/>
          </a:xfrm>
          <a:prstGeom prst="wedgeRoundRectCallout">
            <a:avLst>
              <a:gd name="adj1" fmla="val -72203"/>
              <a:gd name="adj2" fmla="val 5019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rch bar helps people find what they are looking f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79640" y="4869000"/>
            <a:ext cx="1727280" cy="863640"/>
          </a:xfrm>
          <a:prstGeom prst="wedgeRoundRectCallout">
            <a:avLst>
              <a:gd name="adj1" fmla="val -37685"/>
              <a:gd name="adj2" fmla="val -830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igation bar the public can see what is on the web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03640" y="404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66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5265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843280" y="333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6360" y="836640"/>
            <a:ext cx="1800360" cy="936720"/>
          </a:xfrm>
          <a:prstGeom prst="wedgeRoundRectCallout">
            <a:avLst>
              <a:gd name="adj1" fmla="val -17546"/>
              <a:gd name="adj2" fmla="val 9406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ding makes the website more interesting for people to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56360" y="2060640"/>
            <a:ext cx="2211480" cy="647640"/>
          </a:xfrm>
          <a:prstGeom prst="wedgeRoundRectCallout">
            <a:avLst>
              <a:gd name="adj1" fmla="val -109657"/>
              <a:gd name="adj2" fmla="val 5024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vigation bar takes you to another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11640" y="1341360"/>
            <a:ext cx="1942920" cy="792360"/>
          </a:xfrm>
          <a:prstGeom prst="wedgeRoundRectCallout">
            <a:avLst>
              <a:gd name="adj1" fmla="val -39949"/>
              <a:gd name="adj2" fmla="val 9729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arch bar helps you find what you are looking f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66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Review of Ar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ence: adults who want to buy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: used is for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eets the purpose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s: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are all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load speed is a little s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to get around the s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10:57:10Z</dcterms:created>
  <dc:creator>07drysdalej</dc:creator>
  <dc:description/>
  <dc:language>en-US</dc:language>
  <cp:lastModifiedBy>07drysdalej</cp:lastModifiedBy>
  <dcterms:modified xsi:type="dcterms:W3CDTF">2011-10-17T09:25:25Z</dcterms:modified>
  <cp:revision>12</cp:revision>
  <dc:subject/>
  <dc:title>Slide 1</dc:title>
</cp:coreProperties>
</file>