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44.jpeg" ContentType="image/jpeg"/>
  <Override PartName="/ppt/media/image46.jpeg" ContentType="image/jpeg"/>
  <Override PartName="/ppt/media/image34.jpeg" ContentType="image/jpeg"/>
  <Override PartName="/ppt/media/image7.jpeg" ContentType="image/jpeg"/>
  <Override PartName="/ppt/media/image47.jpeg" ContentType="image/jpeg"/>
  <Override PartName="/ppt/media/image55.png" ContentType="image/png"/>
  <Override PartName="/ppt/media/image45.jpeg" ContentType="image/jpeg"/>
  <Override PartName="/ppt/media/image50.jpeg" ContentType="image/jpeg"/>
  <Override PartName="/ppt/media/image12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6.jpeg" ContentType="image/jpeg"/>
  <Override PartName="/ppt/media/image57.jpeg" ContentType="image/jpeg"/>
  <Override PartName="/ppt/media/image43.jpeg" ContentType="image/jpeg"/>
  <Override PartName="/ppt/media/image35.png" ContentType="image/pn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561-1DA8-481B-A226-5EA5C651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5C0-6804-451D-8EFC-97255CD4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E04-9835-4641-B357-15A0CA4E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06BB-C1DB-42C9-B18D-909AB3BE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6FF-11A7-42BB-BB14-FD9D1C5A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750-FFA0-4D9C-972E-FA5D303A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965-07B4-4ACC-9ABF-30FE2D0C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4C0-F648-415B-B9D8-2D2D9A40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9C4-1F63-4EFE-87FB-6E0D9954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D3A3-624B-4EB9-A575-8C050DD8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3CC-B0AF-42AD-B727-CDF04494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ECB-050C-4F34-8A35-D9AEDD90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DD4A-8750-4388-95A4-38900A4E9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5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pn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dern Classical Music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Twentieth-Century Mus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09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reak down of “classical traditions” through Exploration and Experi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ointillism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057400" cy="1574640"/>
          </a:xfrm>
          <a:prstGeom prst="rect">
            <a:avLst/>
          </a:prstGeom>
          <a:ln w="0">
            <a:noFill/>
          </a:ln>
        </p:spPr>
      </p:pic>
      <p:pic>
        <p:nvPicPr>
          <p:cNvPr id="44" name="20c" descr=""/>
          <p:cNvPicPr/>
          <p:nvPr/>
        </p:nvPicPr>
        <p:blipFill>
          <a:blip r:embed="rId2"/>
          <a:stretch/>
        </p:blipFill>
        <p:spPr>
          <a:xfrm>
            <a:off x="6629400" y="228600"/>
            <a:ext cx="2209680" cy="1994040"/>
          </a:xfrm>
          <a:prstGeom prst="rect">
            <a:avLst/>
          </a:prstGeom>
          <a:ln w="0">
            <a:noFill/>
          </a:ln>
        </p:spPr>
      </p:pic>
      <p:pic>
        <p:nvPicPr>
          <p:cNvPr id="45" name="rothko-Untitled" descr=""/>
          <p:cNvPicPr/>
          <p:nvPr/>
        </p:nvPicPr>
        <p:blipFill>
          <a:blip r:embed="rId3"/>
          <a:stretch/>
        </p:blipFill>
        <p:spPr>
          <a:xfrm>
            <a:off x="304920" y="4876920"/>
            <a:ext cx="1523880" cy="1752480"/>
          </a:xfrm>
          <a:prstGeom prst="rect">
            <a:avLst/>
          </a:prstGeom>
          <a:ln w="0">
            <a:noFill/>
          </a:ln>
        </p:spPr>
      </p:pic>
      <p:pic>
        <p:nvPicPr>
          <p:cNvPr id="46" name="Braque-Candlestick_and_Playing_Cards" descr=""/>
          <p:cNvPicPr/>
          <p:nvPr/>
        </p:nvPicPr>
        <p:blipFill>
          <a:blip r:embed="rId4"/>
          <a:stretch/>
        </p:blipFill>
        <p:spPr>
          <a:xfrm>
            <a:off x="3581280" y="152280"/>
            <a:ext cx="1641600" cy="1981440"/>
          </a:xfrm>
          <a:prstGeom prst="rect">
            <a:avLst/>
          </a:prstGeom>
          <a:ln w="0">
            <a:noFill/>
          </a:ln>
        </p:spPr>
      </p:pic>
      <p:pic>
        <p:nvPicPr>
          <p:cNvPr id="47" name="neo%20plastic" descr=""/>
          <p:cNvPicPr/>
          <p:nvPr/>
        </p:nvPicPr>
        <p:blipFill>
          <a:blip r:embed="rId5"/>
          <a:stretch/>
        </p:blipFill>
        <p:spPr>
          <a:xfrm>
            <a:off x="2286000" y="4876920"/>
            <a:ext cx="1674720" cy="1752480"/>
          </a:xfrm>
          <a:prstGeom prst="rect">
            <a:avLst/>
          </a:prstGeom>
          <a:ln w="0">
            <a:noFill/>
          </a:ln>
        </p:spPr>
      </p:pic>
      <p:pic>
        <p:nvPicPr>
          <p:cNvPr id="48" name="Hoffman-flight" descr=""/>
          <p:cNvPicPr/>
          <p:nvPr/>
        </p:nvPicPr>
        <p:blipFill>
          <a:blip r:embed="rId6"/>
          <a:stretch/>
        </p:blipFill>
        <p:spPr>
          <a:xfrm>
            <a:off x="4267080" y="4876920"/>
            <a:ext cx="1273320" cy="1752480"/>
          </a:xfrm>
          <a:prstGeom prst="rect">
            <a:avLst/>
          </a:prstGeom>
          <a:ln w="0">
            <a:noFill/>
          </a:ln>
        </p:spPr>
      </p:pic>
      <p:pic>
        <p:nvPicPr>
          <p:cNvPr id="49" name="warhol" descr=""/>
          <p:cNvPicPr/>
          <p:nvPr/>
        </p:nvPicPr>
        <p:blipFill>
          <a:blip r:embed="rId7"/>
          <a:stretch/>
        </p:blipFill>
        <p:spPr>
          <a:xfrm>
            <a:off x="152280" y="2133720"/>
            <a:ext cx="1565280" cy="1676160"/>
          </a:xfrm>
          <a:prstGeom prst="rect">
            <a:avLst/>
          </a:prstGeom>
          <a:ln w="0">
            <a:noFill/>
          </a:ln>
        </p:spPr>
      </p:pic>
      <p:pic>
        <p:nvPicPr>
          <p:cNvPr id="50" name="hirst_impossibility" descr=""/>
          <p:cNvPicPr/>
          <p:nvPr/>
        </p:nvPicPr>
        <p:blipFill>
          <a:blip r:embed="rId8"/>
          <a:stretch/>
        </p:blipFill>
        <p:spPr>
          <a:xfrm>
            <a:off x="6019920" y="4952880"/>
            <a:ext cx="2590560" cy="1711440"/>
          </a:xfrm>
          <a:prstGeom prst="rect">
            <a:avLst/>
          </a:prstGeom>
          <a:ln w="0">
            <a:noFill/>
          </a:ln>
        </p:spPr>
      </p:pic>
      <p:pic>
        <p:nvPicPr>
          <p:cNvPr id="51" name="digital%20painting" descr=""/>
          <p:cNvPicPr/>
          <p:nvPr/>
        </p:nvPicPr>
        <p:blipFill>
          <a:blip r:embed="rId9"/>
          <a:stretch/>
        </p:blipFill>
        <p:spPr>
          <a:xfrm>
            <a:off x="7467480" y="2362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periment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xperimental music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s any music that challenges the commonly accepted ideas of what music 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is an overlap with A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vant-Gard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(a group of people that champion this style of musi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John Cag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as a pioneer in experimental music and defined and gave credibility to the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"experiment" is not whether a piece succeeds or fails, but is in the fact that the outcome of the piece is uncertain (or unforeseeabl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ey Character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leatoric music -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Also called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'chance music‘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usic in which the composer introduces the elements of chance or unpredictability with regard to either the composition or its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Graphic notation -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Music which is written in the form of diagrams or draw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icrotones -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A pitch interval that is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maller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than a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emitone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. This includes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quarter tone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and intervals even small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5943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rnelius Cardew “Treatis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5760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6708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876920" y="5410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48640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1.-Cardew_200" descr=""/>
          <p:cNvPicPr/>
          <p:nvPr/>
        </p:nvPicPr>
        <p:blipFill>
          <a:blip r:embed="rId5"/>
          <a:stretch/>
        </p:blipFill>
        <p:spPr>
          <a:xfrm>
            <a:off x="1143000" y="4800600"/>
            <a:ext cx="1136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laying Techniqu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914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</a:rPr>
              <a:t>Extended technique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: Playing your instrument in unusual ways (over blowing, scraping, hitting strange parts of the instrumen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Listen to this piece by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Krzysztof  Penderecki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called “Threnody to the victims of Hiroshim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"Prepared"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instruments—ordinary instruments changed in their tuning or sound-producing characteristics. For example, guitar strings can have a weight attached at a certain point, changing their harmonic characterist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John Cage's “prepared piano”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was one of the first such instru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Unusual playing technique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—for example, a dozen or more piano keys may be pressed at the same time with the forearm to produce a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tone cluster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or the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tuning peg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on a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guitar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can be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rotated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while a note sounds (called a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"tuner glissando"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4495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John%20Cage" descr=""/>
          <p:cNvPicPr/>
          <p:nvPr/>
        </p:nvPicPr>
        <p:blipFill>
          <a:blip r:embed="rId2"/>
          <a:stretch/>
        </p:blipFill>
        <p:spPr>
          <a:xfrm>
            <a:off x="1828800" y="4343400"/>
            <a:ext cx="1006560" cy="122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808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04920" y="152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enderecki_photo2" descr=""/>
          <p:cNvPicPr/>
          <p:nvPr/>
        </p:nvPicPr>
        <p:blipFill>
          <a:blip r:embed="rId5"/>
          <a:stretch/>
        </p:blipFill>
        <p:spPr>
          <a:xfrm>
            <a:off x="4114800" y="1828800"/>
            <a:ext cx="121932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experimental tri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00400" y="9144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ing instruments, tunings, rhythms or scales from non-Western musical traditions e.g Africa, India, Indonesia, China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 of every day sounds other than musical instruments such as trash cans, telephone ringers, and doors slamm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laying with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liberate disregar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for the ordinary musical controls (pitch, duration, volum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 of  written/graphic 'instructions' to be actively interpreted by the performer(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0666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an Clark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“Zoom Tub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71800" y="548640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eridith Monk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“Wa-lie-oh” from “Songs from the Hil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ian" descr=""/>
          <p:cNvPicPr/>
          <p:nvPr/>
        </p:nvPicPr>
        <p:blipFill>
          <a:blip r:embed="rId3"/>
          <a:stretch/>
        </p:blipFill>
        <p:spPr>
          <a:xfrm>
            <a:off x="762120" y="2133720"/>
            <a:ext cx="1828800" cy="1806480"/>
          </a:xfrm>
          <a:prstGeom prst="rect">
            <a:avLst/>
          </a:prstGeom>
          <a:ln w="0">
            <a:noFill/>
          </a:ln>
        </p:spPr>
      </p:pic>
      <p:pic>
        <p:nvPicPr>
          <p:cNvPr id="112" name="meredith_153" descr=""/>
          <p:cNvPicPr/>
          <p:nvPr/>
        </p:nvPicPr>
        <p:blipFill>
          <a:blip r:embed="rId4"/>
          <a:stretch/>
        </p:blipFill>
        <p:spPr>
          <a:xfrm>
            <a:off x="990720" y="4191120"/>
            <a:ext cx="1611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tended Vocal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ngue 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sh s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rm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n vowel s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urg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icks, whistling, inhaling and exhaling s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lamatory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eating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yllab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lism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ter Maxwell’s Davie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‘The Lady-in-Waiting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Lady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77320" cy="5880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maxport2" descr=""/>
          <p:cNvPicPr/>
          <p:nvPr/>
        </p:nvPicPr>
        <p:blipFill>
          <a:blip r:embed="rId3"/>
          <a:stretch/>
        </p:blipFill>
        <p:spPr>
          <a:xfrm>
            <a:off x="380880" y="914400"/>
            <a:ext cx="1428840" cy="1886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54864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ronic 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struments that produce sound through electromechanical -  Examples of an electromechanical instrument are the electric guitar, Hammond B3, and the teleharmon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struments that produce sound using electronic components - examples of an electronic instrument are a Theremin, Ondes Martenot synthesizer, and a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80px-Teleharmonium1897" descr=""/>
          <p:cNvPicPr/>
          <p:nvPr/>
        </p:nvPicPr>
        <p:blipFill>
          <a:blip r:embed="rId1"/>
          <a:stretch/>
        </p:blipFill>
        <p:spPr>
          <a:xfrm>
            <a:off x="6400800" y="2590920"/>
            <a:ext cx="2438280" cy="1679400"/>
          </a:xfrm>
          <a:prstGeom prst="rect">
            <a:avLst/>
          </a:prstGeom>
          <a:ln w="0">
            <a:noFill/>
          </a:ln>
        </p:spPr>
      </p:pic>
      <p:pic>
        <p:nvPicPr>
          <p:cNvPr id="123" name="180px-Hammond_organ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527120" cy="1904760"/>
          </a:xfrm>
          <a:prstGeom prst="rect">
            <a:avLst/>
          </a:prstGeom>
          <a:ln w="0">
            <a:noFill/>
          </a:ln>
        </p:spPr>
      </p:pic>
      <p:pic>
        <p:nvPicPr>
          <p:cNvPr id="124" name="180px-Leon_Theremin_Playing_Theremin" descr=""/>
          <p:cNvPicPr/>
          <p:nvPr/>
        </p:nvPicPr>
        <p:blipFill>
          <a:blip r:embed="rId3"/>
          <a:stretch/>
        </p:blipFill>
        <p:spPr>
          <a:xfrm>
            <a:off x="7238880" y="4495680"/>
            <a:ext cx="1752840" cy="1847880"/>
          </a:xfrm>
          <a:prstGeom prst="rect">
            <a:avLst/>
          </a:prstGeom>
          <a:ln w="0">
            <a:noFill/>
          </a:ln>
        </p:spPr>
      </p:pic>
      <p:pic>
        <p:nvPicPr>
          <p:cNvPr id="125" name="180px-OndesMartenotDemonstratedByInventor" descr=""/>
          <p:cNvPicPr/>
          <p:nvPr/>
        </p:nvPicPr>
        <p:blipFill>
          <a:blip r:embed="rId4"/>
          <a:stretch/>
        </p:blipFill>
        <p:spPr>
          <a:xfrm>
            <a:off x="5410080" y="4343400"/>
            <a:ext cx="164628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ique concrè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ape recorder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was invented in Germany during World War I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wasn't long before composers used the tape recorder to develop a new technique for composition called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usique concrèt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is technique involved editing together recorded fragments of natural and industrial sou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requently, composers used sounds that were produced entirely by electronic devices not designed for a musical purpo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first pieces of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musique concrèt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were written by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ierre Schaeffer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, who later worked alongside such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vant-gard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classical composers as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ierre Boulez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Karlheinz Stockhause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first electronic music for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agnetic tap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composed in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meric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was completed by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ouis and Bebe Barro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950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of the Synthes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610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wo new electronic instruments made their debut in 1957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first of these electronic instruments was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the computer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when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ax Mathew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used a program called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usic 1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, and later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usic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other electronic instrument that appeared that year was the first electronic synthesizer. Called the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RCA Mark II Sound Synthesizer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, it incorporated the first electronic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usic sequencer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nother playable synthesizer, the first to use a piano styled keyboard, was the brainchild of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Robert Moog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200px-Minimoog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2133360" cy="1226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10552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 Mo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71500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the late 1970s and early 1980s there was a great deal of innovation around the development of electronic music instruments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alogu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ynthesisers largely gave way to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git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ynthesisers and sampl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quen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sequenc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as originally any device that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recorded and played back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 sequence of control information for an electronic musical instru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wadays, the term almost always refers to the feature of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recording softwar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ich allows the user to record, play back and edit MIDI data. This is distinct from the software features which record audio d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180px-Sequencer" descr=""/>
          <p:cNvPicPr/>
          <p:nvPr/>
        </p:nvPicPr>
        <p:blipFill>
          <a:blip r:embed="rId1"/>
          <a:stretch/>
        </p:blipFill>
        <p:spPr>
          <a:xfrm>
            <a:off x="3048120" y="5105520"/>
            <a:ext cx="2057400" cy="1496880"/>
          </a:xfrm>
          <a:prstGeom prst="rect">
            <a:avLst/>
          </a:prstGeom>
          <a:ln w="0">
            <a:noFill/>
          </a:ln>
        </p:spPr>
      </p:pic>
      <p:pic>
        <p:nvPicPr>
          <p:cNvPr id="136" name="180px-Cubasis" descr=""/>
          <p:cNvPicPr/>
          <p:nvPr/>
        </p:nvPicPr>
        <p:blipFill>
          <a:blip r:embed="rId2"/>
          <a:stretch/>
        </p:blipFill>
        <p:spPr>
          <a:xfrm>
            <a:off x="5638680" y="5105520"/>
            <a:ext cx="20574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xpressio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Seri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lectronic 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Minimalism (see p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xperimental 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il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langfarbenmelo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erticalisation (Note Clus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1219320"/>
            <a:ext cx="4038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lyme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lyrhy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lyt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welve tone note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crot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eoto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aphic s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vant-G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sique concrè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unds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Soundsca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oundscape compositio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is an acoustic environment or an environment created by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atural sound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such as forces of nature and animals, including huma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re are different elements of the soundscape such as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ound signal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und Signals: warning devices, bells, whistles, horns, siren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undscapes are often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ombined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with the performance of mu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chnical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81080" y="1066680"/>
            <a:ext cx="7010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iltering (EQ) (taking away unwanted frequencies Hi or 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vering (adding vibra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verb (Sounds like you are in a big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lay (the sounds dies away gradu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cho (the sounds are repeated as they die aw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orus (making sounds bigger as if there are lots of the same instrument or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langing ("whooshing" sound, or a sound similar to the sound of a jet plane flying overhe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uting (dampening sou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versing (playing a sound backwar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itch Shifting or Bending (sliding sou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oping – sounds repeated like an osti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43000" y="4267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racts to liste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47920" y="1143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ye Parry – A Passing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198108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vid Bedford – The Song of the White Horse (The Blowing Stone)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ood example of delay on the trumpe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43434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revor Wishart – Vox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57913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by Bricheno – Hyde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7621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bedford" descr=""/>
          <p:cNvPicPr/>
          <p:nvPr/>
        </p:nvPicPr>
        <p:blipFill>
          <a:blip r:embed="rId5"/>
          <a:stretch/>
        </p:blipFill>
        <p:spPr>
          <a:xfrm>
            <a:off x="6400800" y="2209680"/>
            <a:ext cx="1828800" cy="1128960"/>
          </a:xfrm>
          <a:prstGeom prst="rect">
            <a:avLst/>
          </a:prstGeom>
          <a:ln w="0">
            <a:noFill/>
          </a:ln>
        </p:spPr>
      </p:pic>
      <p:pic>
        <p:nvPicPr>
          <p:cNvPr id="153" name="wishart" descr=""/>
          <p:cNvPicPr/>
          <p:nvPr/>
        </p:nvPicPr>
        <p:blipFill>
          <a:blip r:embed="rId6"/>
          <a:stretch/>
        </p:blipFill>
        <p:spPr>
          <a:xfrm>
            <a:off x="7010280" y="3733920"/>
            <a:ext cx="1054080" cy="1600200"/>
          </a:xfrm>
          <a:prstGeom prst="rect">
            <a:avLst/>
          </a:prstGeom>
          <a:ln w="0">
            <a:noFill/>
          </a:ln>
        </p:spPr>
      </p:pic>
      <p:pic>
        <p:nvPicPr>
          <p:cNvPr id="154" name="nye" descr=""/>
          <p:cNvPicPr/>
          <p:nvPr/>
        </p:nvPicPr>
        <p:blipFill>
          <a:blip r:embed="rId7"/>
          <a:stretch/>
        </p:blipFill>
        <p:spPr>
          <a:xfrm>
            <a:off x="6553080" y="914400"/>
            <a:ext cx="14479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Modern Music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676520"/>
            <a:ext cx="74674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lytonality – A piece of music played in more than one key signature at the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lymetre – different time signatures against each other at the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lyrhythms – two or more difficult rhythms played at the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44956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Stravinsky’s “The Harbingers of Spring” from “The Rite of Spr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477120" y="5486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stravinsky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228600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ther Famous Modern Compo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23623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ierre Boul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23623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Karlheinz Stockhau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stockhausen" descr=""/>
          <p:cNvPicPr/>
          <p:nvPr/>
        </p:nvPicPr>
        <p:blipFill>
          <a:blip r:embed="rId1"/>
          <a:stretch/>
        </p:blipFill>
        <p:spPr>
          <a:xfrm>
            <a:off x="3276720" y="289548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164" name="232_boulez" descr=""/>
          <p:cNvPicPr/>
          <p:nvPr/>
        </p:nvPicPr>
        <p:blipFill>
          <a:blip r:embed="rId2"/>
          <a:stretch/>
        </p:blipFill>
        <p:spPr>
          <a:xfrm>
            <a:off x="6019920" y="2819520"/>
            <a:ext cx="1904760" cy="1360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57200" y="2362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mitri Shostakov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shosta" descr=""/>
          <p:cNvPicPr/>
          <p:nvPr/>
        </p:nvPicPr>
        <p:blipFill>
          <a:blip r:embed="rId3"/>
          <a:stretch/>
        </p:blipFill>
        <p:spPr>
          <a:xfrm>
            <a:off x="990720" y="2895480"/>
            <a:ext cx="1006200" cy="1211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0680" y="441972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livier Messia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Messiaen" descr=""/>
          <p:cNvPicPr/>
          <p:nvPr/>
        </p:nvPicPr>
        <p:blipFill>
          <a:blip r:embed="rId4"/>
          <a:stretch/>
        </p:blipFill>
        <p:spPr>
          <a:xfrm>
            <a:off x="1066680" y="4876920"/>
            <a:ext cx="1231920" cy="1600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971800" y="44197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arius Milha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milhaud" descr=""/>
          <p:cNvPicPr/>
          <p:nvPr/>
        </p:nvPicPr>
        <p:blipFill>
          <a:blip r:embed="rId5"/>
          <a:stretch/>
        </p:blipFill>
        <p:spPr>
          <a:xfrm>
            <a:off x="3200400" y="4952880"/>
            <a:ext cx="1258920" cy="1524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329800" y="441972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lph Vaughan-Willi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vaughan-williams-01" descr=""/>
          <p:cNvPicPr/>
          <p:nvPr/>
        </p:nvPicPr>
        <p:blipFill>
          <a:blip r:embed="rId6"/>
          <a:stretch/>
        </p:blipFill>
        <p:spPr>
          <a:xfrm>
            <a:off x="6172200" y="4876920"/>
            <a:ext cx="1177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04200" y="838080"/>
            <a:ext cx="18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ichael Tipp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tippett01copy" descr=""/>
          <p:cNvPicPr/>
          <p:nvPr/>
        </p:nvPicPr>
        <p:blipFill>
          <a:blip r:embed="rId7"/>
          <a:stretch/>
        </p:blipFill>
        <p:spPr>
          <a:xfrm>
            <a:off x="609480" y="1219320"/>
            <a:ext cx="949320" cy="1143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438280" y="838080"/>
            <a:ext cx="168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urice Ra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Maurice_Ravel" descr=""/>
          <p:cNvPicPr/>
          <p:nvPr/>
        </p:nvPicPr>
        <p:blipFill>
          <a:blip r:embed="rId8"/>
          <a:stretch/>
        </p:blipFill>
        <p:spPr>
          <a:xfrm>
            <a:off x="2514600" y="1219320"/>
            <a:ext cx="1600200" cy="11998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322320" y="838080"/>
            <a:ext cx="17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ul Hindem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hindemith" descr=""/>
          <p:cNvPicPr/>
          <p:nvPr/>
        </p:nvPicPr>
        <p:blipFill>
          <a:blip r:embed="rId9"/>
          <a:stretch/>
        </p:blipFill>
        <p:spPr>
          <a:xfrm>
            <a:off x="6629400" y="1295280"/>
            <a:ext cx="1219320" cy="1140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342320" y="83808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enjamin B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BRITTEN" descr=""/>
          <p:cNvPicPr/>
          <p:nvPr/>
        </p:nvPicPr>
        <p:blipFill>
          <a:blip r:embed="rId10"/>
          <a:stretch/>
        </p:blipFill>
        <p:spPr>
          <a:xfrm>
            <a:off x="4724280" y="1219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5760" y="4572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ustav Hol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holst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1500120" cy="19814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666160" y="45720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arl Or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Carl_Orff" descr=""/>
          <p:cNvPicPr/>
          <p:nvPr/>
        </p:nvPicPr>
        <p:blipFill>
          <a:blip r:embed="rId2"/>
          <a:stretch/>
        </p:blipFill>
        <p:spPr>
          <a:xfrm>
            <a:off x="2590920" y="838080"/>
            <a:ext cx="1469880" cy="1981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69480" y="45720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orge Gershw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george" descr=""/>
          <p:cNvPicPr/>
          <p:nvPr/>
        </p:nvPicPr>
        <p:blipFill>
          <a:blip r:embed="rId3"/>
          <a:stretch/>
        </p:blipFill>
        <p:spPr>
          <a:xfrm>
            <a:off x="4419720" y="838080"/>
            <a:ext cx="2209680" cy="1963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932160" y="457200"/>
            <a:ext cx="18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lliam Wa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walton" descr=""/>
          <p:cNvPicPr/>
          <p:nvPr/>
        </p:nvPicPr>
        <p:blipFill>
          <a:blip r:embed="rId4"/>
          <a:stretch/>
        </p:blipFill>
        <p:spPr>
          <a:xfrm>
            <a:off x="7162920" y="838080"/>
            <a:ext cx="1465200" cy="19051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436120" y="3200400"/>
            <a:ext cx="18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ancis Poule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" y="320040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John Tav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MC1001_John_TAVENER_1" descr=""/>
          <p:cNvPicPr/>
          <p:nvPr/>
        </p:nvPicPr>
        <p:blipFill>
          <a:blip r:embed="rId5"/>
          <a:stretch/>
        </p:blipFill>
        <p:spPr>
          <a:xfrm>
            <a:off x="685800" y="3962520"/>
            <a:ext cx="1379520" cy="2057400"/>
          </a:xfrm>
          <a:prstGeom prst="rect">
            <a:avLst/>
          </a:prstGeom>
          <a:ln w="0">
            <a:noFill/>
          </a:ln>
        </p:spPr>
      </p:pic>
      <p:pic>
        <p:nvPicPr>
          <p:cNvPr id="192" name="poulenc" descr=""/>
          <p:cNvPicPr/>
          <p:nvPr/>
        </p:nvPicPr>
        <p:blipFill>
          <a:blip r:embed="rId6"/>
          <a:stretch/>
        </p:blipFill>
        <p:spPr>
          <a:xfrm>
            <a:off x="2411280" y="3886200"/>
            <a:ext cx="1668600" cy="2133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646880" y="32004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abriel Fa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faure" descr=""/>
          <p:cNvPicPr/>
          <p:nvPr/>
        </p:nvPicPr>
        <p:blipFill>
          <a:blip r:embed="rId7"/>
          <a:stretch/>
        </p:blipFill>
        <p:spPr>
          <a:xfrm>
            <a:off x="4548240" y="3886200"/>
            <a:ext cx="1646280" cy="2133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855840" y="2895480"/>
            <a:ext cx="194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aron Copl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onard Ber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jb_progress_copland_1_e" descr=""/>
          <p:cNvPicPr/>
          <p:nvPr/>
        </p:nvPicPr>
        <p:blipFill>
          <a:blip r:embed="rId8"/>
          <a:stretch/>
        </p:blipFill>
        <p:spPr>
          <a:xfrm>
            <a:off x="6477120" y="3886200"/>
            <a:ext cx="2511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i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6091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 move from the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hole tone sca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End of the Romantic Perio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to 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2 tone note row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ok at the examples be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219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ime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rime%20order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001000" cy="1432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29718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version (turn it upside d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nversion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153280" cy="765000"/>
          </a:xfrm>
          <a:prstGeom prst="rect">
            <a:avLst/>
          </a:prstGeom>
          <a:ln w="0">
            <a:noFill/>
          </a:ln>
        </p:spPr>
      </p:pic>
      <p:pic>
        <p:nvPicPr>
          <p:cNvPr id="61" name="Retrograde" descr=""/>
          <p:cNvPicPr/>
          <p:nvPr/>
        </p:nvPicPr>
        <p:blipFill>
          <a:blip r:embed="rId3"/>
          <a:stretch/>
        </p:blipFill>
        <p:spPr>
          <a:xfrm>
            <a:off x="304920" y="4343400"/>
            <a:ext cx="8076960" cy="1243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40384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trograde (Write it backwar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Retrograde%20Inversion" descr=""/>
          <p:cNvPicPr/>
          <p:nvPr/>
        </p:nvPicPr>
        <p:blipFill>
          <a:blip r:embed="rId4"/>
          <a:stretch/>
        </p:blipFill>
        <p:spPr>
          <a:xfrm>
            <a:off x="228600" y="6000840"/>
            <a:ext cx="8153280" cy="857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280" y="56386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trograde Inversion (Write it upside down and backwar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hoe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the composer who invented the 12 note sys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sten to his work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ite for Piano, Op. 25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n the next slide and follow the music. It uses the examples on the previous sl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ime ord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s heard in the bass in Bars 1 &amp;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left hand then plays th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inversi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the row in bars 3 &amp;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row is the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nspose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oved up in interval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up a tritone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lso known as the devil’s chor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in bars 4 &amp;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Bars 8 &amp; 9 we hear 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trograd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version is hea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llowed by 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trograde invers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Bars 9 &amp;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gether the bass and treble parts of bars 1-6 form 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n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y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 can also build chords from the note row. This is call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erticalisation or Note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uite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4819680" cy="6629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schonberg" descr=""/>
          <p:cNvPicPr/>
          <p:nvPr/>
        </p:nvPicPr>
        <p:blipFill>
          <a:blip r:embed="rId3"/>
          <a:stretch/>
        </p:blipFill>
        <p:spPr>
          <a:xfrm>
            <a:off x="7010280" y="1905120"/>
            <a:ext cx="1933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langfarbenmelodi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hoenberg used this term to describe a melody being spread between different instr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ook at the example from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nton Weber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’s “Ricercare”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is led to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ointillism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(using one note per instr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Webern's_Ricercar_arrangement_opening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63244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3526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re is an example from Anton Webern’s Quartet Op.22 (movement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Webern" descr=""/>
          <p:cNvPicPr/>
          <p:nvPr/>
        </p:nvPicPr>
        <p:blipFill>
          <a:blip r:embed="rId1"/>
          <a:stretch/>
        </p:blipFill>
        <p:spPr>
          <a:xfrm>
            <a:off x="0" y="0"/>
            <a:ext cx="50785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webern" descr=""/>
          <p:cNvPicPr/>
          <p:nvPr/>
        </p:nvPicPr>
        <p:blipFill>
          <a:blip r:embed="rId2"/>
          <a:stretch/>
        </p:blipFill>
        <p:spPr>
          <a:xfrm>
            <a:off x="6248520" y="4495680"/>
            <a:ext cx="1752480" cy="151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8580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pressio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term borrowed from pa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tona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total rejection of key or t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remely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dissonan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notes that clash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renzied mel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gged le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olent explosive contrasts in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reme changes in tempo, texture, rhyth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struments played to the extremes of their r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nmet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sten to the following examples of Expressio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rnold Schoenberg’s “Valse de Chopin” from Pierre Lu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19320" y="22860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se three tracks are from Berg’s Wozzeck (concluding sce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1911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9528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05320" y="4114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ban Be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erg" descr=""/>
          <p:cNvPicPr/>
          <p:nvPr/>
        </p:nvPicPr>
        <p:blipFill>
          <a:blip r:embed="rId5"/>
          <a:stretch/>
        </p:blipFill>
        <p:spPr>
          <a:xfrm>
            <a:off x="3657600" y="4495680"/>
            <a:ext cx="1343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08:12:02Z</dcterms:created>
  <dc:creator> </dc:creator>
  <dc:description/>
  <dc:language>en-US</dc:language>
  <cp:lastModifiedBy> </cp:lastModifiedBy>
  <dcterms:modified xsi:type="dcterms:W3CDTF">2006-11-18T14:10:51Z</dcterms:modified>
  <cp:revision>44</cp:revision>
  <dc:subject/>
  <dc:title>Modern Classical Music  (Twentieth-Century Music)</dc:title>
</cp:coreProperties>
</file>