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35A-2800-4B2C-A46A-51CF6CA0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FE7-02DC-479B-B572-AAA4851C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31C-0C8B-4083-96E0-CC291A80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760-69A0-4D93-AD8F-9367A059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58DD-E87C-4719-A202-E7B8FDE3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DF08-1F9C-4E42-A070-3388356C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AFAA-FB69-4D5E-A0FA-F65ACD6A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DE2C-F38F-4884-99F7-C13BF7FE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C1E0-049E-4C6D-ADFA-AF92005E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782B-7646-4280-B5E0-5B6CEC35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C2A2-894C-4F5C-9F13-9A33CCE7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287-94A1-41B5-8E46-7C1AF609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C10F-576B-471D-B4D6-32A0564F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4481-5504-4EB9-B49C-EDD78581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A926-EB41-4657-B02F-DC6C1D1D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55E6-C75E-41F4-A663-9C2924FB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1945-37C0-4A83-9D2D-82734B1E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6572-4C04-4A2F-9A54-77CD0BED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129-AD66-4929-8D80-6B0A7902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25C-D9A8-4D73-9164-9800E8A8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8AC-2995-4723-8425-45D7BBFE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8C0-1CE9-4087-9DE3-E8AD464C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E85-5DDF-4C29-9F42-7B3E69DE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C2A-E785-4063-826A-9FB8AE64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1B70-F5E7-4F80-9FD5-326B262779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114C-A964-44D3-987F-4920148CEBF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Starry Night"/>
              </a:rPr>
              <a:t>Dynamic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755640" y="2205000"/>
            <a:ext cx="12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tarry Night"/>
              </a:rPr>
              <a:t>Loud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tarry Night"/>
              <a:ea typeface="Starry Night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6659640" y="2205000"/>
            <a:ext cx="121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tarry Night"/>
              </a:rPr>
              <a:t>Forte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tarry Night"/>
              <a:ea typeface="Starry Night"/>
            </a:endParaRPr>
          </a:p>
        </p:txBody>
      </p:sp>
      <p:pic>
        <p:nvPicPr>
          <p:cNvPr id="92" name="WordArt 8" descr=""/>
          <p:cNvPicPr/>
          <p:nvPr/>
        </p:nvPicPr>
        <p:blipFill>
          <a:blip r:embed="rId1"/>
          <a:stretch/>
        </p:blipFill>
        <p:spPr>
          <a:xfrm>
            <a:off x="817560" y="4280040"/>
            <a:ext cx="1243080" cy="669960"/>
          </a:xfrm>
          <a:prstGeom prst="rect">
            <a:avLst/>
          </a:prstGeom>
          <a:ln w="0">
            <a:noFill/>
          </a:ln>
        </p:spPr>
      </p:pic>
      <p:sp>
        <p:nvSpPr>
          <p:cNvPr id="93" name="WordArt 9"/>
          <p:cNvSpPr txBox="1"/>
          <p:nvPr/>
        </p:nvSpPr>
        <p:spPr>
          <a:xfrm>
            <a:off x="6730920" y="4292640"/>
            <a:ext cx="12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tarry Night"/>
              </a:rPr>
              <a:t>Piano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tarry Night"/>
              <a:ea typeface="Starry Night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YEAR 7 UNIT 1 </a:t>
            </a:r>
            <a:r>
              <a:rPr b="0" lang="en-GB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NIGHT AND DAY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PPT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WWW.MUSICALCONTEXTS.CO.U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3635280" y="206064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51280" y="4221000"/>
            <a:ext cx="1143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Starry Night"/>
              </a:rPr>
              <a:t>Dynamics - 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755640" y="220500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tarry Night"/>
              </a:rPr>
              <a:t>Very Loud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tarry Night"/>
              <a:ea typeface="Starry Night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5651640" y="2205000"/>
            <a:ext cx="222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tarry Night"/>
              </a:rPr>
              <a:t>Fortissimo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tarry Night"/>
              <a:ea typeface="Starry Night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826920" y="4292640"/>
            <a:ext cx="22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tarry Night"/>
              </a:rPr>
              <a:t>Very Very Loud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tarry Night"/>
              <a:ea typeface="Starry Night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5580000" y="4292640"/>
            <a:ext cx="309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tarry Night"/>
              </a:rPr>
              <a:t>Fortisstissimo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tarry Night"/>
              <a:ea typeface="Starry Night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YEAR 7 UNIT 1 – NIGHT AND DAY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PPT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WWW.MUSICALCONTEXTS.CO.U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3635280" y="198900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2"/>
          <a:stretch/>
        </p:blipFill>
        <p:spPr>
          <a:xfrm>
            <a:off x="3635280" y="4508640"/>
            <a:ext cx="15620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Starry Night"/>
              </a:rPr>
              <a:t>Dynamics - 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755640" y="220500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tarry Night"/>
              </a:rPr>
              <a:t>Very Soft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tarry Night"/>
              <a:ea typeface="Starry Night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5651640" y="2205000"/>
            <a:ext cx="222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tarry Night"/>
              </a:rPr>
              <a:t>Pianissimo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tarry Night"/>
              <a:ea typeface="Starry Night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826920" y="4292640"/>
            <a:ext cx="22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tarry Night"/>
              </a:rPr>
              <a:t>Very Very Soft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tarry Night"/>
              <a:ea typeface="Starry Night"/>
            </a:endParaRPr>
          </a:p>
        </p:txBody>
      </p:sp>
      <p:sp>
        <p:nvSpPr>
          <p:cNvPr id="109" name="WordArt 8"/>
          <p:cNvSpPr txBox="1"/>
          <p:nvPr/>
        </p:nvSpPr>
        <p:spPr>
          <a:xfrm>
            <a:off x="5580000" y="4292640"/>
            <a:ext cx="309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tarry Night"/>
              </a:rPr>
              <a:t>Pianississimo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tarry Night"/>
              <a:ea typeface="Starry Night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YEAR 7 UNIT 1 </a:t>
            </a:r>
            <a:r>
              <a:rPr b="0" lang="en-GB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NIGHT AND DAY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PPT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WWW.MUSICALCONTEXTS.CO.U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3203640" y="4005360"/>
            <a:ext cx="2305080" cy="1542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"/>
          <p:cNvPicPr/>
          <p:nvPr/>
        </p:nvPicPr>
        <p:blipFill>
          <a:blip r:embed="rId2"/>
          <a:stretch/>
        </p:blipFill>
        <p:spPr>
          <a:xfrm>
            <a:off x="3708360" y="20606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Starry Night"/>
              </a:rPr>
              <a:t>Dynamics - 4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 flipV="1">
            <a:off x="1979640" y="1988640"/>
            <a:ext cx="4608360" cy="576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1979640" y="2565360"/>
            <a:ext cx="460836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WordArt 11"/>
          <p:cNvSpPr txBox="1"/>
          <p:nvPr/>
        </p:nvSpPr>
        <p:spPr>
          <a:xfrm>
            <a:off x="2050920" y="3284640"/>
            <a:ext cx="4681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tarry Night"/>
              </a:rPr>
              <a:t>Crescendo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tarry Night"/>
              <a:ea typeface="Starry Night"/>
            </a:endParaRPr>
          </a:p>
        </p:txBody>
      </p:sp>
      <p:sp>
        <p:nvSpPr>
          <p:cNvPr id="117" name="Line 14"/>
          <p:cNvSpPr/>
          <p:nvPr/>
        </p:nvSpPr>
        <p:spPr>
          <a:xfrm flipH="1" flipV="1">
            <a:off x="1834920" y="4365720"/>
            <a:ext cx="4537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4920" y="4869000"/>
            <a:ext cx="4537080" cy="504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16"/>
          <p:cNvSpPr txBox="1"/>
          <p:nvPr/>
        </p:nvSpPr>
        <p:spPr>
          <a:xfrm>
            <a:off x="2050920" y="5734080"/>
            <a:ext cx="4681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tarry Night"/>
              </a:rPr>
              <a:t>Diminuendo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tarry Night"/>
              <a:ea typeface="Starry Night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YEAR 7 UNIT 1 </a:t>
            </a:r>
            <a:r>
              <a:rPr b="0" lang="en-GB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NIGHT AND DAY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PPT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WWW.MUSICALCONTEXTS.CO.U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14" descr=""/>
          <p:cNvPicPr/>
          <p:nvPr/>
        </p:nvPicPr>
        <p:blipFill>
          <a:blip r:embed="rId1"/>
          <a:stretch/>
        </p:blipFill>
        <p:spPr>
          <a:xfrm>
            <a:off x="7093080" y="17002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2"/>
          <a:stretch/>
        </p:blipFill>
        <p:spPr>
          <a:xfrm>
            <a:off x="179280" y="407664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3"/>
          <a:stretch/>
        </p:blipFill>
        <p:spPr>
          <a:xfrm>
            <a:off x="611280" y="2060640"/>
            <a:ext cx="1143000" cy="1019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4"/>
          <a:stretch/>
        </p:blipFill>
        <p:spPr>
          <a:xfrm>
            <a:off x="7236000" y="4292640"/>
            <a:ext cx="1143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Starry Night"/>
              </a:rPr>
              <a:t>Notation – Writing Music Dow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6" name="Picture 4" descr="3CD2E2E9"/>
          <p:cNvPicPr/>
          <p:nvPr/>
        </p:nvPicPr>
        <p:blipFill>
          <a:blip r:embed="rId1"/>
          <a:srcRect l="4582" t="4867" r="55980" b="61895"/>
          <a:stretch/>
        </p:blipFill>
        <p:spPr>
          <a:xfrm>
            <a:off x="468360" y="2205000"/>
            <a:ext cx="4608360" cy="1527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3CD2E2E9"/>
          <p:cNvPicPr/>
          <p:nvPr/>
        </p:nvPicPr>
        <p:blipFill>
          <a:blip r:embed="rId2"/>
          <a:srcRect l="22709" t="47495" r="25899" b="7384"/>
          <a:stretch/>
        </p:blipFill>
        <p:spPr>
          <a:xfrm>
            <a:off x="539640" y="4076640"/>
            <a:ext cx="4608720" cy="2036880"/>
          </a:xfrm>
          <a:prstGeom prst="rect">
            <a:avLst/>
          </a:prstGeom>
          <a:ln w="0">
            <a:noFill/>
          </a:ln>
        </p:spPr>
      </p:pic>
      <p:sp>
        <p:nvSpPr>
          <p:cNvPr id="128" name="WordArt 6"/>
          <p:cNvSpPr txBox="1"/>
          <p:nvPr/>
        </p:nvSpPr>
        <p:spPr>
          <a:xfrm>
            <a:off x="5364000" y="2637000"/>
            <a:ext cx="355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Starry Night"/>
              </a:rPr>
              <a:t>Graphic Notation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Starry Night"/>
              <a:ea typeface="Starry Night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5364000" y="4581360"/>
            <a:ext cx="3552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Starry Night"/>
              </a:rPr>
              <a:t>Staff Notation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Starry Night"/>
              <a:ea typeface="Starry Night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YEAR 7 UNIT 1 </a:t>
            </a:r>
            <a:r>
              <a:rPr b="0" lang="en-GB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NIGHT AND DAY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PPT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WWW.MUSICALCONTEXTS.CO.U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5B9872FE"/>
          <p:cNvPicPr/>
          <p:nvPr/>
        </p:nvPicPr>
        <p:blipFill>
          <a:blip r:embed="rId1"/>
          <a:srcRect l="0" t="0" r="0" b="6153"/>
          <a:stretch/>
        </p:blipFill>
        <p:spPr>
          <a:xfrm>
            <a:off x="4429080" y="500040"/>
            <a:ext cx="4380120" cy="581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Object 5"/>
          <p:cNvGraphicFramePr/>
          <p:nvPr/>
        </p:nvGraphicFramePr>
        <p:xfrm>
          <a:off x="539640" y="260280"/>
          <a:ext cx="3816360" cy="305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60280"/>
                    <a:ext cx="381636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WordArt 6"/>
          <p:cNvSpPr txBox="1"/>
          <p:nvPr/>
        </p:nvSpPr>
        <p:spPr>
          <a:xfrm>
            <a:off x="611280" y="3645000"/>
            <a:ext cx="3456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Starry Night"/>
              </a:rPr>
              <a:t>Graphi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Starry Night"/>
              <a:ea typeface="Starry N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Starry Night"/>
              </a:rPr>
              <a:t>Sc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Starry Night"/>
              <a:ea typeface="Starry Night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YEAR 7 UNIT 1 </a:t>
            </a:r>
            <a:r>
              <a:rPr b="0" lang="en-GB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NIGHT AND DAY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PPT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Arial"/>
                <a:ea typeface="Times New Roman"/>
              </a:rPr>
              <a:t>WWW.MUSICALCONTEXTS.CO.U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3:31:18Z</dcterms:created>
  <dc:creator>Rob</dc:creator>
  <dc:description/>
  <dc:language>en-US</dc:language>
  <cp:lastModifiedBy>Valued Acer Customer</cp:lastModifiedBy>
  <dcterms:modified xsi:type="dcterms:W3CDTF">2011-05-10T11:14:21Z</dcterms:modified>
  <cp:revision>20</cp:revision>
  <dc:subject>Year 7 Unit 1 - Night and Day - Presentation 2 - Dynamics &amp; Graphic Scores</dc:subject>
  <dc:title>Year 7 Unit 1 - Night and Day - Presentation 2 - Dynamics &amp; Graphic Sco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