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0BA0-6E61-4B0B-9CC1-6D2A770AE3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ther people talking while you’re tal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mething getting in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en you’re talking to another person and you can’t think what to say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en you aren’t concerntrating on the task at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t could be anything, keep concerntrating and force yourself to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alking to someone like a friend you want to talk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mmunication about a subject you like – that you are interest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alking about things you know so that there are no mental bloc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eparate offices break off any communication with two people and halt any possible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 boss of a workplace may work in his/her office whereas a normal worker may work with the rest of the workers and the staff making no contact between the boss and the wor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meone who doesn’t like the company of a certain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oor and rich being divided. (In some count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someone’s room when they don’t want to be distu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perty that someone doesn’t want anyone on unless given permi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omeone who is different in culture to another may not want to talk to another person because they ar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omeone from another culture could have an accent or use different words to talk which can be offensive to some people while either confusing them or a result in the other person not understanding what another has just said because of their ac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tereotyping a culture can be things like thinking anyone who has black skin has a knife and is dangerous and this can prevent any communication al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ome cultures use different words like ‘Wagwan’ to say hello which others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ome people find cultural clothes to be very off-putting like the Muslim scar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The race of a person altogether can stop another person from even engaging with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C6B3-964D-4ED8-AB5C-A6A1527C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3423A-D2FD-4107-A32B-82783340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6B83-F8B1-45B8-B989-846DBAF8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F0BB-CDD9-48FE-B53B-A425F84E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6D94-DA30-438D-AA65-CF83BD26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7162-E073-4DB2-A613-A0A36D92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6533-7E45-49A6-9802-712BAD63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C307-C8FC-4E88-B99A-A8E049FA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8894-6550-4EC5-A9C3-E0CB81B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A4BC-6C2A-4569-A6F6-7B2EFB98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DABD-FAFF-4ACC-B6D3-E648F93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FDD0-FE6F-4DEA-AC96-BC26B5F8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83E3-E632-4594-BF05-C6F6A44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56F0-28A1-4D75-B786-435319E4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8A93-3700-4B38-9338-D25D0C1D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0A08-D2B0-4DB2-9116-69763FE0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A3C3-E8C0-41CB-BE96-E30F9EF4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30BD-BDD4-4B63-A984-C6CB8917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CBFB-6FBF-4FBF-96A1-BFAB7938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8AB2-6614-42C7-9C8F-DE4F3F7D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0F1DD-8C4D-480F-9A50-E5D93BA1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BCE1C-8F7E-4E53-AB7F-8AA1C3E6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CA5A4-1080-47EF-A392-387F093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0159-6C04-4EB9-973C-D613417E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E79E-9DE4-4222-9E03-06D1EA2391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C6B1-FE25-4621-8F71-415363B24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0000" y="1883880"/>
            <a:ext cx="60195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Unit 1: task 2b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riers To Effective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ngs that affect effective communication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s (distr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ncer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gs that reduce the effect of communication barr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otal concerntration on the subject at hand even if you don’t lik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motivation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what you are doing so that you will keep th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what you are talking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Barriers to effective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off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of different status’s having different working qua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ngle person away from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of different status’s, class, et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do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ltural Barriers to effective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reo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different verbal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08:08:32Z</dcterms:created>
  <dc:creator>06faulkm</dc:creator>
  <dc:description/>
  <dc:language>en-US</dc:language>
  <cp:lastModifiedBy>06faulkm</cp:lastModifiedBy>
  <dcterms:modified xsi:type="dcterms:W3CDTF">2011-10-06T10:27:48Z</dcterms:modified>
  <cp:revision>9</cp:revision>
  <dc:subject/>
  <dc:title>Unit 1: task 2b</dc:title>
</cp:coreProperties>
</file>