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4F59-C18E-46B6-B8DC-D9CFDE223F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are several ways of communicating. One way is across the internet where two people may send messages in text form or use a video call feature where they may see one another at each end of their screens and talk.</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ther way of communicating is to talk directly to a person face to face. </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ice Modulation-The ability to control your voice in a manner of such that you are able to get people to take in what you are saying by raising your voice, changing the tone of your voice or any other techniques to change the way your voice sounds. This is used when talking to people whether it’s guiding though instructions, helping someone, socialising, telling people what to do, etc…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erminology-The ability to use technical terms/words on a subject to explain clearly what you need to, to a group of people who know the subject that you are on about. This type of communication is used when explaining things and trying to communicate with people who know about what you are talking abou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intonation-The ability to change pitch to emphasise what you are saying to allow the listener to take in what you emphasise. This is used when giving out information or instructions and when teach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ings like being uncomfortable in the given surroundings. For example: Temperature – Too hot and stuffy could cause a lack of concentration and drowsines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What is going on around you can distract you from the subject at hand. E.g. Police sirens, people shouting, etc…</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status of the person talking/communicating. If they are important then you will be more liable to listen to them. E.g. A president, a king, a leader, etc… If the communicator has no important role or significance as a leader then they will not be listened to as well as an important figure.</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57051-004F-4CEE-AD82-0E6ED5263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90055-1314-4128-8638-B4BE6C967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5937F-73C4-4659-8BE8-F38A6E9B2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B7F37-B2C6-4030-8669-CD34935F8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685FE6-C5A7-4D76-B128-773E3C4DF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00004-8983-4A4C-BFAD-2B84C2798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FFDF9-5BFA-42EE-B07E-C001B1668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61C58-2083-4075-B805-80B903261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0095A-9EB2-48B3-A5E2-2FE210249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7DAF3-BCCA-4EC3-BC8D-36B4F702C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DAF86-8B65-4AFC-BF9B-19DA6018C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19C0F-BC42-41CB-9090-01FDAF50E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B1094-3B10-4DDE-A5E4-81E945F4E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A4BE0-7A91-405B-8EF4-04CED7575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CC938-956C-4DC5-B76A-A0FBDAD86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A4E25-9821-4942-B070-CD06E68000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C17D1-3853-4519-B4B4-9F06A4285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A211C-4E7B-4BAC-875C-7BE0D7034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DE886-D421-4ECF-8F1F-35061772D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688CE-4E09-42BE-9351-7142058FE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86E2E-5E60-4791-ACEA-A8CB92F7D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AF9CB-A642-44ED-8C8E-2585460F0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AA4BE-516B-4D03-B0BB-DC9CD2FED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0CC9B-64F6-4573-AA28-0ED35304D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1C04-7C1D-41AD-8910-75BDD690A04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C87D-FA71-47F2-898D-9A0C26B6553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0"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Arial"/>
              </a:rPr>
              <a:t>Unit 1: Task 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ays of Communicating</a:t>
            </a:r>
            <a:endParaRPr b="0" lang="en-US" sz="4200" spc="-1" strike="noStrike">
              <a:solidFill>
                <a:srgbClr val="000000"/>
              </a:solidFill>
              <a:latin typeface="Arial"/>
            </a:endParaRPr>
          </a:p>
        </p:txBody>
      </p:sp>
      <p:sp>
        <p:nvSpPr>
          <p:cNvPr id="9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is the act of engaging with another person through speaking, use of text and action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ommunication methods</a:t>
            </a:r>
            <a:endParaRPr b="0" lang="en-US" sz="4200" spc="-1" strike="noStrike">
              <a:solidFill>
                <a:srgbClr val="000000"/>
              </a:solidFill>
              <a:latin typeface="Arial"/>
            </a:endParaRPr>
          </a:p>
        </p:txBody>
      </p:sp>
      <p:sp>
        <p:nvSpPr>
          <p:cNvPr id="10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can be carried out in many ways but without the necessary methods to do so we cannot communica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523880" y="333360"/>
            <a:ext cx="7010640" cy="568656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ech-When you communicate through words so that another person can hear you.</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sture-When you communicate through actions that are familiar to another person so that they understan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xt-When you communicate though letters written down on anyth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erbal Communication</a:t>
            </a:r>
            <a:endParaRPr b="0" lang="en-US" sz="4200" spc="-1" strike="noStrike">
              <a:solidFill>
                <a:srgbClr val="000000"/>
              </a:solidFill>
              <a:latin typeface="Arial"/>
            </a:endParaRPr>
          </a:p>
        </p:txBody>
      </p:sp>
      <p:pic>
        <p:nvPicPr>
          <p:cNvPr id="104" name="" descr=""/>
          <p:cNvPicPr/>
          <p:nvPr/>
        </p:nvPicPr>
        <p:blipFill>
          <a:blip r:embed="rId1"/>
          <a:stretch/>
        </p:blipFill>
        <p:spPr>
          <a:xfrm>
            <a:off x="1692360" y="1628640"/>
            <a:ext cx="6192720" cy="5065920"/>
          </a:xfrm>
          <a:prstGeom prst="rect">
            <a:avLst/>
          </a:prstGeom>
          <a:ln w="34920">
            <a:solidFill>
              <a:srgbClr val="336666"/>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4809"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04"/>
                    </p:tgtEl>
                  </p:cond>
                </p:stCondLst>
                <p:childTnLst>
                  <p:par>
                    <p:cTn id="8" fill="hold">
                      <p:stCondLst>
                        <p:cond evt="onClick">
                          <p:tgtEl>
                            <p:spTgt spid="10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les of communicating through speech</a:t>
            </a:r>
            <a:endParaRPr b="0" lang="en-US" sz="4200" spc="-1" strike="noStrike">
              <a:solidFill>
                <a:srgbClr val="000000"/>
              </a:solidFill>
              <a:latin typeface="Arial"/>
            </a:endParaRPr>
          </a:p>
        </p:txBody>
      </p:sp>
      <p:sp>
        <p:nvSpPr>
          <p:cNvPr id="10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ye contact.</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 Sound Boring (Engage the listener).</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 who you are talking with.</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 what you are talking about.</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 why you’re talking.</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a little at a time.</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ing understand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nciples of communicating through Non-Verbal Means.</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hand gestures clearly – Or body language.</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in a structured way so that it is easy for anyone to read.</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in small sections at a time so that the text seems simpler to understand.</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 business logo’s to show the message is formal.</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pt to your audience. This helps to get the audience to understand you.</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a webcam for video communication.</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al expressions.</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Internet usage.</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ne us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ariables that effect communication.</a:t>
            </a:r>
            <a:endParaRPr b="0" lang="en-US" sz="4200" spc="-1" strike="noStrike">
              <a:solidFill>
                <a:srgbClr val="000000"/>
              </a:solidFill>
              <a:latin typeface="Arial"/>
            </a:endParaRPr>
          </a:p>
        </p:txBody>
      </p:sp>
      <p:sp>
        <p:nvSpPr>
          <p:cNvPr id="1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ll sorts of things that can effect the message you are trying to get across which can disrupt the concentration from the communic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Non-Verbal Communication </a:t>
            </a:r>
            <a:endParaRPr b="0" lang="en-US" sz="4200" spc="-1" strike="noStrike">
              <a:solidFill>
                <a:srgbClr val="000000"/>
              </a:solidFill>
              <a:latin typeface="Arial"/>
            </a:endParaRPr>
          </a:p>
        </p:txBody>
      </p:sp>
      <p:pic>
        <p:nvPicPr>
          <p:cNvPr id="112" name="" descr=""/>
          <p:cNvPicPr/>
          <p:nvPr/>
        </p:nvPicPr>
        <p:blipFill>
          <a:blip r:embed="rId1"/>
          <a:stretch/>
        </p:blipFill>
        <p:spPr>
          <a:xfrm>
            <a:off x="1692360" y="1700280"/>
            <a:ext cx="6048360" cy="4948200"/>
          </a:xfrm>
          <a:prstGeom prst="rect">
            <a:avLst/>
          </a:prstGeom>
          <a:ln w="44280">
            <a:solidFill>
              <a:srgbClr val="336666"/>
            </a:solidFill>
            <a:miter/>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78443"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12"/>
                    </p:tgtEl>
                  </p:cond>
                </p:stCondLst>
                <p:childTnLst>
                  <p:par>
                    <p:cTn id="19" fill="hold">
                      <p:stCondLst>
                        <p:cond evt="onClick">
                          <p:tgtEl>
                            <p:spTgt spid="112"/>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08:25:53Z</dcterms:created>
  <dc:creator>06faulkm</dc:creator>
  <dc:description/>
  <dc:language>en-US</dc:language>
  <cp:lastModifiedBy>06faulkm</cp:lastModifiedBy>
  <dcterms:modified xsi:type="dcterms:W3CDTF">2011-10-04T08:55:03Z</dcterms:modified>
  <cp:revision>16</cp:revision>
  <dc:subject/>
  <dc:title>Unit 1: Task 2</dc:title>
</cp:coreProperties>
</file>