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9F523-B4FB-4846-95BD-3CE0CFBC5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31F04-7661-4A33-BCCB-1BA5175B2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E13C0-F1D3-468C-9193-39FC0996F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46AB4-C5F1-42DD-9B92-23D5A6A99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55178-0890-4FC3-A386-49B6D2C8C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58F11-E825-40EE-9E8A-575751BC3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CB1D2D-72D9-4826-BDCE-C9A95015C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2E1DAE-1056-4502-9386-58D8E7F38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F4A18-EE91-44BF-8BC3-9820555C0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217C9-4749-4E85-AADF-33F47EA07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70A65-12CF-4A39-9DFE-56CAAA8C1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CA06C-1F32-4E86-92B0-E861C3EFF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35E4F-2586-4271-BF96-65015CAEB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1BB02-83E5-4798-AD0C-1ACB44782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88086-C1DC-44BD-808D-8F0329E7E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89CDF-D441-41AE-8B42-AD4CCA875F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A8007-D3B4-471C-A09E-B8808759B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AE398-592A-42EB-B573-3CC6282F4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57501-FC1E-4A04-9F6B-59C3C59E2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D3D92-B537-4D58-BC41-1CE696F7D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5CF6E-E3A4-46D8-9269-E4927C2AD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BD168-49C7-451E-B423-3D377DB5A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597BE-C9BD-4095-AA6D-731F8D71E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6DC72-3EC5-49CD-8D24-D5DB43CF6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1A94-2806-42EC-A6BE-3BF81486D93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BABE-FE9F-484A-887F-51C35A1FC26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Tahoma"/>
              </a:rPr>
              <a:t>What we’re looking for.</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403280" y="1412640"/>
            <a:ext cx="6400800" cy="432108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rd working people who are able to give their best work at all times. This is valued by an employee because it shows that you will give your best and that you will work hard for the job you are doing and also that you will be getting the company money. </a:t>
            </a: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termined workers who have the ability to keep going at what they are doing with a passion. This is valued by an employee because it shows that the individual can keep at the work the he/she is given no matter what. </a:t>
            </a:r>
            <a:endParaRPr b="0" lang="en-US" sz="1600" spc="-1" strike="noStrike">
              <a:solidFill>
                <a:srgbClr val="000000"/>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r>
              <a:rPr b="0" lang="en-US" sz="1600" spc="-1" strike="noStrike">
                <a:solidFill>
                  <a:srgbClr val="000000"/>
                </a:solidFill>
                <a:latin typeface="Tahoma"/>
              </a:rPr>
              <a:t>Dependable workers who we are able to trust to get things done. This is valued by an employee because it means they can be trusted to do things in their work and that they wont let people down. They can meet deadlines when needed and don’t need reminding about work that they have to do.</a:t>
            </a: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fident workers who have the ability to know that they are good at what they do and to know how to use what they know at work. This is valued by an employee because it comes with a positive attitude and shows that you know what you do and how to do i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Hard workers</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rd workers usually are noticed more, they stay on for more hours and earn more. They’re usually promoted quicker than others and give their all into their work.</a:t>
            </a:r>
            <a:br>
              <a:rPr sz="3200"/>
            </a:br>
            <a:br>
              <a:rPr sz="3200"/>
            </a:br>
            <a:r>
              <a:rPr b="0" lang="en-US" sz="3200" spc="-1" strike="noStrike">
                <a:solidFill>
                  <a:srgbClr val="000000"/>
                </a:solidFill>
                <a:latin typeface="Tahoma"/>
              </a:rPr>
              <a:t>Employees value these kinds of workers because they profit from them and gain positive attitudes for hard work in a workpl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Determined workers</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ed workers are workers who will work at any task without question and do their work with a passion. </a:t>
            </a:r>
            <a:br>
              <a:rPr sz="3200"/>
            </a:br>
            <a:br>
              <a:rPr sz="3200"/>
            </a:br>
            <a:br>
              <a:rPr sz="3200"/>
            </a:br>
            <a:r>
              <a:rPr b="0" lang="en-US" sz="3200" spc="-1" strike="noStrike">
                <a:solidFill>
                  <a:srgbClr val="000000"/>
                </a:solidFill>
                <a:latin typeface="Tahoma"/>
              </a:rPr>
              <a:t>Employees value this attribute because it shows that a person has commitment to their work and will do their given task to contribute towards their job.</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Dependable workers</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pendable workers are workers who can finish a task without constant reminding about it and ones you can depend on.</a:t>
            </a:r>
            <a:br>
              <a:rPr sz="2800"/>
            </a:br>
            <a:br>
              <a:rPr sz="2800"/>
            </a:br>
            <a:r>
              <a:rPr b="0" lang="en-US" sz="2800" spc="-1" strike="noStrike">
                <a:solidFill>
                  <a:srgbClr val="000000"/>
                </a:solidFill>
                <a:latin typeface="Tahoma"/>
              </a:rPr>
              <a:t>Employees value this attribute because it means that hey can expect work to be done from these workers and rely on them without having to go through the process of having to ask for work/deadlines/jobs to be done agai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fident worker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dent workers are workers who know what they are good at and can help other people in a workplace because they can apply what they know to a situation and to their work.</a:t>
            </a:r>
            <a:br>
              <a:rPr sz="2400"/>
            </a:br>
            <a:br>
              <a:rPr sz="2400"/>
            </a:br>
            <a:r>
              <a:rPr b="0" lang="en-US" sz="2400" spc="-1" strike="noStrike">
                <a:solidFill>
                  <a:srgbClr val="000000"/>
                </a:solidFill>
                <a:latin typeface="Tahoma"/>
              </a:rPr>
              <a:t>Employees very much value this attribute because it means that this worker is capable of working efficiently and spreading a confident attitude across the workplace by helping others and showing others how to do tasks or certain jobs. It is also valued because it means that the individual with this characteristic can be promoted as a leader of a working team or un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titudes</a:t>
            </a:r>
            <a:endParaRPr b="0" lang="en-US" sz="4400" spc="-1" strike="noStrike">
              <a:solidFill>
                <a:srgbClr val="333399"/>
              </a:solidFill>
              <a:latin typeface="Tahoma"/>
            </a:endParaRPr>
          </a:p>
        </p:txBody>
      </p:sp>
      <p:graphicFrame>
        <p:nvGraphicFramePr>
          <p:cNvPr id="110" name=""/>
          <p:cNvGraphicFramePr/>
          <p:nvPr/>
        </p:nvGraphicFramePr>
        <p:xfrm>
          <a:off x="1182600" y="2017800"/>
          <a:ext cx="7772400" cy="4779720"/>
        </p:xfrm>
        <a:graphic>
          <a:graphicData uri="http://schemas.openxmlformats.org/drawingml/2006/table">
            <a:tbl>
              <a:tblPr/>
              <a:tblGrid>
                <a:gridCol w="2590920"/>
                <a:gridCol w="2590920"/>
                <a:gridCol w="259056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Attitud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Description of attitu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Why do employers value this attitu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Hard work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Able to give your best work at all tim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shows that you will give your best and that you will work hard for the job you are doing and also that you will be getting the company mone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Independ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Able to work on your own as an individual and get on with i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shows that an individual can work without constant supervision and can work on their ow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Determin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he ability to keep going at what you are doing with a pass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shows that the individual can keep at the work the he/she is given no matter wh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lera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 be able to work with other people and be ‘tolerant’ or be able to handle working with them even if there are differen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means you can work with a wide variety of people and people who might annoy 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Leadersh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he ability to be able to be in charge of a situation and work over a team of peop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means you can take charge and can be left in charge of a certain sector of wo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Dependa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Able to be trusted to get things d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means you can be trusted to do things in your work and that you wont let people dow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onfid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he ability to know that you are good at what you do and to know how to use what you kn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comes with a positive attitude and shows that you know what you do and how to do i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roblem solv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he ability to be able to sort problems out and make sense of a bad or tricky sit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can be a good ability to have when problems are faced. It allows you to be able to sort problems of any sor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al attributes </a:t>
            </a:r>
            <a:br>
              <a:rPr sz="4400"/>
            </a:br>
            <a:r>
              <a:rPr b="0" lang="en-US" sz="4400" spc="-1" strike="noStrike">
                <a:solidFill>
                  <a:srgbClr val="333399"/>
                </a:solidFill>
                <a:latin typeface="Tahoma"/>
              </a:rPr>
              <a:t>(for any job)</a:t>
            </a:r>
            <a:endParaRPr b="0" lang="en-US" sz="4400" spc="-1" strike="noStrike">
              <a:solidFill>
                <a:srgbClr val="333399"/>
              </a:solidFill>
              <a:latin typeface="Tahoma"/>
            </a:endParaRPr>
          </a:p>
        </p:txBody>
      </p:sp>
      <p:graphicFrame>
        <p:nvGraphicFramePr>
          <p:cNvPr id="112" name=""/>
          <p:cNvGraphicFramePr/>
          <p:nvPr/>
        </p:nvGraphicFramePr>
        <p:xfrm>
          <a:off x="1182600" y="2017800"/>
          <a:ext cx="7772400" cy="4114800"/>
        </p:xfrm>
        <a:graphic>
          <a:graphicData uri="http://schemas.openxmlformats.org/drawingml/2006/table">
            <a:tbl>
              <a:tblPr/>
              <a:tblGrid>
                <a:gridCol w="2590920"/>
                <a:gridCol w="2590920"/>
                <a:gridCol w="2590560"/>
              </a:tblGrid>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Attribu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Description of attribu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Why do employers value this attribu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Planning skil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he ability to prepare in adva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means that the person who has this skill can prepare for things in advance and therefore are relia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Organisational skil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he ability to organise and be able to ready in an orderly fash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shows that an individual isn’t messy and is orderly in how they wor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ime manag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ing able to manage your ti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Because it shows that you can work according to deadlines by managing your time apropriatle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Verbal skil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ing able to communicate clearly through talk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shows that you can work with other people and get things across easil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Written skil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ing able to communicate the right message through writing/tex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means that people reading your writing can understand what you are putting across to the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Numerac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ing able to work with numbers effectivel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can be valued for someone with the role of figuring out statistics and other math related job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Creativ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he ability to think outside the box and to come up with new ide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can mean new things for a business and different ideas can potentially make the business bett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Specific attributes (ICT Job related)</a:t>
            </a:r>
            <a:endParaRPr b="0" lang="en-US" sz="4400" spc="-1" strike="noStrike">
              <a:solidFill>
                <a:srgbClr val="333399"/>
              </a:solidFill>
              <a:latin typeface="Tahoma"/>
            </a:endParaRPr>
          </a:p>
        </p:txBody>
      </p:sp>
      <p:graphicFrame>
        <p:nvGraphicFramePr>
          <p:cNvPr id="114" name=""/>
          <p:cNvGraphicFramePr/>
          <p:nvPr/>
        </p:nvGraphicFramePr>
        <p:xfrm>
          <a:off x="1182600" y="2017800"/>
          <a:ext cx="7772400" cy="4132080"/>
        </p:xfrm>
        <a:graphic>
          <a:graphicData uri="http://schemas.openxmlformats.org/drawingml/2006/table">
            <a:tbl>
              <a:tblPr/>
              <a:tblGrid>
                <a:gridCol w="2590920"/>
                <a:gridCol w="2590920"/>
                <a:gridCol w="2590560"/>
              </a:tblGrid>
              <a:tr h="40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Attribu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Description of attribu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imes New Roman"/>
                        </a:rPr>
                        <a:t>Why do employers value this attribu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0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echnical knowled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Knowing about machines and being able to work the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this can be good for repairing machines and working on the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Good working proced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ing through a set schedule to work towards proced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cause this means that the individual is prepared and able to know what tasks are needed to be d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2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Health and safe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ing aware of health and safety, and the issues surrounding them on mach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Because it shows a person’s understanding of health and safety and also that they provide the skills to apply their knowled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7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Securi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Times New Roman"/>
                        </a:rPr>
                        <a:t>The ability to be able to secure passwords and security codes on machines like computers. (Pc’s, printers, photocopyers, et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means all of the work and data on computers can be secure and be safe from hackers or people who might try to get onto databa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6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Keeping up to date with technolog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To know what all of the latest equipment i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Because it means that all of the equipment that a workplace uses is up-to-da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8:34:41Z</dcterms:created>
  <dc:creator>06faulkm</dc:creator>
  <dc:description/>
  <dc:language>en-US</dc:language>
  <cp:lastModifiedBy>06faulkm</cp:lastModifiedBy>
  <dcterms:modified xsi:type="dcterms:W3CDTF">2011-09-16T13:57:42Z</dcterms:modified>
  <cp:revision>6</cp:revision>
  <dc:subject/>
  <dc:title>What we’re looking for.</dc:title>
</cp:coreProperties>
</file>