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203F1-C82E-443A-B00B-96C4A3FD20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CA9EF-5965-4961-9344-D0E40D825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2710D-0F77-414B-B0AB-B8802E889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66833-886F-4D9C-B53B-2FADDC4D5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04206C-EB13-461F-BD89-68461F199D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DD88FA-08C6-4946-907A-8367BAD778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2CF76-9372-4FF6-A0DD-6C062D5DA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972A53-C7F6-4B67-AE8F-B6A6CA47B3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C5024B-E548-45CA-AC19-7E568BC5B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70B61B-A1C2-41F2-8F2F-57D36994DF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05B03-B960-451C-8743-1E6DF333E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F015C-C3AD-453D-A859-54BBF09F6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6368E-1346-4185-8DDC-3E2B6548C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7FEC6-B288-4EFB-8BE4-471B1D384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F2307E-41E4-4FE2-8BA3-AEAA1EAD42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BB6A1F-A7F3-4260-A393-F78F4D0246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952C27-EA84-4DE5-91CA-4BE9FFA459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524C8-7942-4050-83D3-65B10A2B5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D6E30-869A-477B-A1D4-964E9BBD4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5C9C5-E26A-489E-B50F-8DE4A278A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934F5-BE15-4E3D-9749-835D197CA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1CCEA-B62E-4622-890B-1EA553669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EDC33-08A6-4CC2-A587-8B27F546C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B8C93-DED6-4DE4-A358-C6D8C8761E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38563-0B4F-43B0-AFA1-27517D45F6D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14627-21B6-4BBC-867C-38DDE125FAC5}"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55640" y="-3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3399"/>
                </a:solidFill>
                <a:uFillTx/>
                <a:latin typeface="Tahoma"/>
              </a:rPr>
              <a:t>What we’re looking for.</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403280" y="1412640"/>
            <a:ext cx="6400800" cy="432108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rd working people who are able to give their best work at all times. This is valued by an employee because it shows that you will give your best and that you will work hard for the job you are doing and also that you will be getting the company money. </a:t>
            </a:r>
            <a:endParaRPr b="0" lang="en-US" sz="1600" spc="-1" strike="noStrike">
              <a:solidFill>
                <a:srgbClr val="000000"/>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termined workers who have the ability to keep going at what they are doing with a passion. This is valued by an employee because it shows that the individual can keep at the work the he/she is given no matter what. </a:t>
            </a:r>
            <a:endParaRPr b="0" lang="en-US" sz="16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600" spc="-1" strike="noStrike">
                <a:solidFill>
                  <a:srgbClr val="000000"/>
                </a:solidFill>
                <a:latin typeface="Tahoma"/>
              </a:rPr>
              <a:t>Dependable workers who we are able to trust to get things done. This is valued by an employee because it means they can be trusted to do things in their work and that they wont let people down. They can meet deadlines when needed and don’t need reminding about work that they have to do.</a:t>
            </a:r>
            <a:endParaRPr b="0" lang="en-US" sz="1600" spc="-1" strike="noStrike">
              <a:solidFill>
                <a:srgbClr val="000000"/>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fident workers who have the ability to know that they are good at what they do and to know how to use what they know at work. This is valued by an employee because it comes with a positive attitude and shows that you know what you do and how to do i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3399"/>
                </a:solidFill>
                <a:uFillTx/>
                <a:latin typeface="Tahoma"/>
              </a:rPr>
              <a:t>Hard workers</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rd workers usually are noticed more, they stay on for more hours and earn more. They’re usually promoted quicker than others and give their all into their work.</a:t>
            </a:r>
            <a:br>
              <a:rPr sz="3200"/>
            </a:br>
            <a:br>
              <a:rPr sz="3200"/>
            </a:br>
            <a:r>
              <a:rPr b="0" lang="en-US" sz="3200" spc="-1" strike="noStrike">
                <a:solidFill>
                  <a:srgbClr val="000000"/>
                </a:solidFill>
                <a:latin typeface="Tahoma"/>
              </a:rPr>
              <a:t>Employees value these kinds of workers because they profit from them and gain positive attitudes for hard work in a workpla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3399"/>
                </a:solidFill>
                <a:uFillTx/>
                <a:latin typeface="Tahoma"/>
              </a:rPr>
              <a:t>Determined workers</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rmined workers are workers who will work at any task without question and do their work with a passion. </a:t>
            </a:r>
            <a:br>
              <a:rPr sz="3200"/>
            </a:br>
            <a:br>
              <a:rPr sz="3200"/>
            </a:br>
            <a:br>
              <a:rPr sz="3200"/>
            </a:br>
            <a:r>
              <a:rPr b="0" lang="en-US" sz="3200" spc="-1" strike="noStrike">
                <a:solidFill>
                  <a:srgbClr val="000000"/>
                </a:solidFill>
                <a:latin typeface="Tahoma"/>
              </a:rPr>
              <a:t>Employees value this attribute because it shows that a person has commitment to their work and will do their given task to contribute towards their job.</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3399"/>
                </a:solidFill>
                <a:uFillTx/>
                <a:latin typeface="Tahoma"/>
              </a:rPr>
              <a:t>Dependable workers</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pendable workers are workers who can finish a task without constant reminding about it and ones you can depend on.</a:t>
            </a:r>
            <a:br>
              <a:rPr sz="2800"/>
            </a:br>
            <a:br>
              <a:rPr sz="2800"/>
            </a:br>
            <a:r>
              <a:rPr b="0" lang="en-US" sz="2800" spc="-1" strike="noStrike">
                <a:solidFill>
                  <a:srgbClr val="000000"/>
                </a:solidFill>
                <a:latin typeface="Tahoma"/>
              </a:rPr>
              <a:t>Employees value this attribute because it means that hey can expect work to be done from these workers and rely on them without having to go through the process of having to ask for work/deadlines/jobs to be done agai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fident workers</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fident workers are workers who know what they are good at and can help other people in a workplace because they can apply what they know to a situation and to their work.</a:t>
            </a:r>
            <a:br>
              <a:rPr sz="2400"/>
            </a:br>
            <a:br>
              <a:rPr sz="2400"/>
            </a:br>
            <a:r>
              <a:rPr b="0" lang="en-US" sz="2400" spc="-1" strike="noStrike">
                <a:solidFill>
                  <a:srgbClr val="000000"/>
                </a:solidFill>
                <a:latin typeface="Tahoma"/>
              </a:rPr>
              <a:t>Employees very much value this attribute because it means that this worker is capable of working efficiently and spreading a confident attitude across the workplace by helping others and showing others how to do tasks or certain jobs. It is also valued because it means that the individual with this characteristic can be promoted as a leader of a working team or uni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5T08:34:41Z</dcterms:created>
  <dc:creator>06faulkm</dc:creator>
  <dc:description/>
  <dc:language>en-US</dc:language>
  <cp:lastModifiedBy>06faulkm</cp:lastModifiedBy>
  <dcterms:modified xsi:type="dcterms:W3CDTF">2011-09-16T12:31:31Z</dcterms:modified>
  <cp:revision>5</cp:revision>
  <dc:subject/>
  <dc:title>What we’re looking for.</dc:title>
</cp:coreProperties>
</file>