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media/image2.png" ContentType="image/png"/>
  <Override PartName="/ppt/media/image3.png" ContentType="image/png"/>
  <Override PartName="/ppt/media/image4.png" ContentType="image/png"/>
  <Override PartName="/ppt/media/image5.png" ContentType="image/png"/>
  <Override PartName="/ppt/media/image8.jpeg" ContentType="image/jpeg"/>
  <Override PartName="/ppt/media/image1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C47C6-4459-4D98-B3C2-0678F7FF7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2DAA1-AFDE-4FA7-A8C1-C6EC25810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C29BC-C1FC-496F-9FAB-09CF5B0A31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E4999-9E79-4CD9-8199-5E9326127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9F46C-2E67-469A-BDCD-373768B69F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0693B-A581-4CB2-912F-38FC12C0C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BC3E6-CBAB-4DB5-839F-CCD5380C1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D563D-22DC-4ECE-97B5-664AC7CFB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FA102-188D-4AE3-971D-5B1BBDA6B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5E892-1A1C-44D1-B1C9-A87565602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65102-123D-4A41-9AD0-52FCED355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E3268-52C9-4EFF-BB09-05B3FDDBA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37E83-8F4B-41A0-91F0-A76282AF6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EFD57-8564-45D1-A740-87B1F5AFB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1A277-A0E7-4275-94DF-C6A777155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13AFC-D924-4C06-AC36-14AA55848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CA85A-13D5-4207-B9D6-861441A94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9EB451-DD2B-42BF-A5D3-5AFF1C63C3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99CC01-F0FD-4F98-8178-62D3757BBA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CE95C7-11D9-48CD-9ADE-9B210BA767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D76746-E58B-481D-A856-885B60F7C3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7C3C76-FDEE-495E-820A-DE4311549F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34609-E4D9-4CC9-AB92-9BEA64352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474735-72CA-4446-821E-8DCF76B19C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15A3E9-79A5-4639-BC86-1710C049E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B05DF-36F0-4092-BFE3-885331346E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E5F97-FA02-42BE-A756-F4BE01F6E0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F4E6C8-3271-4981-BBFC-A9D9AE67E8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BEDBA7-8A60-4BC0-AD25-B61B9D8F7C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1C4477-0F4C-405D-AFA8-1C71CDA68A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FD258E-7AFF-47DF-9B17-EF899E3890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0412DF-F80C-4A4E-A355-342ADC9DB9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125DB5-E17B-427D-95D4-4B9D0F8990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4E63B-8F62-42D6-83F7-37C17DF4B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4BCDB6-4298-469A-B876-FB0092F1A3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C2C11C-239C-4D6C-BE62-27C2922C43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7895B5-CFAF-4BB7-8733-D66A8D97BB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A628AC-EA03-4CC4-857D-323828C3C4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3FC02-048F-4F8D-8CEA-1222C7AB26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D3C60-4B15-4965-A5BC-5E8A0BCEB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97D887-300E-4211-922F-F0A82AA483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DD2B78-B48C-4CE5-B1B2-41FF7E0E0B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B62194-5D2A-4080-86B6-C967A25FAC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D8E2F8-C12B-478A-8B4E-C35D44B624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6DAFB-6CBF-455A-9FF4-5D0CFCA62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4525E3-F610-4D28-A751-D40A840837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F84208-A1D1-4C37-B73B-2AE1B3316F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100812-C5FE-4F04-9B7E-F86E54DDFD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9BFCFA-959C-4A5A-B1DD-E68541FA15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2C30D0-12B8-4045-93B6-355AB570B0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97D73D-9F58-4F5A-858C-AD1D0B1DFB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625449-9DE3-46ED-8DDD-D51974B4F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429349-E90D-42F1-A42A-8A1FFC8CD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1DD7A5-4908-4A36-8539-36527C97EA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75B587-A9E8-4EBD-A611-9FABD038C3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66363-7642-4FC1-9507-CEC64A8F0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E91642-4452-4B95-9A9D-9329EDAE48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0D27DA-D500-469E-BFCE-A045D97502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E7D761-F177-4269-91A1-709D96F943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E231D1-5A7D-453E-9ACC-0D69508ED6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65EBD8-87D3-417A-B398-A4680D51FF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CCE7EC-C03E-4141-BDB9-96AFFE3CD3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3B0638-F579-414E-BB2E-6B77EA34F3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177B75-0A16-4A1A-B565-4A743E676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7500A1-91DD-4623-A1CE-85021C6A67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97A37A-BE94-4D7E-9E4A-B8F473CFC6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9CBF5-A885-456F-B7AE-431099E91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A28932-F8B6-4E83-9FB4-AC3560740A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62E4CE-7F9B-4BC8-B27E-5308FACB84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BD17DE-E327-4704-9CAB-465A1F3163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0B8024-202E-467F-9B62-DF9C8AE9BC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FEA3CC-0A04-4C08-A3C6-81B3B48B9C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DBDD64-82C7-4899-9FE8-FB8ACD87EF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E0DCAD-9AA9-4660-A1F1-2B9623173D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973F4A-F0E5-4BF4-871A-E3DE4C9823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BC9392-1C08-44DF-9381-37A04DD8A8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85B9D8-C67D-4472-85BB-A005CB2F2D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C2237-D4AB-4FB8-A60F-0EF34BE83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38681C-36BB-4CCC-BC06-FA0C9EAF42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286F16-2583-47A9-BAFB-58D9B8297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A27159-37AC-4E76-92FE-E0D15C6094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8D15FC-3EDB-4EB6-B0E6-AB3C737F95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C1242C-0BFF-48FF-A86C-F0B117ACFE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C0E06-CF4C-4093-9DD8-ED5025FDE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97EDB-D7FE-4C1A-A797-02E3F74565BD}" type="datetime">
              <a:rPr b="0" lang="de-DE" sz="1200" spc="-1" strike="noStrike">
                <a:solidFill>
                  <a:srgbClr val="b5a788"/>
                </a:solidFill>
                <a:latin typeface="Times New Roman"/>
              </a:rPr>
              <a:t>28.07.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738F8F-396A-4828-A6D2-ADE62F9A7752}" type="slidenum">
              <a:rPr b="0" lang="de-DE"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55" name="Oval 12"/>
          <p:cNvGrpSpPr/>
          <p:nvPr/>
        </p:nvGrpSpPr>
        <p:grpSpPr>
          <a:xfrm>
            <a:off x="914400" y="1401840"/>
            <a:ext cx="225360" cy="231840"/>
            <a:chOff x="914400" y="1401840"/>
            <a:chExt cx="225360" cy="231840"/>
          </a:xfrm>
        </p:grpSpPr>
        <p:pic>
          <p:nvPicPr>
            <p:cNvPr id="56" name="Oval 12" descr=""/>
            <p:cNvPicPr/>
            <p:nvPr/>
          </p:nvPicPr>
          <p:blipFill>
            <a:blip r:embed="rId4"/>
            <a:stretch/>
          </p:blipFill>
          <p:spPr>
            <a:xfrm>
              <a:off x="914400" y="1401840"/>
              <a:ext cx="225360" cy="23184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E471D-003D-44D3-BC49-25408F436AC0}" type="datetime">
              <a:rPr b="0" lang="de-DE" sz="1200" spc="-1" strike="noStrike">
                <a:solidFill>
                  <a:srgbClr val="b5a788"/>
                </a:solidFill>
                <a:latin typeface="Times New Roman"/>
              </a:rPr>
              <a:t>28.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15C8E5-218A-4FF4-9997-DFC5B6F71541}" type="slidenum">
              <a:rPr b="0" lang="de-DE"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102" name="Oval 15"/>
          <p:cNvGrpSpPr/>
          <p:nvPr/>
        </p:nvGrpSpPr>
        <p:grpSpPr>
          <a:xfrm>
            <a:off x="2163600" y="2803680"/>
            <a:ext cx="225720" cy="231480"/>
            <a:chOff x="2163600" y="2803680"/>
            <a:chExt cx="225720" cy="231480"/>
          </a:xfrm>
        </p:grpSpPr>
        <p:pic>
          <p:nvPicPr>
            <p:cNvPr id="103" name="Oval 15" descr=""/>
            <p:cNvPicPr/>
            <p:nvPr/>
          </p:nvPicPr>
          <p:blipFill>
            <a:blip r:embed="rId3"/>
            <a:stretch/>
          </p:blipFill>
          <p:spPr>
            <a:xfrm>
              <a:off x="2163600" y="2803680"/>
              <a:ext cx="225720" cy="23148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E1E38-8F33-42B4-901C-40F4CE8473D3}" type="datetime">
              <a:rPr b="0" lang="de-DE" sz="1200" spc="-1" strike="noStrike">
                <a:solidFill>
                  <a:srgbClr val="b5a788"/>
                </a:solidFill>
                <a:latin typeface="Times New Roman"/>
              </a:rPr>
              <a:t>28.07.26</a:t>
            </a:fld>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F2BA1-B6CC-4413-800F-3F64FEA7CA4E}" type="slidenum">
              <a:rPr b="0" lang="de-DE"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D0A0C-34C6-438A-9ADA-A6EA661EFC44}" type="datetime">
              <a:rPr b="0" lang="de-DE" sz="1200" spc="-1" strike="noStrike">
                <a:solidFill>
                  <a:srgbClr val="b5a788"/>
                </a:solidFill>
                <a:latin typeface="Times New Roman"/>
              </a:rPr>
              <a:t>28.07.26</a:t>
            </a:fld>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92131-689A-47C9-AF4A-2FF217F00092}" type="slidenum">
              <a:rPr b="0" lang="de-DE"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2C73EC-7E2E-47C0-88BA-125CC204540D}" type="datetime">
              <a:rPr b="0" lang="de-DE" sz="1200" spc="-1" strike="noStrike">
                <a:solidFill>
                  <a:srgbClr val="b5a788"/>
                </a:solidFill>
                <a:latin typeface="Times New Roman"/>
              </a:rPr>
              <a:t>28.07.26</a:t>
            </a:fld>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400969-3FD1-4A16-AD14-5C3AE23AAA43}" type="slidenum">
              <a:rPr b="0" lang="de-DE"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2B74E-D087-404B-818A-82950A854F84}" type="datetime">
              <a:rPr b="0" lang="de-DE" sz="1200" spc="-1" strike="noStrike">
                <a:solidFill>
                  <a:srgbClr val="b5a788"/>
                </a:solidFill>
                <a:latin typeface="Times New Roman"/>
              </a:rPr>
              <a:t>28.07.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B372F-99C8-4575-93A5-9303299C494B}" type="slidenum">
              <a:rPr b="0" lang="de-DE"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797360" cy="4797720"/>
            <a:chOff x="646200" y="969840"/>
            <a:chExt cx="4797360" cy="4797720"/>
          </a:xfrm>
        </p:grpSpPr>
        <p:pic>
          <p:nvPicPr>
            <p:cNvPr id="273" name="Rectangle 12" descr=""/>
            <p:cNvPicPr/>
            <p:nvPr/>
          </p:nvPicPr>
          <p:blipFill>
            <a:blip r:embed="rId3"/>
            <a:stretch/>
          </p:blipFill>
          <p:spPr>
            <a:xfrm>
              <a:off x="646200" y="969840"/>
              <a:ext cx="4797360" cy="479772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275" name="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6" name="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96746-7548-4205-B467-C503220FD9C6}" type="datetime">
              <a:rPr b="0" lang="de-DE" sz="1200" spc="-1" strike="noStrike">
                <a:solidFill>
                  <a:srgbClr val="b5a788"/>
                </a:solidFill>
                <a:latin typeface="Times New Roman"/>
              </a:rPr>
              <a:t>28.07.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de-DE"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CA092-603D-404D-AA64-4E5437E78D86}" type="slidenum">
              <a:rPr b="0" lang="de-DE"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228240"/>
            <a:ext cx="67816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300" spc="-1" strike="noStrike">
                <a:solidFill>
                  <a:srgbClr val="572314"/>
                </a:solidFill>
                <a:latin typeface="Gill Sans MT"/>
              </a:rPr>
              <a:t>Dolichocephalie</a:t>
            </a:r>
            <a:endParaRPr b="0" lang="en-US" sz="4300" spc="-1" strike="noStrike">
              <a:solidFill>
                <a:srgbClr val="572314"/>
              </a:solidFill>
              <a:latin typeface="Gill Sans MT"/>
            </a:endParaRPr>
          </a:p>
        </p:txBody>
      </p:sp>
      <p:sp>
        <p:nvSpPr>
          <p:cNvPr id="319" name="PlaceHolder 2"/>
          <p:cNvSpPr>
            <a:spLocks noGrp="1"/>
          </p:cNvSpPr>
          <p:nvPr>
            <p:ph type="subTitle"/>
          </p:nvPr>
        </p:nvSpPr>
        <p:spPr>
          <a:xfrm>
            <a:off x="1600200" y="3123720"/>
            <a:ext cx="6400800" cy="280692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Symptomatik,</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Diagnose,</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Indikatione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Therapie</a:t>
            </a:r>
            <a:endParaRPr b="0" lang="en-US" sz="2600" spc="-1" strike="noStrike">
              <a:solidFill>
                <a:srgbClr val="000000"/>
              </a:solidFill>
              <a:latin typeface="Gill Sans MT"/>
            </a:endParaRPr>
          </a:p>
        </p:txBody>
      </p:sp>
      <p:pic>
        <p:nvPicPr>
          <p:cNvPr id="320" name="Picture 3" descr="Dolichocephalie.jpg"/>
          <p:cNvPicPr/>
          <p:nvPr/>
        </p:nvPicPr>
        <p:blipFill>
          <a:blip r:embed="rId2"/>
          <a:stretch/>
        </p:blipFill>
        <p:spPr>
          <a:xfrm>
            <a:off x="5257800" y="717480"/>
            <a:ext cx="3416400" cy="481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äufigkeit des Auftretens</a:t>
            </a:r>
            <a:endParaRPr b="0" lang="en-US" sz="43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lIns="90000" rIns="90000" tIns="46800" bIns="46800"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It is estimated that craniosynostosis affects 1 in 2,000 to 2,500 live births worldwide. Sagittal synostosis is the most common phenotype, representing 40 to 55% of nonsyndromic cases.</a:t>
            </a:r>
            <a:r>
              <a:rPr b="0" lang="en-US" sz="2700" spc="-1" strike="noStrike" baseline="30000">
                <a:solidFill>
                  <a:srgbClr val="000000"/>
                </a:solidFill>
                <a:latin typeface="Gill Sans MT"/>
              </a:rPr>
              <a:t> </a:t>
            </a:r>
            <a:endParaRPr b="0" lang="en-US" sz="27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The second most common type is the coronal synostosis representing 20 to 25%.</a:t>
            </a:r>
            <a:r>
              <a:rPr b="0" lang="en-US" sz="2700" spc="-1" strike="noStrike" baseline="30000">
                <a:solidFill>
                  <a:srgbClr val="000000"/>
                </a:solidFill>
                <a:latin typeface="Gill Sans MT"/>
              </a:rPr>
              <a:t> </a:t>
            </a:r>
            <a:r>
              <a:rPr b="0" lang="en-US" sz="2700" spc="-1" strike="noStrike">
                <a:solidFill>
                  <a:srgbClr val="000000"/>
                </a:solidFill>
                <a:latin typeface="Gill Sans MT"/>
              </a:rPr>
              <a:t>The metopic synostosis comes third with 5 to 15% and the lambdoid synostosis is only seen in 0 to 5% of nonsyndromic cases.</a:t>
            </a:r>
            <a:endParaRPr b="0" lang="en-US" sz="27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In about 5 to 15% more than one suture is affected, which referred to as complex craniosynostosis. This is generally part of a syndrome.</a:t>
            </a:r>
            <a:endParaRPr b="0" lang="en-US" sz="27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Ursachendimensionen</a:t>
            </a:r>
            <a:endParaRPr b="0" lang="en-US" sz="4300" spc="-1" strike="noStrike">
              <a:solidFill>
                <a:srgbClr val="572314"/>
              </a:solidFill>
              <a:latin typeface="Gill Sans MT"/>
            </a:endParaRPr>
          </a:p>
        </p:txBody>
      </p:sp>
      <p:sp>
        <p:nvSpPr>
          <p:cNvPr id="343" name=""/>
          <p:cNvSpPr txBox="1"/>
          <p:nvPr/>
        </p:nvSpPr>
        <p:spPr>
          <a:xfrm>
            <a:off x="2438280" y="1447920"/>
            <a:ext cx="5423040" cy="449568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Biomechanik</a:t>
            </a:r>
            <a:endParaRPr b="0" lang="en-US" sz="4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Umwelteinflüsse</a:t>
            </a:r>
            <a:endParaRPr b="0" lang="en-US" sz="4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Hormonelle Faktoren</a:t>
            </a:r>
            <a:endParaRPr b="0" lang="en-US" sz="4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Genetik</a:t>
            </a:r>
            <a:endParaRPr b="0" lang="en-US" sz="4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300" spc="-1" strike="noStrike">
                <a:solidFill>
                  <a:srgbClr val="572314"/>
                </a:solidFill>
                <a:latin typeface="Gill Sans MT"/>
              </a:rPr>
              <a:t>P</a:t>
            </a:r>
            <a:r>
              <a:rPr b="0" lang="en-US" sz="4300" spc="-1" strike="noStrike">
                <a:solidFill>
                  <a:srgbClr val="572314"/>
                </a:solidFill>
                <a:latin typeface="Gill Sans MT"/>
              </a:rPr>
              <a:t>r</a:t>
            </a:r>
            <a:r>
              <a:rPr b="0" lang="de-DE" sz="4300" spc="-1" strike="noStrike">
                <a:solidFill>
                  <a:srgbClr val="572314"/>
                </a:solidFill>
                <a:latin typeface="Gill Sans MT"/>
              </a:rPr>
              <a:t>imäre Ursachen </a:t>
            </a:r>
            <a:endParaRPr b="0" lang="en-US" sz="4300" spc="-1" strike="noStrike">
              <a:solidFill>
                <a:srgbClr val="572314"/>
              </a:solidFill>
              <a:latin typeface="Gill Sans MT"/>
            </a:endParaRPr>
          </a:p>
        </p:txBody>
      </p:sp>
      <p:pic>
        <p:nvPicPr>
          <p:cNvPr id="345" name="Content Placeholder 3" descr="Bild 3.png"/>
          <p:cNvPicPr/>
          <p:nvPr/>
        </p:nvPicPr>
        <p:blipFill>
          <a:blip r:embed="rId2"/>
          <a:srcRect l="-25538" t="0" r="-25538" b="0"/>
          <a:stretch/>
        </p:blipFill>
        <p:spPr>
          <a:xfrm>
            <a:off x="1434960" y="144792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ekundäre Ursachen</a:t>
            </a:r>
            <a:endParaRPr b="0" lang="en-US" sz="4300" spc="-1" strike="noStrike">
              <a:solidFill>
                <a:srgbClr val="572314"/>
              </a:solidFill>
              <a:latin typeface="Gill Sans MT"/>
            </a:endParaRPr>
          </a:p>
        </p:txBody>
      </p:sp>
      <p:pic>
        <p:nvPicPr>
          <p:cNvPr id="347" name="Content Placeholder 3" descr="ursachen.png"/>
          <p:cNvPicPr/>
          <p:nvPr/>
        </p:nvPicPr>
        <p:blipFill>
          <a:blip r:embed="rId2"/>
          <a:srcRect l="0" t="-4894" r="0" b="-4894"/>
          <a:stretch/>
        </p:blipFill>
        <p:spPr>
          <a:xfrm>
            <a:off x="1434960" y="144792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300" spc="-1" strike="noStrike">
                <a:solidFill>
                  <a:srgbClr val="572314"/>
                </a:solidFill>
                <a:latin typeface="Gill Sans MT"/>
              </a:rPr>
              <a:t>Hypophosphatasie ?</a:t>
            </a:r>
            <a:endParaRPr b="0" lang="en-US" sz="4300" spc="-1" strike="noStrike">
              <a:solidFill>
                <a:srgbClr val="572314"/>
              </a:solidFill>
              <a:latin typeface="Gill Sans MT"/>
            </a:endParaRPr>
          </a:p>
        </p:txBody>
      </p:sp>
      <p:pic>
        <p:nvPicPr>
          <p:cNvPr id="349" name="Content Placeholder 3" descr="Bild 11.png"/>
          <p:cNvPicPr/>
          <p:nvPr/>
        </p:nvPicPr>
        <p:blipFill>
          <a:blip r:embed="rId2"/>
          <a:srcRect l="0" t="-2993" r="0" b="-2993"/>
          <a:stretch/>
        </p:blipFill>
        <p:spPr>
          <a:xfrm>
            <a:off x="1434960" y="144792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otentielle Ursachen laut NIH</a:t>
            </a:r>
            <a:endParaRPr b="0" lang="en-US" sz="4300" spc="-1" strike="noStrike">
              <a:solidFill>
                <a:srgbClr val="572314"/>
              </a:solidFill>
              <a:latin typeface="Gill Sans MT"/>
            </a:endParaRPr>
          </a:p>
        </p:txBody>
      </p:sp>
      <p:sp>
        <p:nvSpPr>
          <p:cNvPr id="351" name=""/>
          <p:cNvSpPr txBox="1"/>
          <p:nvPr/>
        </p:nvSpPr>
        <p:spPr>
          <a:xfrm>
            <a:off x="1434960" y="1447560"/>
            <a:ext cx="7499520" cy="4800600"/>
          </a:xfrm>
          <a:prstGeom prst="rect">
            <a:avLst/>
          </a:prstGeom>
          <a:noFill/>
          <a:ln w="0">
            <a:noFill/>
          </a:ln>
        </p:spPr>
        <p:txBody>
          <a:bodyPr lIns="90000" rIns="90000" tIns="46800" bIns="46800" anchor="t">
            <a:normAutofit fontScale="97000"/>
          </a:bodyPr>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armful insults at various stages of pregnancy can lead to developmental disorders. For example, a critical nutritional deficiency or exposure to an environmental insult during the first month of pregnancy (when the neural tube is formed) can produce neural tube defects such as anencephaly. </a:t>
            </a:r>
            <a:endParaRPr b="0" lang="en-US" sz="18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cientists are also concentrating their efforts on understanding the complex processes responsible for normal early development of the brain and nervous system and how the disruption of any of these processes results in congenital anomalies such as cephalic disorders. Understanding how genes control brain cell migration, proliferation, differentiation, and death, and how radiation, drugs, toxins, infections, and other factors disrupt these processes will aid in preventing many congenital neurological disorders. </a:t>
            </a:r>
            <a:endParaRPr b="0" lang="en-US" sz="18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urrently, researchers are examining the mechanisms involved in neurulation - the process of forming the neural tube. These studies will improve our understanding of this process and give insight into how the process can go awry and cause devastating congenital disorders. Investigators are also analyzing genes and gene products necessary for human brain development to achieve a better understanding of normal brain development in humans. </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iagnoseverfahren</a:t>
            </a:r>
            <a:endParaRPr b="0" lang="en-US" sz="4300" spc="-1" strike="noStrike">
              <a:solidFill>
                <a:srgbClr val="572314"/>
              </a:solidFill>
              <a:latin typeface="Gill Sans MT"/>
            </a:endParaRPr>
          </a:p>
        </p:txBody>
      </p:sp>
      <p:sp>
        <p:nvSpPr>
          <p:cNvPr id="35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Gill Sans MT"/>
              </a:rPr>
              <a:t>Manuelles Abtaste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Gill Sans MT"/>
              </a:rPr>
              <a:t>Röntgenuntersuchu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Gill Sans MT"/>
              </a:rPr>
              <a:t>Ultraschall</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Gill Sans MT"/>
              </a:rPr>
              <a:t>CT - Sca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Gill Sans MT"/>
              </a:rPr>
              <a:t>MRI</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Gill Sans MT"/>
              </a:rPr>
              <a:t>Goldstandard:</a:t>
            </a:r>
            <a:r>
              <a:rPr b="0" lang="de-DE" sz="3200" spc="-1" strike="noStrike">
                <a:solidFill>
                  <a:srgbClr val="000000"/>
                </a:solidFill>
                <a:latin typeface="Gill Sans MT"/>
              </a:rPr>
              <a:t>	</a:t>
            </a:r>
            <a:r>
              <a:rPr b="0" lang="de-DE" sz="3200" spc="-1" strike="noStrike">
                <a:solidFill>
                  <a:srgbClr val="000000"/>
                </a:solidFill>
                <a:latin typeface="Gill Sans MT"/>
              </a:rPr>
              <a:t>	</a:t>
            </a:r>
            <a:r>
              <a:rPr b="0" lang="de-DE" sz="3200" spc="-1" strike="noStrike">
                <a:solidFill>
                  <a:srgbClr val="000000"/>
                </a:solidFill>
                <a:latin typeface="Gill Sans MT"/>
              </a:rPr>
              <a:t>	</a:t>
            </a:r>
            <a:r>
              <a:rPr b="0" lang="de-DE" sz="3200" spc="-1" strike="noStrike">
                <a:solidFill>
                  <a:srgbClr val="000000"/>
                </a:solidFill>
                <a:latin typeface="Gill Sans MT"/>
              </a:rPr>
              <a:t>	</a:t>
            </a:r>
            <a:r>
              <a:rPr b="0" lang="de-DE" sz="3200" spc="-1" strike="noStrike">
                <a:solidFill>
                  <a:srgbClr val="000000"/>
                </a:solidFill>
                <a:latin typeface="Gill Sans MT"/>
              </a:rPr>
              <a:t>	</a:t>
            </a:r>
            <a:r>
              <a:rPr b="0" lang="de-DE" sz="3200" spc="-1" strike="noStrike">
                <a:solidFill>
                  <a:srgbClr val="000000"/>
                </a:solidFill>
                <a:latin typeface="Gill Sans MT"/>
              </a:rPr>
              <a:t>	</a:t>
            </a:r>
            <a:r>
              <a:rPr b="0" lang="de-DE" sz="3200" spc="-1" strike="noStrike">
                <a:solidFill>
                  <a:srgbClr val="000000"/>
                </a:solidFill>
                <a:latin typeface="Gill Sans MT"/>
              </a:rPr>
              <a:t>	</a:t>
            </a:r>
            <a:r>
              <a:rPr b="0" lang="de-DE" sz="3200" spc="-1" strike="noStrike">
                <a:solidFill>
                  <a:srgbClr val="000000"/>
                </a:solidFill>
                <a:latin typeface="Gill Sans MT"/>
              </a:rPr>
              <a:t>	</a:t>
            </a:r>
            <a:r>
              <a:rPr b="0" lang="de-DE" sz="3200" spc="-1" strike="noStrike">
                <a:solidFill>
                  <a:srgbClr val="000000"/>
                </a:solidFill>
                <a:latin typeface="Gill Sans MT"/>
              </a:rPr>
              <a:t>	</a:t>
            </a:r>
            <a:r>
              <a:rPr b="0" lang="de-DE" sz="3200" spc="-1" strike="noStrike">
                <a:solidFill>
                  <a:srgbClr val="000000"/>
                </a:solidFill>
                <a:latin typeface="Gill Sans MT"/>
              </a:rPr>
              <a:t>	</a:t>
            </a:r>
            <a:r>
              <a:rPr b="0" lang="de-DE" sz="3200" spc="-1" strike="noStrike">
                <a:solidFill>
                  <a:srgbClr val="000000"/>
                </a:solidFill>
                <a:latin typeface="Gill Sans MT"/>
              </a:rPr>
              <a:t>	</a:t>
            </a:r>
            <a:r>
              <a:rPr b="0" lang="de-DE" sz="3200" spc="-1" strike="noStrike">
                <a:solidFill>
                  <a:srgbClr val="000000"/>
                </a:solidFill>
                <a:latin typeface="Gill Sans MT"/>
              </a:rPr>
              <a:t>	</a:t>
            </a:r>
            <a:r>
              <a:rPr b="0" lang="de-DE" sz="3200" spc="-1" strike="noStrike">
                <a:solidFill>
                  <a:srgbClr val="000000"/>
                </a:solidFill>
                <a:latin typeface="Gill Sans MT"/>
              </a:rPr>
              <a:t>	</a:t>
            </a:r>
            <a:r>
              <a:rPr b="0" lang="de-DE" sz="3200" spc="-1" strike="noStrike">
                <a:solidFill>
                  <a:srgbClr val="000000"/>
                </a:solidFill>
                <a:latin typeface="Gill Sans MT"/>
              </a:rPr>
              <a:t>	</a:t>
            </a:r>
            <a:r>
              <a:rPr b="0" lang="de-DE" sz="3200" spc="-1" strike="noStrike">
                <a:solidFill>
                  <a:srgbClr val="000000"/>
                </a:solidFill>
                <a:latin typeface="Gill Sans MT"/>
              </a:rPr>
              <a:t>	</a:t>
            </a:r>
            <a:r>
              <a:rPr b="0" lang="de-DE" sz="3200" spc="-1" strike="noStrike">
                <a:solidFill>
                  <a:srgbClr val="000000"/>
                </a:solidFill>
                <a:latin typeface="Gill Sans MT"/>
              </a:rPr>
              <a:t>3-D C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54" name="Picture 3" descr="1271089-1281182-1313.jpg"/>
          <p:cNvPicPr/>
          <p:nvPr/>
        </p:nvPicPr>
        <p:blipFill>
          <a:blip r:embed="rId2"/>
          <a:stretch/>
        </p:blipFill>
        <p:spPr>
          <a:xfrm>
            <a:off x="5791320" y="1417680"/>
            <a:ext cx="3143160" cy="3659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P-Indikationen</a:t>
            </a:r>
            <a:endParaRPr b="0" lang="en-US" sz="4300" spc="-1" strike="noStrike">
              <a:solidFill>
                <a:srgbClr val="572314"/>
              </a:solidFill>
              <a:latin typeface="Gill Sans MT"/>
            </a:endParaRPr>
          </a:p>
        </p:txBody>
      </p:sp>
      <p:pic>
        <p:nvPicPr>
          <p:cNvPr id="356" name="Content Placeholder 3" descr="op-gruende.png"/>
          <p:cNvPicPr/>
          <p:nvPr/>
        </p:nvPicPr>
        <p:blipFill>
          <a:blip r:embed="rId2"/>
          <a:srcRect l="0" t="-8564" r="0" b="-8564"/>
          <a:stretch/>
        </p:blipFill>
        <p:spPr>
          <a:xfrm>
            <a:off x="1434960" y="144792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300" spc="-1" strike="noStrike">
                <a:solidFill>
                  <a:srgbClr val="572314"/>
                </a:solidFill>
                <a:latin typeface="Gill Sans MT"/>
              </a:rPr>
              <a:t>Intervention </a:t>
            </a:r>
            <a:r>
              <a:rPr b="0" lang="en-US" sz="4300" spc="-1" strike="noStrike">
                <a:solidFill>
                  <a:srgbClr val="572314"/>
                </a:solidFill>
                <a:latin typeface="Gill Sans MT"/>
              </a:rPr>
              <a:t>–</a:t>
            </a:r>
            <a:r>
              <a:rPr b="0" lang="de-DE" sz="4300" spc="-1" strike="noStrike">
                <a:solidFill>
                  <a:srgbClr val="572314"/>
                </a:solidFill>
                <a:latin typeface="Gill Sans MT"/>
              </a:rPr>
              <a:t> Wann?</a:t>
            </a:r>
            <a:endParaRPr b="0" lang="en-US" sz="4300" spc="-1" strike="noStrike">
              <a:solidFill>
                <a:srgbClr val="572314"/>
              </a:solidFill>
              <a:latin typeface="Gill Sans MT"/>
            </a:endParaRPr>
          </a:p>
        </p:txBody>
      </p:sp>
      <p:sp>
        <p:nvSpPr>
          <p:cNvPr id="358"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Der geeignete Zeitpunkt für eine chirurgische Intervention wird zwischen dem 4. und 12. Lebensmonat angegeben (Ghali </a:t>
            </a:r>
            <a:r>
              <a:rPr b="0" i="1" lang="en-US" sz="1800" spc="-1" strike="noStrike">
                <a:solidFill>
                  <a:srgbClr val="000000"/>
                </a:solidFill>
                <a:latin typeface="Gill Sans MT"/>
              </a:rPr>
              <a:t>et al., 2002): Vorteile einer frühzeitigen Operation liegen in der frühen Druckprävention durch den Volumengewinn - das kindliche Gehirn erfährt im ersten Lebensjahr über 50% seiner gesamten postnatalen Größenzunahme - und der hohen osteoplastischen Kapazität des Schädels (Di Rocco und Velardi 1995), die durch den spontanen Verschluss von Knochenlücken weniger komplizierte Verfahren in den ersten Lebensmonaten zulässt (einfache Entfernung des Knochens, floating-bone-flap-Techniken14). Die osteogene Potenz von Dura und Kopfhaut ist in dieser Entwicklungsphase größer (Persing et al., 1981; Marchac et al., 1994). Von Nachteil ist die Verlängerung der Phase des möglichen Korrekturverlustes (Friede et al., 1986; Marsh et al., 1991; Wall et al., 1994). Das allgemeine Risiko einer chirurgischen Intervention liegt bei jüngeren Kindern, insbesondere durch das geringere Blutvolumen und die Sensibilität des Elektrolyt- und Wasserhaushaltes deutlich höher (Faberowski et al., 2000).  Mit zunehmendem Alter nehmen diese Risiken ab, Patienten können dann aber bereits Perioden eines erhöhten intrakraniellen Druckes erlitten haben. Das Potenzial zur Reossifikation und die Wachstumsrate des Gehirns nehmen bis zum Ende des ersten Lebensjahres ebenfalls deutlich ab, so dass sich die Umformung danach wesentlich komplexer gestaltet, um persistierende Knochenlücken zu vermeiden (Marchac et al., 1994).</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inimalintensive OP</a:t>
            </a:r>
            <a:endParaRPr b="0" lang="en-US" sz="4300" spc="-1" strike="noStrike">
              <a:solidFill>
                <a:srgbClr val="572314"/>
              </a:solidFill>
              <a:latin typeface="Gill Sans MT"/>
            </a:endParaRPr>
          </a:p>
        </p:txBody>
      </p:sp>
      <p:pic>
        <p:nvPicPr>
          <p:cNvPr id="360" name="Content Placeholder 3" descr="minimalinvasiv-op.png"/>
          <p:cNvPicPr/>
          <p:nvPr/>
        </p:nvPicPr>
        <p:blipFill>
          <a:blip r:embed="rId2"/>
          <a:srcRect l="-2535" t="0" r="-2535" b="0"/>
          <a:stretch/>
        </p:blipFill>
        <p:spPr>
          <a:xfrm>
            <a:off x="1434960" y="144792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finition</a:t>
            </a:r>
            <a:endParaRPr b="0" lang="en-US" sz="4300" spc="-1" strike="noStrike">
              <a:solidFill>
                <a:srgbClr val="572314"/>
              </a:solidFill>
              <a:latin typeface="Gill Sans MT"/>
            </a:endParaRPr>
          </a:p>
        </p:txBody>
      </p:sp>
      <p:sp>
        <p:nvSpPr>
          <p:cNvPr id="322"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Mit dem Begriff </a:t>
            </a:r>
            <a:r>
              <a:rPr b="1" lang="en-US" sz="2700" spc="-1" strike="noStrike">
                <a:solidFill>
                  <a:srgbClr val="000000"/>
                </a:solidFill>
                <a:latin typeface="Gill Sans MT"/>
              </a:rPr>
              <a:t>Dolichocephalie</a:t>
            </a:r>
            <a:r>
              <a:rPr b="0" lang="en-US" sz="2700" spc="-1" strike="noStrike">
                <a:solidFill>
                  <a:srgbClr val="000000"/>
                </a:solidFill>
                <a:latin typeface="Gill Sans MT"/>
              </a:rPr>
              <a:t> (griechisch </a:t>
            </a:r>
            <a:r>
              <a:rPr b="0" i="1" lang="en-US" sz="2700" spc="-1" strike="noStrike">
                <a:solidFill>
                  <a:srgbClr val="000000"/>
                </a:solidFill>
                <a:latin typeface="Gill Sans MT"/>
              </a:rPr>
              <a:t>dolichos</a:t>
            </a:r>
            <a:r>
              <a:rPr b="0" lang="en-US" sz="2700" spc="-1" strike="noStrike">
                <a:solidFill>
                  <a:srgbClr val="000000"/>
                </a:solidFill>
                <a:latin typeface="Gill Sans MT"/>
              </a:rPr>
              <a:t> δολιχός ‚lang‘; </a:t>
            </a:r>
            <a:r>
              <a:rPr b="0" i="1" lang="en-US" sz="2700" spc="-1" strike="noStrike">
                <a:solidFill>
                  <a:srgbClr val="000000"/>
                </a:solidFill>
                <a:latin typeface="Gill Sans MT"/>
              </a:rPr>
              <a:t>kephalē</a:t>
            </a:r>
            <a:r>
              <a:rPr b="0" lang="en-US" sz="2700" spc="-1" strike="noStrike">
                <a:solidFill>
                  <a:srgbClr val="000000"/>
                </a:solidFill>
                <a:latin typeface="Gill Sans MT"/>
              </a:rPr>
              <a:t> κεφαλή ‚Kopf‘) wird in der Humanmedizin eine besondere Kopfform beschrieben, die sich durch eine asymmetrisch lange, schmale Schädelform (Langschädel) kennzeichnet.</a:t>
            </a:r>
            <a:endParaRPr b="0" lang="en-US" sz="27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Bei Menschen mit einem Dolichocephalus hat sich in der Entwicklung die Sagittalnaht (</a:t>
            </a:r>
            <a:r>
              <a:rPr b="0" i="1" lang="en-US" sz="2700" spc="-1" strike="noStrike">
                <a:solidFill>
                  <a:srgbClr val="000000"/>
                </a:solidFill>
                <a:latin typeface="Gill Sans MT"/>
              </a:rPr>
              <a:t>Sutura sagittalis</a:t>
            </a:r>
            <a:r>
              <a:rPr b="0" lang="en-US" sz="2700" spc="-1" strike="noStrike">
                <a:solidFill>
                  <a:srgbClr val="000000"/>
                </a:solidFill>
                <a:latin typeface="Gill Sans MT"/>
              </a:rPr>
              <a:t>) unüblich früh verknöchert, sodass es zu einem Ungleichgewicht zwischen dem Längen- und Breitenwachstum des Kopfes gekommen ist, in dessen Folge das Längenwachstum das Breitenwachstum im Verhältnis deutlich übertroffen hat.</a:t>
            </a:r>
            <a:endParaRPr b="0" lang="en-US" sz="27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P-Technik altersabhängig</a:t>
            </a:r>
            <a:endParaRPr b="0" lang="en-US" sz="4300" spc="-1" strike="noStrike">
              <a:solidFill>
                <a:srgbClr val="572314"/>
              </a:solidFill>
              <a:latin typeface="Gill Sans MT"/>
            </a:endParaRPr>
          </a:p>
        </p:txBody>
      </p:sp>
      <p:pic>
        <p:nvPicPr>
          <p:cNvPr id="362" name="Content Placeholder 3" descr="Bild 1.png"/>
          <p:cNvPicPr/>
          <p:nvPr/>
        </p:nvPicPr>
        <p:blipFill>
          <a:blip r:embed="rId2"/>
          <a:srcRect l="0" t="-15821" r="0" b="-15821"/>
          <a:stretch/>
        </p:blipFill>
        <p:spPr>
          <a:xfrm>
            <a:off x="1066680" y="838080"/>
            <a:ext cx="8077320" cy="5410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P-Risiken</a:t>
            </a:r>
            <a:endParaRPr b="0" lang="en-US" sz="4300" spc="-1" strike="noStrike">
              <a:solidFill>
                <a:srgbClr val="572314"/>
              </a:solidFill>
              <a:latin typeface="Gill Sans MT"/>
            </a:endParaRPr>
          </a:p>
        </p:txBody>
      </p:sp>
      <p:pic>
        <p:nvPicPr>
          <p:cNvPr id="364" name="Content Placeholder 3" descr="op-risiken.png"/>
          <p:cNvPicPr/>
          <p:nvPr/>
        </p:nvPicPr>
        <p:blipFill>
          <a:blip r:embed="rId2"/>
          <a:srcRect l="-4612" t="0" r="-4612" b="0"/>
          <a:stretch/>
        </p:blipFill>
        <p:spPr>
          <a:xfrm>
            <a:off x="1434960" y="144792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ostoperative Aspekte</a:t>
            </a:r>
            <a:endParaRPr b="0" lang="en-US" sz="4300" spc="-1" strike="noStrike">
              <a:solidFill>
                <a:srgbClr val="572314"/>
              </a:solidFill>
              <a:latin typeface="Gill Sans MT"/>
            </a:endParaRPr>
          </a:p>
        </p:txBody>
      </p:sp>
      <p:pic>
        <p:nvPicPr>
          <p:cNvPr id="366" name="Content Placeholder 3" descr="post-op.png"/>
          <p:cNvPicPr/>
          <p:nvPr/>
        </p:nvPicPr>
        <p:blipFill>
          <a:blip r:embed="rId2"/>
          <a:srcRect l="0" t="-8087" r="0" b="-8087"/>
          <a:stretch/>
        </p:blipFill>
        <p:spPr>
          <a:xfrm>
            <a:off x="1434960" y="144792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300" spc="-1" strike="noStrike">
                <a:solidFill>
                  <a:srgbClr val="572314"/>
                </a:solidFill>
                <a:latin typeface="Gill Sans MT"/>
              </a:rPr>
              <a:t>Vergleich Prä-OP vs. Post-OP</a:t>
            </a:r>
            <a:endParaRPr b="0" lang="en-US" sz="4300" spc="-1" strike="noStrike">
              <a:solidFill>
                <a:srgbClr val="572314"/>
              </a:solidFill>
              <a:latin typeface="Gill Sans MT"/>
            </a:endParaRPr>
          </a:p>
        </p:txBody>
      </p:sp>
      <p:pic>
        <p:nvPicPr>
          <p:cNvPr id="368" name="Content Placeholder 3" descr="prae-post-op.png"/>
          <p:cNvPicPr/>
          <p:nvPr/>
        </p:nvPicPr>
        <p:blipFill>
          <a:blip r:embed="rId2"/>
          <a:srcRect l="-5233" t="0" r="-5233" b="0"/>
          <a:stretch/>
        </p:blipFill>
        <p:spPr>
          <a:xfrm>
            <a:off x="1434960" y="144792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rage von Form UND Funktion ?</a:t>
            </a:r>
            <a:endParaRPr b="0" lang="en-US" sz="4300" spc="-1" strike="noStrike">
              <a:solidFill>
                <a:srgbClr val="572314"/>
              </a:solidFill>
              <a:latin typeface="Gill Sans MT"/>
            </a:endParaRPr>
          </a:p>
        </p:txBody>
      </p:sp>
      <p:sp>
        <p:nvSpPr>
          <p:cNvPr id="370" name=""/>
          <p:cNvSpPr txBox="1"/>
          <p:nvPr/>
        </p:nvSpPr>
        <p:spPr>
          <a:xfrm>
            <a:off x="1434960" y="1447560"/>
            <a:ext cx="7499520" cy="4800600"/>
          </a:xfrm>
          <a:prstGeom prst="rect">
            <a:avLst/>
          </a:prstGeom>
          <a:noFill/>
          <a:ln w="0">
            <a:noFill/>
          </a:ln>
        </p:spPr>
        <p:txBody>
          <a:bodyPr lIns="90000" rIns="90000" tIns="46800" bIns="46800" anchor="t">
            <a:normAutofit fontScale="94000"/>
          </a:bodyPr>
          <a:p>
            <a:pPr marL="343080" indent="-265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	</a:t>
            </a:r>
            <a:r>
              <a:rPr b="0" lang="en-US" sz="2700" spc="-1" strike="noStrike">
                <a:solidFill>
                  <a:srgbClr val="000000"/>
                </a:solidFill>
                <a:latin typeface="Gill Sans MT"/>
              </a:rPr>
              <a:t>"We may pretend that beauty is only skin deep, but Aristotle was right when he observed that "Beauty is a greater recommendation than any letter of introduction.” The sad truth is that attractive people do better: in school where they receive more help, better grades, and less punishment; at work where they are rewarded with higher pay, more prestigious jobs, and faster promotion; in finding mates, where they tend to be in control of the relationship and make most of the decisions; and among strangers, who assume them to be more interesting, honest, virtuous and successful.” (Ackerman 1991) </a:t>
            </a: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uswahlbibliographie</a:t>
            </a:r>
            <a:endParaRPr b="0" lang="en-US" sz="4300" spc="-1" strike="noStrike">
              <a:solidFill>
                <a:srgbClr val="572314"/>
              </a:solidFill>
              <a:latin typeface="Gill Sans MT"/>
            </a:endParaRPr>
          </a:p>
        </p:txBody>
      </p:sp>
      <p:pic>
        <p:nvPicPr>
          <p:cNvPr id="372" name="Content Placeholder 3" descr="literatur.png"/>
          <p:cNvPicPr/>
          <p:nvPr/>
        </p:nvPicPr>
        <p:blipFill>
          <a:blip r:embed="rId2"/>
          <a:srcRect l="-33349" t="0" r="-33349" b="0"/>
          <a:stretch/>
        </p:blipFill>
        <p:spPr>
          <a:xfrm>
            <a:off x="990720" y="1447920"/>
            <a:ext cx="794376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300" spc="-1" strike="noStrike">
                <a:solidFill>
                  <a:srgbClr val="572314"/>
                </a:solidFill>
                <a:latin typeface="Gill Sans MT"/>
              </a:rPr>
              <a:t>a.k.a. Scaphocephaly</a:t>
            </a:r>
            <a:endParaRPr b="0" lang="en-US" sz="4300" spc="-1" strike="noStrike">
              <a:solidFill>
                <a:srgbClr val="572314"/>
              </a:solidFill>
              <a:latin typeface="Gill Sans MT"/>
            </a:endParaRPr>
          </a:p>
        </p:txBody>
      </p:sp>
      <p:sp>
        <p:nvSpPr>
          <p:cNvPr id="324" name=""/>
          <p:cNvSpPr txBox="1"/>
          <p:nvPr/>
        </p:nvSpPr>
        <p:spPr>
          <a:xfrm>
            <a:off x="1434960" y="1447560"/>
            <a:ext cx="7499520" cy="4800600"/>
          </a:xfrm>
          <a:prstGeom prst="rect">
            <a:avLst/>
          </a:prstGeom>
          <a:noFill/>
          <a:ln w="0">
            <a:noFill/>
          </a:ln>
        </p:spPr>
        <p:txBody>
          <a:bodyPr lIns="90000" rIns="90000" tIns="46800" bIns="46800"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Scaphocephaly</a:t>
            </a:r>
            <a:r>
              <a:rPr b="0" lang="en-US" sz="3000" spc="-1" strike="noStrike">
                <a:solidFill>
                  <a:srgbClr val="000000"/>
                </a:solidFill>
                <a:latin typeface="Gill Sans MT"/>
              </a:rPr>
              <a:t>, derived from the Greek skaphe (a light boat or skiff), describes a specific variety of a long narrow head</a:t>
            </a:r>
            <a:r>
              <a:rPr b="0" lang="en-US" sz="3000" spc="-1" strike="noStrike" baseline="30000">
                <a:solidFill>
                  <a:srgbClr val="000000"/>
                </a:solidFill>
                <a:latin typeface="Gill Sans MT"/>
              </a:rPr>
              <a:t> </a:t>
            </a:r>
            <a:r>
              <a:rPr b="0" lang="en-US" sz="3000" spc="-1" strike="noStrike">
                <a:solidFill>
                  <a:srgbClr val="000000"/>
                </a:solidFill>
                <a:latin typeface="Gill Sans MT"/>
              </a:rPr>
              <a:t>that resembles an inverted boat.</a:t>
            </a:r>
            <a:endParaRPr b="0" lang="en-US" sz="30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t is a type of cephalic disorder which occurs when there is a premature fusion of the sagittal suture. The sagittal suture joins together the two parietal bones of skull. Scaphocephaly is the most common of the craniosynostosis conditions and is characterized by a long, narrow head.</a:t>
            </a:r>
            <a:endParaRPr b="0" lang="en-US" sz="30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300" spc="-1" strike="noStrike">
                <a:solidFill>
                  <a:srgbClr val="572314"/>
                </a:solidFill>
                <a:latin typeface="Gill Sans MT"/>
              </a:rPr>
              <a:t>Kraniosynostose</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lIns="90000" rIns="90000" tIns="46800" bIns="46800" anchor="t">
            <a:normAutofit fontScale="91000"/>
          </a:bodyPr>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Unter dem Begriff </a:t>
            </a:r>
            <a:r>
              <a:rPr b="1" lang="en-US" sz="2700" spc="-1" strike="noStrike">
                <a:solidFill>
                  <a:srgbClr val="000000"/>
                </a:solidFill>
                <a:latin typeface="Gill Sans MT"/>
              </a:rPr>
              <a:t>Kraniosynostose</a:t>
            </a:r>
            <a:r>
              <a:rPr b="0" lang="en-US" sz="2700" spc="-1" strike="noStrike">
                <a:solidFill>
                  <a:srgbClr val="000000"/>
                </a:solidFill>
                <a:latin typeface="Gill Sans MT"/>
              </a:rPr>
              <a:t> versteht man die vorzeitige Verknöcherung einer oder mehrerer Schädelnähte, die zum Teil schon beim ungeborenen Kind beginnt. Das übliche Wachstum des Schädels ist dadurch nicht möglich und ein sogenanntes kompensatorisches Wachstum tritt auf. Dieses verursacht ungewöhnliche Schädelformen (</a:t>
            </a:r>
            <a:r>
              <a:rPr b="0" i="1" lang="en-US" sz="2700" spc="-1" strike="noStrike">
                <a:solidFill>
                  <a:srgbClr val="000000"/>
                </a:solidFill>
                <a:latin typeface="Gill Sans MT"/>
              </a:rPr>
              <a:t>Kraniostenose</a:t>
            </a:r>
            <a:r>
              <a:rPr b="0" lang="en-US" sz="2700" spc="-1" strike="noStrike">
                <a:solidFill>
                  <a:srgbClr val="000000"/>
                </a:solidFill>
                <a:latin typeface="Gill Sans MT"/>
              </a:rPr>
              <a:t>). Wenn mehrere Nähte betroffen sind, ist eine operative Korrektur notwendig, um dem Hirn Platz zum Wachstum zu schaffen. Heute werden aber fast alle betroffenen Kinder (ca. 1 pro 2000 Geburten) operiert.</a:t>
            </a:r>
            <a:endParaRPr b="0" lang="en-US" sz="2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ische Phänomenologie</a:t>
            </a:r>
            <a:endParaRPr b="0" lang="en-US" sz="4300" spc="-1" strike="noStrike">
              <a:solidFill>
                <a:srgbClr val="572314"/>
              </a:solidFill>
              <a:latin typeface="Gill Sans MT"/>
            </a:endParaRPr>
          </a:p>
        </p:txBody>
      </p:sp>
      <p:pic>
        <p:nvPicPr>
          <p:cNvPr id="328" name="Content Placeholder 3" descr="dolichocephaly-example.jpg"/>
          <p:cNvPicPr/>
          <p:nvPr/>
        </p:nvPicPr>
        <p:blipFill>
          <a:blip r:embed="rId2"/>
          <a:srcRect l="-8164" t="0" r="-8164" b="0"/>
          <a:stretch/>
        </p:blipFill>
        <p:spPr>
          <a:xfrm>
            <a:off x="1434960" y="144792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Vergleich zum Phänotyp</a:t>
            </a:r>
            <a:endParaRPr b="0" lang="en-US" sz="4300" spc="-1" strike="noStrike">
              <a:solidFill>
                <a:srgbClr val="572314"/>
              </a:solidFill>
              <a:latin typeface="Gill Sans MT"/>
            </a:endParaRPr>
          </a:p>
        </p:txBody>
      </p:sp>
      <p:pic>
        <p:nvPicPr>
          <p:cNvPr id="330" name="Content Placeholder 3" descr="nvz-dolichocephaly4.jpg"/>
          <p:cNvPicPr/>
          <p:nvPr/>
        </p:nvPicPr>
        <p:blipFill>
          <a:blip r:embed="rId2"/>
          <a:srcRect l="-18186" t="0" r="-18186" b="0"/>
          <a:stretch/>
        </p:blipFill>
        <p:spPr>
          <a:xfrm rot="16200000">
            <a:off x="156960" y="1963440"/>
            <a:ext cx="5680080" cy="3124440"/>
          </a:xfrm>
          <a:prstGeom prst="rect">
            <a:avLst/>
          </a:prstGeom>
          <a:ln w="0">
            <a:noFill/>
          </a:ln>
        </p:spPr>
      </p:pic>
      <p:pic>
        <p:nvPicPr>
          <p:cNvPr id="331" name="Picture 4" descr="dolichocephaly-example.jpg"/>
          <p:cNvPicPr/>
          <p:nvPr/>
        </p:nvPicPr>
        <p:blipFill>
          <a:blip r:embed="rId3"/>
          <a:stretch/>
        </p:blipFill>
        <p:spPr>
          <a:xfrm>
            <a:off x="5410080" y="1676520"/>
            <a:ext cx="3259080" cy="2427120"/>
          </a:xfrm>
          <a:prstGeom prst="rect">
            <a:avLst/>
          </a:prstGeom>
          <a:ln w="0">
            <a:noFill/>
          </a:ln>
        </p:spPr>
      </p:pic>
      <p:sp>
        <p:nvSpPr>
          <p:cNvPr id="332" name="TextBox 5"/>
          <p:cNvSpPr/>
          <p:nvPr/>
        </p:nvSpPr>
        <p:spPr>
          <a:xfrm>
            <a:off x="2715120" y="5835600"/>
            <a:ext cx="64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Nick</a:t>
            </a:r>
            <a:endParaRPr b="0" lang="en-US" sz="1800" spc="-1" strike="noStrike">
              <a:solidFill>
                <a:srgbClr val="000000"/>
              </a:solidFill>
              <a:latin typeface="Gill Sans MT"/>
            </a:endParaRPr>
          </a:p>
        </p:txBody>
      </p:sp>
      <p:sp>
        <p:nvSpPr>
          <p:cNvPr id="333" name="TextBox 6"/>
          <p:cNvSpPr/>
          <p:nvPr/>
        </p:nvSpPr>
        <p:spPr>
          <a:xfrm>
            <a:off x="6351120" y="434340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Referenz</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uswirkungen I</a:t>
            </a:r>
            <a:endParaRPr b="0" lang="en-US" sz="4300" spc="-1" strike="noStrike">
              <a:solidFill>
                <a:srgbClr val="572314"/>
              </a:solidFill>
              <a:latin typeface="Gill Sans MT"/>
            </a:endParaRPr>
          </a:p>
        </p:txBody>
      </p:sp>
      <p:pic>
        <p:nvPicPr>
          <p:cNvPr id="335" name="Content Placeholder 3" descr="Bild 6.png"/>
          <p:cNvPicPr/>
          <p:nvPr/>
        </p:nvPicPr>
        <p:blipFill>
          <a:blip r:embed="rId2"/>
          <a:srcRect l="-26634" t="0" r="-26634" b="0"/>
          <a:stretch/>
        </p:blipFill>
        <p:spPr>
          <a:xfrm>
            <a:off x="1434960" y="1447920"/>
            <a:ext cx="749952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uswirkungen II</a:t>
            </a:r>
            <a:endParaRPr b="0" lang="en-US" sz="43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lIns="90000" rIns="90000" tIns="46800" bIns="46800" anchor="t">
            <a:normAutofit fontScale="99000"/>
          </a:bodyPr>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Because the skull cannot expand perpendicular to the fused suture, it compensates by growing more in the direction perpendicular to the open sutures.</a:t>
            </a:r>
            <a:endParaRPr b="0" lang="en-US" sz="25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The resulting growth pattern provides the necessary space for the growing brain, but results in an abnormal head shape and sometimes abnormal facial features.</a:t>
            </a:r>
            <a:endParaRPr b="0" lang="en-US" sz="2500" spc="-1" strike="noStrike">
              <a:solidFill>
                <a:srgbClr val="000000"/>
              </a:solidFill>
              <a:latin typeface="Gill Sans MT"/>
            </a:endParaRPr>
          </a:p>
          <a:p>
            <a:pPr marL="361080" indent="-27972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In cases in which the compensation does not effectively provide enough space for the growing brain, craniosynostosis results in increased intracranial pressure leading possibly to visual impairment or an impairment of mental development combined with a significant reduction in IQ</a:t>
            </a:r>
            <a:endParaRPr b="0" lang="en-US" sz="2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uswirkungen III</a:t>
            </a:r>
            <a:endParaRPr b="0" lang="en-US" sz="43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ill Sans MT"/>
              </a:rPr>
              <a:t>Erhöhter Hirninnendruck - ICP</a:t>
            </a:r>
            <a:endParaRPr b="0" lang="en-US" sz="30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ymptoms of increased intracranial pressure – such as headache and vomiting</a:t>
            </a:r>
            <a:endParaRPr b="0" lang="en-US" sz="30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00000"/>
                </a:solidFill>
                <a:latin typeface="Gill Sans MT"/>
              </a:rPr>
              <a:t> </a:t>
            </a:r>
            <a:r>
              <a:rPr b="0" lang="en-US" sz="3000" spc="-1" strike="noStrike">
                <a:solidFill>
                  <a:srgbClr val="000000"/>
                </a:solidFill>
                <a:latin typeface="Gill Sans MT"/>
              </a:rPr>
              <a:t>An elevation of ICP can be present in 4 to 20% of the children where only a single suture is affected.</a:t>
            </a:r>
            <a:endParaRPr b="0" lang="en-US" sz="30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he incidence of ICP in children with more than one suture involved can be as high as 62%.</a:t>
            </a:r>
            <a:endParaRPr b="0" lang="en-US" sz="30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However, even though the children are affected, symptoms are not always present.</a:t>
            </a:r>
            <a:endParaRPr b="0" lang="en-US" sz="3000" spc="-1" strike="noStrike">
              <a:solidFill>
                <a:srgbClr val="000000"/>
              </a:solidFill>
              <a:latin typeface="Gill Sans MT"/>
            </a:endParaRPr>
          </a:p>
          <a:p>
            <a:pPr marL="339480" indent="-2628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5T23:07:20Z</dcterms:created>
  <dc:creator>Starfsmaður Háskóla Íslands</dc:creator>
  <dc:description/>
  <dc:language>en-US</dc:language>
  <cp:lastModifiedBy>Starfsmaður Háskóla Íslands</cp:lastModifiedBy>
  <dcterms:modified xsi:type="dcterms:W3CDTF">2011-04-21T01:34:28Z</dcterms:modified>
  <cp:revision>9</cp:revision>
  <dc:subject/>
  <dc:title>Dolichocephalie</dc:title>
</cp:coreProperties>
</file>