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CA7-3BC9-43CB-9BED-191C24A0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9F1F-082B-4735-BE8B-1CB95146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F736-F28C-47F6-BE1B-85FF01DA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20BE-0B6F-4C8A-9858-79EDBF91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765B-B1CA-48C8-9CC6-0032458C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4DF4-D3B5-41BE-AB9C-4EDF7B52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AB3F-9CDA-46C1-993C-B609C055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357-C5AE-46CC-8468-19E7ACDC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5648-992D-4B48-B320-8DC8309C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5B95-D373-41D8-A558-51A82B5F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792F-7043-4EC5-B4C1-961CFA02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56F-9864-402F-B670-2CB482E9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2A3D-9ED9-4620-8A63-7EED690C3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3:00:16Z</dcterms:created>
  <dc:creator>WathakkeR</dc:creator>
  <dc:description/>
  <dc:language>en-US</dc:language>
  <cp:lastModifiedBy>WathakkeR</cp:lastModifiedBy>
  <dcterms:modified xsi:type="dcterms:W3CDTF">2007-10-23T03:03:11Z</dcterms:modified>
  <cp:revision>2</cp:revision>
  <dc:subject/>
  <dc:title>Slide 1</dc:title>
</cp:coreProperties>
</file>