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219700" cy="2663825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08F-ED43-44F6-97E8-901A1B0D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470052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920" y="1540080"/>
            <a:ext cx="470052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B5F-84AF-4187-8176-407EFB44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6868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920" y="1540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68680" y="1540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F64-98AD-4575-A8ED-2D96EC04D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49320" y="622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39080" y="622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920" y="1540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49320" y="1540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39080" y="1540080"/>
            <a:ext cx="151344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9008-0A7C-4C0C-8F94-54845376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920" y="622080"/>
            <a:ext cx="4700520" cy="17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F9F-215F-4308-841D-6B816C20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470052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323-F201-4270-99B7-738C4A5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229356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68680" y="622080"/>
            <a:ext cx="229356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51C-45AF-4271-AE18-854722D4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8F3-1F97-452A-8F63-06D733F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920" y="105840"/>
            <a:ext cx="470052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FE8-8992-4230-9D67-94862177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68680" y="622080"/>
            <a:ext cx="229356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920" y="1540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B17-F58E-4CAD-A41A-96A9ADA2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229356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6868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68680" y="1540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F27-CA5C-42C9-9E5C-3B91B90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92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68680" y="622080"/>
            <a:ext cx="229356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920" y="1540080"/>
            <a:ext cx="4700520" cy="83808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497-6B6A-4ADB-89CD-47CB71D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920" y="105840"/>
            <a:ext cx="4700520" cy="4446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9920" y="622080"/>
            <a:ext cx="4700520" cy="17571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 fontScale="85000"/>
          </a:bodyPr>
          <a:p>
            <a:pPr marL="142560" indent="-142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202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8800" indent="-95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70680" indent="-957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862200" indent="-957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862200" indent="-957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862200" indent="-957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920" y="2425680"/>
            <a:ext cx="1219320" cy="1857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84520" y="2425680"/>
            <a:ext cx="1652400" cy="1857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41840" y="2425680"/>
            <a:ext cx="1218960" cy="18576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C3E9-66F9-4201-93D3-7A0ABD792E51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7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2175統合"/>
          <p:cNvPicPr/>
          <p:nvPr/>
        </p:nvPicPr>
        <p:blipFill>
          <a:blip r:embed="rId1"/>
          <a:srcRect l="-5107" t="22952" r="5160" b="22543"/>
          <a:stretch/>
        </p:blipFill>
        <p:spPr>
          <a:xfrm>
            <a:off x="-247680" y="331920"/>
            <a:ext cx="2859120" cy="2332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PU ロゴ 01"/>
          <p:cNvPicPr/>
          <p:nvPr/>
        </p:nvPicPr>
        <p:blipFill>
          <a:blip r:embed="rId2"/>
          <a:srcRect l="15842" t="40544" r="16859" b="39391"/>
          <a:stretch/>
        </p:blipFill>
        <p:spPr>
          <a:xfrm>
            <a:off x="3054240" y="6480"/>
            <a:ext cx="1573200" cy="331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30520" y="316080"/>
            <a:ext cx="2590920" cy="1158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APS - Faculdade de Estudos da Ásia Pacífi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Ambiente e o Desenvolvimento                                                                                       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ultura, Sociedade e Meios de Comunicação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Relações Internacionais e Resolução de Conflitos                                                                        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Hospitalidade e Turismo </a:t>
            </a:r>
            <a:r>
              <a:rPr b="1" lang="ja-JP" sz="600" spc="-1" strike="noStrike">
                <a:solidFill>
                  <a:srgbClr val="ffffff"/>
                </a:solidFill>
                <a:latin typeface="Arial Black"/>
                <a:ea typeface="ＭＳ 明朝"/>
              </a:rPr>
              <a:t>　　     　　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  <a:ea typeface="ＭＳ 明朝"/>
              </a:rPr>
              <a:t>APM - 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Faculdade de Administração International</a:t>
            </a:r>
            <a:r>
              <a:rPr b="1" lang="en-US" sz="700" spc="-1" strike="noStrike">
                <a:solidFill>
                  <a:srgbClr val="ffffff"/>
                </a:solidFill>
                <a:latin typeface="Arial"/>
                <a:ea typeface="ＭＳ 明朝"/>
              </a:rPr>
              <a:t>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  <a:ea typeface="ＭＳ 明朝"/>
              </a:rPr>
              <a:t>    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  <a:ea typeface="ＭＳ 明朝"/>
              </a:rPr>
              <a:t>Marketing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  <a:ea typeface="ＭＳ 明朝"/>
              </a:rPr>
              <a:t>    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  <a:ea typeface="ＭＳ 明朝"/>
              </a:rPr>
              <a:t>A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dministração Estratégica e Organização            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Inovação e Economia                                                                          </a:t>
            </a:r>
            <a:br>
              <a:rPr sz="600"/>
            </a:b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   ►</a:t>
            </a:r>
            <a:r>
              <a:rPr b="1" lang="ja-JP" sz="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ontabilidade e Finanças 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754360" y="2268360"/>
            <a:ext cx="2305080" cy="33732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ITSUMEIKAN ASIA PACIFIC UNIVERSITY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http://admissions.apu.ac.jp   -  E-mail: welcome@apu.ac.jp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-1 Jumonjibaru, Beppu, Província de Oita - Japão</a:t>
            </a:r>
            <a:endParaRPr b="1" lang="en-US" sz="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617920" y="1474920"/>
            <a:ext cx="26636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➔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Não é exigida habilidade em língua japonesa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➔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 língua inglesa será sua língua de comunicação e estudo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➔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Ambiente multicultural, cerca de 90 países</a:t>
            </a: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➔ </a:t>
            </a:r>
            <a:r>
              <a:rPr b="1" lang="es-ES" sz="600" spc="-1" strike="noStrike">
                <a:solidFill>
                  <a:srgbClr val="000000"/>
                </a:solidFill>
                <a:latin typeface="Arial"/>
              </a:rPr>
              <a:t>Taxa de empregabilidade alta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➔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eduções na taxa de matrícula </a:t>
            </a:r>
            <a:r>
              <a:rPr b="1" lang="ja-JP" sz="7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1" lang="en-US" sz="7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560" y="1982880"/>
          <a:ext cx="2577960" cy="655560"/>
        </p:xfrm>
        <a:graphic>
          <a:graphicData uri="http://schemas.openxmlformats.org/drawingml/2006/table">
            <a:tbl>
              <a:tblPr/>
              <a:tblGrid>
                <a:gridCol w="1279440"/>
                <a:gridCol w="129852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50720"/>
                          <a:tab algn="l" pos="901800"/>
                          <a:tab algn="l" pos="1352520"/>
                          <a:tab algn="l" pos="1803240"/>
                          <a:tab algn="l" pos="2254320"/>
                          <a:tab algn="l" pos="2705040"/>
                          <a:tab algn="l" pos="3156120"/>
                          <a:tab algn="l" pos="3606840"/>
                          <a:tab algn="l" pos="4057560"/>
                          <a:tab algn="l" pos="4508640"/>
                          <a:tab algn="l" pos="4959360"/>
                          <a:tab algn="l" pos="5410080"/>
                          <a:tab algn="l" pos="5861160"/>
                          <a:tab algn="l" pos="6311880"/>
                          <a:tab algn="l" pos="6762600"/>
                          <a:tab algn="l" pos="7213680"/>
                          <a:tab algn="l" pos="7664400"/>
                          <a:tab algn="l" pos="8115480"/>
                          <a:tab algn="l" pos="8566200"/>
                          <a:tab algn="l" pos="901692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NGÁ </a:t>
                      </a:r>
                      <a:br>
                        <a:rPr sz="8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03/2011 (dom.) às 17h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ociacao Cultural e Esportiva de Maringá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Kakogawa, 50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50720"/>
                          <a:tab algn="l" pos="901800"/>
                          <a:tab algn="l" pos="1352520"/>
                          <a:tab algn="l" pos="1803240"/>
                          <a:tab algn="l" pos="2254320"/>
                          <a:tab algn="l" pos="2705040"/>
                          <a:tab algn="l" pos="3156120"/>
                          <a:tab algn="l" pos="3606840"/>
                          <a:tab algn="l" pos="4057560"/>
                          <a:tab algn="l" pos="4508640"/>
                          <a:tab algn="l" pos="4959360"/>
                          <a:tab algn="l" pos="5410080"/>
                          <a:tab algn="l" pos="5861160"/>
                          <a:tab algn="l" pos="6311880"/>
                          <a:tab algn="l" pos="6762600"/>
                          <a:tab algn="l" pos="7213680"/>
                          <a:tab algn="l" pos="7664400"/>
                          <a:tab algn="l" pos="8115480"/>
                          <a:tab algn="l" pos="8566200"/>
                          <a:tab algn="l" pos="901692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DRINA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900"/>
                      </a:b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03/2011 (ter.) às 19h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ança Cultural Brasil-Japão do Paraná</a:t>
                      </a:r>
                      <a:br>
                        <a:rPr sz="700"/>
                      </a:br>
                      <a:r>
                        <a:rPr b="0" lang="pt-BR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a Paranaguá, 1782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7" name="Rectangle 17"/>
          <p:cNvSpPr/>
          <p:nvPr/>
        </p:nvSpPr>
        <p:spPr>
          <a:xfrm>
            <a:off x="-104760" y="0"/>
            <a:ext cx="2716200" cy="47484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onheça a universidade internacional</a:t>
            </a:r>
            <a:br>
              <a:rPr sz="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Ritsumeikan Asia Pacific University e estude no Japão</a:t>
            </a:r>
            <a:endParaRPr b="1" lang="en-US" sz="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endParaRPr b="1" lang="en-US" sz="3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0720"/>
                <a:tab algn="l" pos="901800"/>
                <a:tab algn="l" pos="1352520"/>
                <a:tab algn="l" pos="1803240"/>
                <a:tab algn="l" pos="2254320"/>
                <a:tab algn="l" pos="2705040"/>
                <a:tab algn="l" pos="3156120"/>
                <a:tab algn="l" pos="3606840"/>
                <a:tab algn="l" pos="4057560"/>
                <a:tab algn="l" pos="4508640"/>
                <a:tab algn="l" pos="4959360"/>
                <a:tab algn="l" pos="5410080"/>
                <a:tab algn="l" pos="5861160"/>
                <a:tab algn="l" pos="6311880"/>
                <a:tab algn="l" pos="6762600"/>
                <a:tab algn="l" pos="7213680"/>
                <a:tab algn="l" pos="7664400"/>
                <a:tab algn="l" pos="8115480"/>
                <a:tab algn="l" pos="8566200"/>
                <a:tab algn="l" pos="901692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Graduação, Pós-graduação e bolsas de estudo</a:t>
            </a:r>
            <a:endParaRPr b="1" lang="en-US" sz="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07:29:17Z</dcterms:created>
  <dc:creator>事務情報システム</dc:creator>
  <dc:description/>
  <dc:language>en-US</dc:language>
  <cp:lastModifiedBy>Eder</cp:lastModifiedBy>
  <dcterms:modified xsi:type="dcterms:W3CDTF">2011-03-17T13:36:02Z</dcterms:modified>
  <cp:revision>62</cp:revision>
  <dc:subject/>
  <dc:title>スライド 1</dc:title>
</cp:coreProperties>
</file>