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3D4AF4-DB89-4FF1-9E3B-33270448F6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E8138-ACBA-45C0-8EE6-5D6071D64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8B947-FEA3-47E6-AFD2-DEC403E93A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AAE518-1C15-4E7C-8C92-6CE73E266D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612B43-D06E-4A7B-BAF0-73DBCBEBEB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6BB6A3-5320-4A20-8212-9A213C8FF7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A5A992-2C14-44AE-82D6-A713595262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73D6AE-2012-47C7-8FC1-D3ABCBD0F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1FC6A3-B842-4499-9249-522CE517FF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A8E87C-BE78-4DB2-BBF7-6768C6818A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25CB2F-1F82-4784-8E50-A7D8CBBF2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645F1-FA29-46E4-B20B-622696CEB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24276-5C42-4DD5-B41A-93D8669ED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E5D7D-A8AD-480B-9DB8-C210E492E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F2DAC9-8B3B-4416-BE24-0D4201B05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4DE62E-293B-4695-9825-7AA4233146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B74D8E-CCDB-4DCF-A495-5EC0FEFD32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43F2BA3-2173-4B9D-B8D8-E16D2901B2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7D04F80-F697-481C-838D-C149888425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A00AAFB-DCA7-4E53-8F48-3AAA827BED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8C4F35F-9CE1-4703-BE78-900091B6E5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E58CB5D-4A9D-4389-8B8F-9FE9CC7242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A4BBC-6916-4B9E-99C5-8A9894563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77EE903-ADBB-48DF-9999-8E44FFB9AB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28F9D88-1000-4C47-9781-402C761B79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F341FF1-A9E7-46B0-B96E-1D8D201236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0398102-9393-46B6-92EC-DF08F05699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EF864F0-AF57-408C-9170-BDA8BFE283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662044E-5893-4E83-AC43-FCE15518F3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E87536B-73F7-4723-AB93-D06C43D22E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42C315-48F9-4CDF-916E-8672E5AD35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BE8C02-CC65-4E84-9F26-B8557D6743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2ACB8B-30AD-4A6F-8467-86C199EDB0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C64EE-5EF7-48B0-BD96-64E013CD8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08DF02-065C-4F44-8862-CA0E594626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AF7124-3E37-4E3E-81AD-99A0A2A50E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AAC98D-2AA7-4E41-9575-2693845140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BE048F-A128-4FB2-ABA0-A3F5B2499C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D869B8-E6D5-4B00-B062-C62B6FD742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1F3476-33CF-4641-BE5E-F2322E1B9F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D411F9-86D1-4329-B072-9D5E26230B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9F11CB-56CC-499B-A3E6-36A711AD3D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129B06-BE53-490A-B729-0351901F82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359F42C-31C5-42E7-B42F-47804FE4C1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61E84-8397-457E-8949-41104C212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6DEF1A1-DA20-4304-8C86-0695D11304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8E88AE7-1425-4969-B85C-BB1F640F28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5299AF9-887F-4E76-89F2-84CE26EE1F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75590A2-A402-476D-872F-D136F2D397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499E624-8DE3-464B-B819-9F53EA6484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611FE3D-C449-4C79-930B-3F085BC9F2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9FE1695-609E-45D5-9B9E-A821C24DC5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131CBFB-511A-43E2-BF1A-326E839EAB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60AFFBF-27A6-43BF-8B00-AB7D38870F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C17B848-6DEB-49FD-A4CC-D669C2EDF7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998A6-15FE-45D5-82E2-594AA5F5B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B24D619-9A21-4C96-8411-7E51713CBB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AF6B0FDA-259C-4921-B1CB-E37E5CE463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24A2204-C280-410E-89FE-04F06F300B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9D147F0-F8AC-4EF8-AF4E-B22FCFED9A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9D529D1-6741-4D1F-9A38-8908B5005B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0842242-7CF5-40DF-A09A-07950FF470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B438AE3-E7C6-451D-BB5A-BA07EA5F64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130CD5E-C9D6-465A-A43B-8FA0C7727C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23DB0A8-7CC8-4AEF-ABB9-1341F03AEB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1C6D2A4-F262-4A3D-BC37-9253A0C404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2B645-6179-406D-A697-811A958FC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D77AD2B-886B-4B03-97AD-00EF30EF55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48615AFC-9ACE-475A-9704-DDE574E42B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5E56726D-3943-4064-85A1-6A2A287068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3313DD0-9229-4425-865D-5EA5852BB8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0DCC1D6-EC87-46A6-8F0C-A6970A24DA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5BC4FF6-3CAE-48C7-8B1E-B5BBDE65CD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F55A1FA-88B8-4BC4-9C6F-68A2DB7B63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8DD5F02-0E8F-4616-B78D-A36E768F2E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25AEA21-49CF-4716-8EBB-A64F8A3A80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5F2C445-50F7-4353-90CC-BCC58A7364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5DAA5-A29E-449B-B051-DA29E05C5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1083DBE-0B28-41D3-813C-34450D8D21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3B7F196-18F5-4C9F-9684-9D47F730BC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6C02A56-B67E-492C-8DFD-07CC761CED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29A3FB5-5E8F-43EC-8610-4065563686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9378FD8-C288-4386-9891-5B5641D9DAC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FB946-BB71-4F7A-8DCB-280D2BDA98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9977A-4045-4D55-A5F9-1879B0282636}"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9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11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13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10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17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19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15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1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21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0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2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23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25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24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C043E-1B01-423D-AF9D-60164BC3CF24}"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47BD6-9A1F-4FD7-AE8F-553E70313F38}"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8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9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0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11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12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13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14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15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16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17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18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19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20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21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22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25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39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98530-DE7A-4E6D-A5CA-5707F52F2E65}"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4B351-8392-4E08-891B-DF2A33747F04}"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9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7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8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10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11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12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13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CC131-506E-4751-A4BD-ECD8693E21AD}"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8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12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9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10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1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18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19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93BAA-3FC0-4401-A687-8C880B964870}"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entury Schoolbook"/>
              </a:rPr>
              <a:t>BLOQUE 1</a:t>
            </a:r>
            <a:br>
              <a:rPr sz="3000"/>
            </a:br>
            <a:r>
              <a:rPr b="1" lang="es-ES" sz="3000" spc="-1" strike="noStrike">
                <a:solidFill>
                  <a:srgbClr val="575f6d"/>
                </a:solidFill>
                <a:latin typeface="Century Schoolbook"/>
              </a:rPr>
              <a:t>ORGANIZACIÓN Y PLANIFICACIÓN</a:t>
            </a:r>
            <a:br>
              <a:rPr sz="3000"/>
            </a:br>
            <a:r>
              <a:rPr b="1" lang="es-ES" sz="3000" spc="-1" strike="noStrike">
                <a:solidFill>
                  <a:srgbClr val="575f6d"/>
                </a:solidFill>
                <a:latin typeface="Century Schoolbook"/>
              </a:rPr>
              <a:t>PARA EL MONTAJE MECÁNICO</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ca-ES" sz="1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575f6d"/>
              </a:solidFill>
              <a:latin typeface="Century Schoolbook"/>
            </a:endParaRPr>
          </a:p>
        </p:txBody>
      </p:sp>
      <p:sp>
        <p:nvSpPr>
          <p:cNvPr id="368" name=""/>
          <p:cNvSpPr txBox="1"/>
          <p:nvPr/>
        </p:nvSpPr>
        <p:spPr>
          <a:xfrm>
            <a:off x="456840" y="1600200"/>
            <a:ext cx="7467480" cy="4873680"/>
          </a:xfrm>
          <a:prstGeom prst="rect">
            <a:avLst/>
          </a:prstGeom>
          <a:noFill/>
          <a:ln w="0">
            <a:noFill/>
          </a:ln>
        </p:spPr>
        <p:txBody>
          <a:bodyPr anchor="t">
            <a:normAutofit/>
          </a:bodyPr>
          <a:p>
            <a:pPr marL="457200" indent="-457200">
              <a:lnSpc>
                <a:spcPct val="9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457200" indent="-45720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Un mayor grado de integración en la edificación lo constituye la superposición de los módulos en la edificación.</a:t>
            </a:r>
            <a:endParaRPr b="0" lang="en-US" sz="2400" spc="-1" strike="noStrike">
              <a:solidFill>
                <a:srgbClr val="000000"/>
              </a:solidFill>
              <a:latin typeface="Century Schoolbook"/>
            </a:endParaRPr>
          </a:p>
          <a:p>
            <a:pPr lvl="1" marL="639720" indent="-272880" algn="just">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entury Schoolbook"/>
              </a:rPr>
              <a:t> </a:t>
            </a:r>
            <a:r>
              <a:rPr b="0" lang="es-ES" sz="2100" spc="-1" strike="noStrike">
                <a:solidFill>
                  <a:srgbClr val="000000"/>
                </a:solidFill>
                <a:latin typeface="Century Schoolbook"/>
              </a:rPr>
              <a:t>Se considera que existe superposición cuando la colocación de los módulos se realiza paralela a la envolvente del edificio, pero sin funcionalidad arquitectónica, ya que no sustituyen a ningún elemento constructivo.</a:t>
            </a:r>
            <a:endParaRPr b="0" lang="en-US" sz="2100" spc="-1" strike="noStrike">
              <a:solidFill>
                <a:srgbClr val="000000"/>
              </a:solidFill>
              <a:latin typeface="Century Schoolbook"/>
            </a:endParaRPr>
          </a:p>
          <a:p>
            <a:pPr lvl="1" marL="639720" indent="-2728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marL="457200" indent="-45720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Schoolbook"/>
              </a:rPr>
              <a:t>Importante</a:t>
            </a:r>
            <a:endParaRPr b="0" lang="en-US" sz="2400" spc="-1" strike="noStrike">
              <a:solidFill>
                <a:srgbClr val="000000"/>
              </a:solidFill>
              <a:latin typeface="Century Schoolbook"/>
            </a:endParaRPr>
          </a:p>
          <a:p>
            <a:pPr lvl="1" marL="639720" indent="-272880" algn="just">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entury Schoolbook"/>
              </a:rPr>
              <a:t>Cuando los módulos se colocan superpuestos en un tejado o fachada, habrá que hacerlo de forma que el impacto visual sea reducido.</a:t>
            </a: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entury Schoolbook"/>
              </a:rPr>
              <a:t>APLICACIÓN PRÁCTICA</a:t>
            </a:r>
            <a:endParaRPr b="0" lang="en-US" sz="3000" spc="-1" strike="noStrike">
              <a:solidFill>
                <a:srgbClr val="575f6d"/>
              </a:solidFill>
              <a:latin typeface="Century Schoolbook"/>
            </a:endParaRPr>
          </a:p>
        </p:txBody>
      </p:sp>
      <p:sp>
        <p:nvSpPr>
          <p:cNvPr id="370" name=""/>
          <p:cNvSpPr txBox="1"/>
          <p:nvPr/>
        </p:nvSpPr>
        <p:spPr>
          <a:xfrm>
            <a:off x="214200" y="1856880"/>
            <a:ext cx="8072640" cy="135756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lasifique las siguientes imágenes, de menor a mayor, según el grado de integración arquitectónica que presentan, e indique el por qué de su elección.</a:t>
            </a: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71" name="Picture 3" descr=""/>
          <p:cNvPicPr/>
          <p:nvPr/>
        </p:nvPicPr>
        <p:blipFill>
          <a:blip r:embed="rId1"/>
          <a:stretch/>
        </p:blipFill>
        <p:spPr>
          <a:xfrm>
            <a:off x="214200" y="3500280"/>
            <a:ext cx="2928960" cy="1952640"/>
          </a:xfrm>
          <a:prstGeom prst="rect">
            <a:avLst/>
          </a:prstGeom>
          <a:ln w="0">
            <a:noFill/>
          </a:ln>
        </p:spPr>
      </p:pic>
      <p:pic>
        <p:nvPicPr>
          <p:cNvPr id="372" name="Picture 4" descr=""/>
          <p:cNvPicPr/>
          <p:nvPr/>
        </p:nvPicPr>
        <p:blipFill>
          <a:blip r:embed="rId2"/>
          <a:stretch/>
        </p:blipFill>
        <p:spPr>
          <a:xfrm>
            <a:off x="3143160" y="3500280"/>
            <a:ext cx="2667240" cy="2000520"/>
          </a:xfrm>
          <a:prstGeom prst="rect">
            <a:avLst/>
          </a:prstGeom>
          <a:ln w="0">
            <a:noFill/>
          </a:ln>
        </p:spPr>
      </p:pic>
      <p:pic>
        <p:nvPicPr>
          <p:cNvPr id="373" name="Picture 8" descr=""/>
          <p:cNvPicPr/>
          <p:nvPr/>
        </p:nvPicPr>
        <p:blipFill>
          <a:blip r:embed="rId3"/>
          <a:stretch/>
        </p:blipFill>
        <p:spPr>
          <a:xfrm>
            <a:off x="5857920" y="3500280"/>
            <a:ext cx="3038400" cy="1928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99680" y="499680"/>
            <a:ext cx="7467480" cy="72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575f6d"/>
                </a:solidFill>
                <a:latin typeface="Century Schoolbook"/>
              </a:rPr>
              <a:t>SOLUCIÓN</a:t>
            </a:r>
            <a:br>
              <a:rPr sz="2700"/>
            </a:br>
            <a:endParaRPr b="0" lang="en-US" sz="2700" spc="-1" strike="noStrike">
              <a:solidFill>
                <a:srgbClr val="575f6d"/>
              </a:solidFill>
              <a:latin typeface="Century Schoolbook"/>
            </a:endParaRPr>
          </a:p>
        </p:txBody>
      </p:sp>
      <p:sp>
        <p:nvSpPr>
          <p:cNvPr id="375" name=""/>
          <p:cNvSpPr txBox="1"/>
          <p:nvPr/>
        </p:nvSpPr>
        <p:spPr>
          <a:xfrm>
            <a:off x="0" y="1214280"/>
            <a:ext cx="9144000" cy="314352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 imagen que presenta una menor integración arquitectónica es la imagen central, ya que los paneles presentan un gran impacto visual y además no hay sustitución de elementos constructivo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76" name="Picture 3" descr=""/>
          <p:cNvPicPr/>
          <p:nvPr/>
        </p:nvPicPr>
        <p:blipFill>
          <a:blip r:embed="rId1"/>
          <a:stretch/>
        </p:blipFill>
        <p:spPr>
          <a:xfrm>
            <a:off x="1857240" y="2786040"/>
            <a:ext cx="5429520" cy="4071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575f6d"/>
              </a:solidFill>
              <a:latin typeface="Century Schoolbook"/>
            </a:endParaRPr>
          </a:p>
        </p:txBody>
      </p:sp>
      <p:sp>
        <p:nvSpPr>
          <p:cNvPr id="378" name=""/>
          <p:cNvSpPr txBox="1"/>
          <p:nvPr/>
        </p:nvSpPr>
        <p:spPr>
          <a:xfrm>
            <a:off x="428760" y="214200"/>
            <a:ext cx="8143920" cy="257184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e seguiría la tercera imagen, ya que esta situada paralela a la envolvente del edificio, pero no sustituye a ningún elemento constructivo.</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79" name="Picture 8" descr=""/>
          <p:cNvPicPr/>
          <p:nvPr/>
        </p:nvPicPr>
        <p:blipFill>
          <a:blip r:embed="rId1"/>
          <a:stretch/>
        </p:blipFill>
        <p:spPr>
          <a:xfrm>
            <a:off x="1143000" y="2214720"/>
            <a:ext cx="6983280" cy="4433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575f6d"/>
              </a:solidFill>
              <a:latin typeface="Century Schoolbook"/>
            </a:endParaRPr>
          </a:p>
        </p:txBody>
      </p:sp>
      <p:sp>
        <p:nvSpPr>
          <p:cNvPr id="381" name=""/>
          <p:cNvSpPr txBox="1"/>
          <p:nvPr/>
        </p:nvSpPr>
        <p:spPr>
          <a:xfrm>
            <a:off x="214200" y="571320"/>
            <a:ext cx="8461440" cy="304308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l mayor grado de integración lo presenta la primera imagen, ya que los módulos que en ella se muestran cumplen una doble función. Además de producir energía eléctrica, sustituyen elementos constructivos con una función estétic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82" name="Picture 5" descr=""/>
          <p:cNvPicPr/>
          <p:nvPr/>
        </p:nvPicPr>
        <p:blipFill>
          <a:blip r:embed="rId1"/>
          <a:stretch/>
        </p:blipFill>
        <p:spPr>
          <a:xfrm>
            <a:off x="1500120" y="2643120"/>
            <a:ext cx="6037200" cy="4024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entury Schoolbook"/>
              </a:rPr>
              <a:t>2.1. ESTÉTICA</a:t>
            </a:r>
            <a:endParaRPr b="0" lang="en-US" sz="3000" spc="-1" strike="noStrike">
              <a:solidFill>
                <a:srgbClr val="575f6d"/>
              </a:solidFill>
              <a:latin typeface="Century Schoolbook"/>
            </a:endParaRPr>
          </a:p>
        </p:txBody>
      </p:sp>
      <p:sp>
        <p:nvSpPr>
          <p:cNvPr id="384"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s formas en las que se pueden integrar las instalaciones fotovoltaicas en las edificaciones y demás elementos urbanos son múltiples.</a:t>
            </a: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	</a:t>
            </a:r>
            <a:r>
              <a:rPr b="0" lang="es-ES" sz="2400" spc="-1" strike="noStrike">
                <a:solidFill>
                  <a:srgbClr val="000000"/>
                </a:solidFill>
                <a:latin typeface="Century Schoolbook"/>
              </a:rPr>
              <a:t>Dependiendo del grado de integración, la solución constructiva que se adopte tendrá mayor o menor complejidad.</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l siguiente esquema representa las diferentes formas en que las instalaciones fotovoltaicas pueden integrarse en la edificación.</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575f6d"/>
              </a:solidFill>
              <a:latin typeface="Century Schoolbook"/>
            </a:endParaRPr>
          </a:p>
        </p:txBody>
      </p:sp>
      <p:sp>
        <p:nvSpPr>
          <p:cNvPr id="386" name=""/>
          <p:cNvSpPr txBox="1"/>
          <p:nvPr/>
        </p:nvSpPr>
        <p:spPr>
          <a:xfrm>
            <a:off x="456840" y="1599840"/>
            <a:ext cx="7467480" cy="22575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87" name="Picture 3" descr=""/>
          <p:cNvPicPr/>
          <p:nvPr/>
        </p:nvPicPr>
        <p:blipFill>
          <a:blip r:embed="rId1"/>
          <a:stretch/>
        </p:blipFill>
        <p:spPr>
          <a:xfrm>
            <a:off x="2000160" y="0"/>
            <a:ext cx="5187960" cy="6799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entury Schoolbook"/>
              </a:rPr>
              <a:t>IMPORTANTE</a:t>
            </a:r>
            <a:endParaRPr b="0" lang="en-US" sz="3000" spc="-1" strike="noStrike">
              <a:solidFill>
                <a:srgbClr val="575f6d"/>
              </a:solidFill>
              <a:latin typeface="Century Schoolbook"/>
            </a:endParaRPr>
          </a:p>
        </p:txBody>
      </p:sp>
      <p:sp>
        <p:nvSpPr>
          <p:cNvPr id="389" name=""/>
          <p:cNvSpPr txBox="1"/>
          <p:nvPr/>
        </p:nvSpPr>
        <p:spPr>
          <a:xfrm>
            <a:off x="456840" y="1600200"/>
            <a:ext cx="8186760" cy="487368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n la elección de la forma de integración, habrá que tener siempre presente las indicaciones realizadas al respecto por los organismos locales o autonómicos, que pueden aconsejar evitar las instalaciones que produzcan un impacto visual importante desde el exterior, o aquellas que no estén integradas en los edificio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entury Schoolbook"/>
              </a:rPr>
              <a:t>CUBIERTAS</a:t>
            </a:r>
            <a:endParaRPr b="0" lang="en-US" sz="3000" spc="-1" strike="noStrike">
              <a:solidFill>
                <a:srgbClr val="575f6d"/>
              </a:solidFill>
              <a:latin typeface="Century Schoolbook"/>
            </a:endParaRPr>
          </a:p>
        </p:txBody>
      </p:sp>
      <p:sp>
        <p:nvSpPr>
          <p:cNvPr id="391" name=""/>
          <p:cNvSpPr txBox="1"/>
          <p:nvPr/>
        </p:nvSpPr>
        <p:spPr>
          <a:xfrm>
            <a:off x="456840" y="1600200"/>
            <a:ext cx="8186760" cy="487368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s el tipo de instalación fotovoltaica más frecuente en los edificios, tanto en los de uso industrial como en el resto de los edificios. En las cubiertas totalmente integradas, se sustituyen los elementos constructivos que forman el tejado por módulos fotovoltaicos, con soluciones que van desde sustituir totalmente el revestimiento de la cubierta por módulos fotovoltaicos, sustituirlo parcialmente o utilizar tejas que integren las propias células fotovoltaicas. En el resto de los casos se opta por soluciones que causan diferente impacto visual.</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575f6d"/>
              </a:solidFill>
              <a:latin typeface="Century Schoolbook"/>
            </a:endParaRPr>
          </a:p>
        </p:txBody>
      </p:sp>
      <p:sp>
        <p:nvSpPr>
          <p:cNvPr id="393"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94" name="Picture 4" descr=""/>
          <p:cNvPicPr/>
          <p:nvPr/>
        </p:nvPicPr>
        <p:blipFill>
          <a:blip r:embed="rId1"/>
          <a:stretch/>
        </p:blipFill>
        <p:spPr>
          <a:xfrm>
            <a:off x="514440" y="531720"/>
            <a:ext cx="7486560" cy="6326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entury Schoolbook"/>
              </a:rPr>
              <a:t>CONTENIDO</a:t>
            </a:r>
            <a:br>
              <a:rPr sz="3000"/>
            </a:br>
            <a:endParaRPr b="0" lang="en-US" sz="3000" spc="-1" strike="noStrike">
              <a:solidFill>
                <a:srgbClr val="575f6d"/>
              </a:solidFill>
              <a:latin typeface="Century Schoolbook"/>
            </a:endParaRPr>
          </a:p>
        </p:txBody>
      </p:sp>
      <p:sp>
        <p:nvSpPr>
          <p:cNvPr id="354" name=""/>
          <p:cNvSpPr txBox="1"/>
          <p:nvPr/>
        </p:nvSpPr>
        <p:spPr>
          <a:xfrm>
            <a:off x="457200" y="1600200"/>
            <a:ext cx="797256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Schoolbook"/>
              </a:rPr>
              <a:t>1. Integración arquitectónica y urbanístic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Schoolbook"/>
              </a:rPr>
              <a:t>2. Aprovisionamiento, transporte y almacenamiento del material</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3.Determinación y selección de equipos y elementos necesarios para el montaje a partir de los planos de la instalació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4. Organización de los elementos mecánicos para su montaj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5. Desplazamiento e izado de equipos y material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Schoolbook"/>
              </a:rPr>
              <a:t>6. Estructura soport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7. Estructura de los sistemas de seguimiento</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575f6d"/>
                </a:solidFill>
                <a:latin typeface="Century Schoolbook"/>
              </a:rPr>
              <a:t>TIPOS DE CUBIERTAS</a:t>
            </a:r>
            <a:endParaRPr b="0" lang="en-US" sz="3000" spc="-1" strike="noStrike">
              <a:solidFill>
                <a:srgbClr val="575f6d"/>
              </a:solidFill>
              <a:latin typeface="Century Schoolbook"/>
            </a:endParaRPr>
          </a:p>
        </p:txBody>
      </p:sp>
      <p:sp>
        <p:nvSpPr>
          <p:cNvPr id="396" name=""/>
          <p:cNvSpPr txBox="1"/>
          <p:nvPr/>
        </p:nvSpPr>
        <p:spPr>
          <a:xfrm>
            <a:off x="0" y="1600200"/>
            <a:ext cx="87868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Schoolbook"/>
              </a:rPr>
              <a:t>Cubierta plana</a:t>
            </a: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	</a:t>
            </a:r>
            <a:r>
              <a:rPr b="0" lang="es-ES" sz="2400" spc="-1" strike="noStrike">
                <a:solidFill>
                  <a:srgbClr val="000000"/>
                </a:solidFill>
                <a:latin typeface="Century Schoolbook"/>
              </a:rPr>
              <a:t>Las cubiertas planas permiten la colocación del campo fotovoltaico en la posición más favorable para la captación solar, independientemente de la orientación que presente el edificio.</a:t>
            </a: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	</a:t>
            </a:r>
            <a:r>
              <a:rPr b="0" lang="es-ES" sz="2400" spc="-1" strike="noStrike">
                <a:solidFill>
                  <a:srgbClr val="000000"/>
                </a:solidFill>
                <a:latin typeface="Century Schoolbook"/>
              </a:rPr>
              <a:t>Para dar a los paneles la inclinación adecuada se emplean estructuras que levantan los módulos con la inclinación adecuada (entre 20 y 30º) para captar la máxima radiación solar. Además, esta inclinación facilita que los módulos se limpien con la lluvia.</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57120" y="428400"/>
            <a:ext cx="8429760" cy="6429240"/>
          </a:xfrm>
          <a:prstGeom prst="rect">
            <a:avLst/>
          </a:prstGeom>
          <a:noFill/>
          <a:ln w="0">
            <a:noFill/>
          </a:ln>
        </p:spPr>
        <p:txBody>
          <a:bodyPr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	</a:t>
            </a:r>
            <a:r>
              <a:rPr b="0" lang="es-ES" sz="2400" spc="-1" strike="noStrike">
                <a:solidFill>
                  <a:srgbClr val="000000"/>
                </a:solidFill>
                <a:latin typeface="Century Schoolbook"/>
              </a:rPr>
              <a:t>Otra forma de realizar una instalación fotovoltaica sobre una cubierta plana consiste en emplear paneles flexibles que se adhieren directamente sobre la superficie. </a:t>
            </a: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	</a:t>
            </a:r>
            <a:r>
              <a:rPr b="1" lang="es-ES" sz="2800" spc="-1" strike="noStrike">
                <a:solidFill>
                  <a:srgbClr val="000000"/>
                </a:solidFill>
                <a:latin typeface="Century Schoolbook"/>
              </a:rPr>
              <a:t>Ventajas:</a:t>
            </a:r>
            <a:endParaRPr b="0" lang="en-US" sz="28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Facilidad de colocación, ya que no es necesario emplear estructuras soporte. </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Tampoco presentan pérdidas por sombras. </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Además, como van adheridos a la superficie, no es necesario realizar taladros para su colocación, lo que evita la perforación del aislante.</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 </a:t>
            </a:r>
            <a:r>
              <a:rPr b="0" lang="es-ES" sz="2400" spc="-1" strike="noStrike">
                <a:solidFill>
                  <a:srgbClr val="000000"/>
                </a:solidFill>
                <a:latin typeface="Century Schoolbook"/>
              </a:rPr>
              <a:t>Tampoco añaden carga sobre la estructura, ya que son ligeros, y al ir directamente sobre la superficie no presentan resistencia al viento, con lo cual no transmite este tipo de carga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575f6d"/>
                </a:solidFill>
                <a:latin typeface="Century Schoolbook"/>
              </a:rPr>
              <a:t>CUBIERTA PLANA</a:t>
            </a:r>
            <a:endParaRPr b="0" lang="en-US" sz="3000" spc="-1" strike="noStrike">
              <a:solidFill>
                <a:srgbClr val="575f6d"/>
              </a:solidFill>
              <a:latin typeface="Century Schoolbook"/>
            </a:endParaRPr>
          </a:p>
        </p:txBody>
      </p:sp>
      <p:pic>
        <p:nvPicPr>
          <p:cNvPr id="399" name="Picture 2" descr=""/>
          <p:cNvPicPr/>
          <p:nvPr/>
        </p:nvPicPr>
        <p:blipFill>
          <a:blip r:embed="rId1"/>
          <a:stretch/>
        </p:blipFill>
        <p:spPr>
          <a:xfrm>
            <a:off x="571680" y="1500120"/>
            <a:ext cx="7338960" cy="4910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DESVENTAJAS</a:t>
            </a:r>
            <a:endParaRPr b="0" lang="en-US" sz="3000" spc="-1" strike="noStrike">
              <a:solidFill>
                <a:srgbClr val="575f6d"/>
              </a:solidFill>
              <a:latin typeface="Century Schoolbook"/>
            </a:endParaRPr>
          </a:p>
        </p:txBody>
      </p:sp>
      <p:sp>
        <p:nvSpPr>
          <p:cNvPr id="401"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uede señalarse el que precisamente por estar directamente sobre la estructura plana, no resultan autolimpiables, con lo cual se les suele acumular suciedad.</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 </a:t>
            </a:r>
            <a:r>
              <a:rPr b="0" lang="es-ES" sz="2400" spc="-1" strike="noStrike">
                <a:solidFill>
                  <a:srgbClr val="000000"/>
                </a:solidFill>
                <a:latin typeface="Century Schoolbook"/>
              </a:rPr>
              <a:t>Además, al estar estos paneles construidos con silicio amorfo, su rendimiento también es menor que el de otros módulos. </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érdida de radiación que se produce por no tener los módulos la inclinación adecuada.</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entury Schoolbook"/>
              </a:rPr>
              <a:t>CUBIERTA INCLINADA</a:t>
            </a:r>
            <a:endParaRPr b="0" lang="en-US" sz="3000" spc="-1" strike="noStrike">
              <a:solidFill>
                <a:srgbClr val="575f6d"/>
              </a:solidFill>
              <a:latin typeface="Century Schoolbook"/>
            </a:endParaRPr>
          </a:p>
        </p:txBody>
      </p:sp>
      <p:sp>
        <p:nvSpPr>
          <p:cNvPr id="403" name=""/>
          <p:cNvSpPr txBox="1"/>
          <p:nvPr/>
        </p:nvSpPr>
        <p:spPr>
          <a:xfrm>
            <a:off x="214200" y="1600200"/>
            <a:ext cx="8501040" cy="487368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ara realizar este tipo de instalaciones puede optarse por:</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olocar la estructura encima de la cubierta sobre las tejas o chapa, para lo que habrá que elegir un tipo de anclaje que garantice la seguridad de la instalación y resista las inclemencias del tiempo.</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Integrar la instalación en el techo, para lo que habrá que retirar las tejas o el revestimiento exterior, y sustituirlo por una estructura adecuada y una capa impermeable que garantice la estanquidad del tejado.</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575f6d"/>
              </a:solidFill>
              <a:latin typeface="Century Schoolbook"/>
            </a:endParaRPr>
          </a:p>
        </p:txBody>
      </p:sp>
      <p:sp>
        <p:nvSpPr>
          <p:cNvPr id="405" name=""/>
          <p:cNvSpPr txBox="1"/>
          <p:nvPr/>
        </p:nvSpPr>
        <p:spPr>
          <a:xfrm>
            <a:off x="285480" y="-360"/>
            <a:ext cx="8358120" cy="171468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Además, pueden emplearse otros tipos de estructuras que permitan, por ejemplo, salvar el desnivel de la cubierta para que los paneles queden como si se tratara de una cubierta plana.</a:t>
            </a:r>
            <a:endParaRPr b="0" lang="en-US" sz="2400" spc="-1" strike="noStrike">
              <a:solidFill>
                <a:srgbClr val="000000"/>
              </a:solidFill>
              <a:latin typeface="Century Schoolbook"/>
            </a:endParaRPr>
          </a:p>
        </p:txBody>
      </p:sp>
      <p:pic>
        <p:nvPicPr>
          <p:cNvPr id="406" name="Picture 2" descr=""/>
          <p:cNvPicPr/>
          <p:nvPr/>
        </p:nvPicPr>
        <p:blipFill>
          <a:blip r:embed="rId1"/>
          <a:stretch/>
        </p:blipFill>
        <p:spPr>
          <a:xfrm>
            <a:off x="1928880" y="1571760"/>
            <a:ext cx="4429080" cy="4992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entury Schoolbook"/>
              </a:rPr>
              <a:t>CUBIERTA CURVADA</a:t>
            </a:r>
            <a:endParaRPr b="0" lang="en-US" sz="3000" spc="-1" strike="noStrike">
              <a:solidFill>
                <a:srgbClr val="575f6d"/>
              </a:solidFill>
              <a:latin typeface="Century Schoolbook"/>
            </a:endParaRPr>
          </a:p>
        </p:txBody>
      </p:sp>
      <p:sp>
        <p:nvSpPr>
          <p:cNvPr id="408"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ara la realización de cubiertas curvas suele recurrirse el empleo de estructuras especiales que se adaptan a la forma de la superfici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575f6d"/>
                </a:solidFill>
                <a:latin typeface="Century Schoolbook"/>
              </a:rPr>
              <a:t>ESTRUCTURA INCLINADA EN CUBIERTA PLANA</a:t>
            </a:r>
            <a:br>
              <a:rPr sz="2700"/>
            </a:br>
            <a:endParaRPr b="0" lang="en-US" sz="2700" spc="-1" strike="noStrike">
              <a:solidFill>
                <a:srgbClr val="575f6d"/>
              </a:solidFill>
              <a:latin typeface="Century Schoolbook"/>
            </a:endParaRPr>
          </a:p>
        </p:txBody>
      </p:sp>
      <p:sp>
        <p:nvSpPr>
          <p:cNvPr id="410"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Se consigue mediante una estructura que permite la colocación de los módulos con la inclinación adecuada, para captar la máxima radiación posible. Esta forma de colocar los módulos permite que los módulos no se hagan sombra unos a otro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213840" y="274320"/>
            <a:ext cx="8572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entury Schoolbook"/>
              </a:rPr>
              <a:t>LUCERNARIOS Y ATRIOS </a:t>
            </a:r>
            <a:r>
              <a:rPr b="1" lang="es-ES" sz="1400" spc="-1" strike="noStrike">
                <a:solidFill>
                  <a:srgbClr val="575f6d"/>
                </a:solidFill>
                <a:latin typeface="Century Schoolbook"/>
              </a:rPr>
              <a:t>(CUBIERTA SITUADA ENTRE DOS EDIFICIOS)</a:t>
            </a:r>
            <a:endParaRPr b="0" lang="en-US" sz="1400" spc="-1" strike="noStrike">
              <a:solidFill>
                <a:srgbClr val="575f6d"/>
              </a:solidFill>
              <a:latin typeface="Century Schoolbook"/>
            </a:endParaRPr>
          </a:p>
        </p:txBody>
      </p:sp>
      <p:sp>
        <p:nvSpPr>
          <p:cNvPr id="412" name=""/>
          <p:cNvSpPr txBox="1"/>
          <p:nvPr/>
        </p:nvSpPr>
        <p:spPr>
          <a:xfrm>
            <a:off x="456840" y="1600200"/>
            <a:ext cx="8186760" cy="4873680"/>
          </a:xfrm>
          <a:prstGeom prst="rect">
            <a:avLst/>
          </a:prstGeom>
          <a:noFill/>
          <a:ln w="0">
            <a:noFill/>
          </a:ln>
        </p:spPr>
        <p:txBody>
          <a:bodyPr anchor="t">
            <a:normAutofit fontScale="97000"/>
          </a:bodyPr>
          <a:p>
            <a:pPr marL="264600" indent="-26460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s una forma de utilización de los módulos con extraordinarias posibilidades de diseño, tanto de la cubierta exterior como del espacio interior, ya que permite una transmisión selectiva de la luz natural, según la colocación que se dé a las células, distancia entre ellas, color del módulo, etc.</a:t>
            </a:r>
            <a:endParaRPr b="0" lang="en-US" sz="2400" spc="-1" strike="noStrike">
              <a:solidFill>
                <a:srgbClr val="000000"/>
              </a:solidFill>
              <a:latin typeface="Century Schoolbook"/>
            </a:endParaRPr>
          </a:p>
          <a:p>
            <a:pPr marL="264600" indent="-26460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os lucernarios presentan un alto grado de integración arquitectónica, ya que los módulos se fijan en estructuras similares a las que se emplearían para su realización con acristalamiento convencional, lo que además supone que no existen costes adicionales como consecuencia de la necesidad de emplear estructuras de soporte adicionales. Además, el paso de luz natural supone un ahorro en iluminación artificial.</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28400" y="-36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575f6d"/>
                </a:solidFill>
                <a:latin typeface="Century Schoolbook"/>
              </a:rPr>
              <a:t>LUCERNARIO</a:t>
            </a:r>
            <a:endParaRPr b="0" lang="en-US" sz="3000" spc="-1" strike="noStrike">
              <a:solidFill>
                <a:srgbClr val="575f6d"/>
              </a:solidFill>
              <a:latin typeface="Century Schoolbook"/>
            </a:endParaRPr>
          </a:p>
        </p:txBody>
      </p:sp>
      <p:sp>
        <p:nvSpPr>
          <p:cNvPr id="41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15" name="Picture 4" descr=""/>
          <p:cNvPicPr/>
          <p:nvPr/>
        </p:nvPicPr>
        <p:blipFill>
          <a:blip r:embed="rId1"/>
          <a:stretch/>
        </p:blipFill>
        <p:spPr>
          <a:xfrm>
            <a:off x="1143000" y="1500120"/>
            <a:ext cx="6716880" cy="507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99680" y="928800"/>
            <a:ext cx="7924680" cy="141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575f6d"/>
                </a:solidFill>
                <a:latin typeface="Century Schoolbook"/>
              </a:rPr>
              <a:t>CAPÍTULO 1</a:t>
            </a:r>
            <a:br>
              <a:rPr sz="2700"/>
            </a:br>
            <a:r>
              <a:rPr b="1" lang="es-ES" sz="2700" spc="-1" strike="noStrike">
                <a:solidFill>
                  <a:srgbClr val="575f6d"/>
                </a:solidFill>
                <a:latin typeface="Century Schoolbook"/>
              </a:rPr>
              <a:t>INTEGRACIÓN ARQUITECTÓNICA Y URBANÍSTICA</a:t>
            </a:r>
            <a:br>
              <a:rPr sz="2700"/>
            </a:br>
            <a:br>
              <a:rPr sz="2700"/>
            </a:br>
            <a:endParaRPr b="0" lang="en-US" sz="2700" spc="-1" strike="noStrike">
              <a:solidFill>
                <a:srgbClr val="575f6d"/>
              </a:solidFill>
              <a:latin typeface="Century Schoolbook"/>
            </a:endParaRPr>
          </a:p>
        </p:txBody>
      </p:sp>
      <p:sp>
        <p:nvSpPr>
          <p:cNvPr id="356" name=""/>
          <p:cNvSpPr txBox="1"/>
          <p:nvPr/>
        </p:nvSpPr>
        <p:spPr>
          <a:xfrm>
            <a:off x="499680" y="198432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Schoolbook"/>
              </a:rPr>
              <a:t>	</a:t>
            </a:r>
            <a:r>
              <a:rPr b="1" lang="es-ES" sz="2800" spc="-1" strike="noStrike">
                <a:solidFill>
                  <a:srgbClr val="000000"/>
                </a:solidFill>
                <a:latin typeface="Century Schoolbook"/>
              </a:rPr>
              <a:t>Contenido</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1. Introducció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2. Integración estética y técnic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3. Resumen</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DESVENTAJA</a:t>
            </a:r>
            <a:endParaRPr b="0" lang="en-US" sz="3000" spc="-1" strike="noStrike">
              <a:solidFill>
                <a:srgbClr val="575f6d"/>
              </a:solidFill>
              <a:latin typeface="Century Schoolbook"/>
            </a:endParaRPr>
          </a:p>
        </p:txBody>
      </p:sp>
      <p:sp>
        <p:nvSpPr>
          <p:cNvPr id="417" name=""/>
          <p:cNvSpPr txBox="1"/>
          <p:nvPr/>
        </p:nvSpPr>
        <p:spPr>
          <a:xfrm>
            <a:off x="285480" y="1600200"/>
            <a:ext cx="8358120" cy="487368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Debido a la poca inclinación que se les da, hay que prever el acceso a la cubierta para limpiar la suciedad que se acumula, ya que la lluvia no es suficiente para limpiar los módulos.</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n las instalaciones integradas en cubiertas, por consideraciones de integración arquitectónica o impacto visual, no será necesario ajustarse a las consideraciones de orientación e inclinación en las que se obtendría la máxima radiación solar.</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entury Schoolbook"/>
              </a:rPr>
              <a:t>FACHADAS</a:t>
            </a:r>
            <a:endParaRPr b="0" lang="en-US" sz="3000" spc="-1" strike="noStrike">
              <a:solidFill>
                <a:srgbClr val="575f6d"/>
              </a:solidFill>
              <a:latin typeface="Century Schoolbook"/>
            </a:endParaRPr>
          </a:p>
        </p:txBody>
      </p:sp>
      <p:sp>
        <p:nvSpPr>
          <p:cNvPr id="41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n este tipo de instalación fotovoltaica los módulos se incorporan en las superficies de la envolvente vertical de los edificios. Se trata de instalaciones integradas en la edificación, ya que los módulos cumplen una doble función:</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entury Schoolbook"/>
              </a:rPr>
              <a:t>generan energía </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entury Schoolbook"/>
              </a:rPr>
              <a:t>Forman parte de la envolvente del edificio.</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n este tipo de instalaciones, debido al sentido vertical con que se instalan los módulos, se desaprovecha parte de la radiación solar.</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700" spc="-1" strike="noStrike">
                <a:solidFill>
                  <a:srgbClr val="575f6d"/>
                </a:solidFill>
                <a:latin typeface="Century Schoolbook"/>
              </a:rPr>
              <a:t>TIPOS DE FACHADAS</a:t>
            </a:r>
            <a:br>
              <a:rPr sz="2700"/>
            </a:br>
            <a:r>
              <a:rPr b="1" lang="es-ES" sz="2700" spc="-1" strike="noStrike">
                <a:solidFill>
                  <a:srgbClr val="575f6d"/>
                </a:solidFill>
                <a:latin typeface="Century Schoolbook"/>
              </a:rPr>
              <a:t>FACHADAS VENTILADAS</a:t>
            </a:r>
            <a:endParaRPr b="0" lang="en-US" sz="2700" spc="-1" strike="noStrike">
              <a:solidFill>
                <a:srgbClr val="575f6d"/>
              </a:solidFill>
              <a:latin typeface="Century Schoolbook"/>
            </a:endParaRPr>
          </a:p>
        </p:txBody>
      </p:sp>
      <p:sp>
        <p:nvSpPr>
          <p:cNvPr id="421" name=""/>
          <p:cNvSpPr txBox="1"/>
          <p:nvPr/>
        </p:nvSpPr>
        <p:spPr>
          <a:xfrm>
            <a:off x="456840" y="1356840"/>
            <a:ext cx="7467480" cy="5116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En este tipo de fachadas, la construcción de la pared exterior se divide en dos capas: una interior, es la fachada de hormigón o ladrillo, resistente, estanca y aislada; y otra exterior, cuya misión es proteger a la primera de la acción directa del viento y la lluvia, además de cumplir una función estética.</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Entre las dos capas de la fachada se deja una cámara de aire que favorece la circulación del mismo y evita condensaciones. En este caso, la instalación de los módulos se realiza en la capa exterior, sobre unos perfiles que se anclan al muro de la fachada del edificio.</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El espacio entre las fachadas facilita la instalación de los módulos y la circulación de aire hace que disminuya su temperatura, lo que favorece a la producción energética.</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575f6d"/>
                </a:solidFill>
                <a:latin typeface="Century Schoolbook"/>
              </a:rPr>
              <a:t>EJEMPLO DE FACHADA VENTILADA</a:t>
            </a:r>
            <a:endParaRPr b="0" lang="en-US" sz="3000" spc="-1" strike="noStrike">
              <a:solidFill>
                <a:srgbClr val="575f6d"/>
              </a:solidFill>
              <a:latin typeface="Century Schoolbook"/>
            </a:endParaRPr>
          </a:p>
        </p:txBody>
      </p:sp>
      <p:sp>
        <p:nvSpPr>
          <p:cNvPr id="423"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24" name="Picture 2" descr=""/>
          <p:cNvPicPr/>
          <p:nvPr/>
        </p:nvPicPr>
        <p:blipFill>
          <a:blip r:embed="rId1"/>
          <a:stretch/>
        </p:blipFill>
        <p:spPr>
          <a:xfrm>
            <a:off x="1714680" y="1428840"/>
            <a:ext cx="5214600" cy="5253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entury Schoolbook"/>
              </a:rPr>
              <a:t>MUROS CORTINA</a:t>
            </a:r>
            <a:endParaRPr b="0" lang="en-US" sz="3000" spc="-1" strike="noStrike">
              <a:solidFill>
                <a:srgbClr val="575f6d"/>
              </a:solidFill>
              <a:latin typeface="Century Schoolbook"/>
            </a:endParaRPr>
          </a:p>
        </p:txBody>
      </p:sp>
      <p:sp>
        <p:nvSpPr>
          <p:cNvPr id="426"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Se trata de una fachada ligera, que no tiene consideración de elemento portante del edificio, formada por montantes y travesaños conectados y anclados en la estructura del edificio, pero en los que esta estructura auxiliar permanece suspendida, no apoyada en los forjados, y en los que el vidrio que compone el doble acristalamiento se sustituye por otro que incorpora células solares a modo de paneles fotovoltaico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Ofrece múltiples posibilidades de diseño, ya que permite combinar los paneles de acristalamiento usados normalmente en este tipo de muros con los que incorporan células fotovoltaica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575f6d"/>
                </a:solidFill>
                <a:latin typeface="Century Schoolbook"/>
              </a:rPr>
              <a:t>MURO CORTINA</a:t>
            </a:r>
            <a:endParaRPr b="0" lang="en-US" sz="3000" spc="-1" strike="noStrike">
              <a:solidFill>
                <a:srgbClr val="575f6d"/>
              </a:solidFill>
              <a:latin typeface="Century Schoolbook"/>
            </a:endParaRPr>
          </a:p>
        </p:txBody>
      </p:sp>
      <p:pic>
        <p:nvPicPr>
          <p:cNvPr id="428" name="Picture 3" descr=""/>
          <p:cNvPicPr/>
          <p:nvPr/>
        </p:nvPicPr>
        <p:blipFill>
          <a:blip r:embed="rId1"/>
          <a:stretch/>
        </p:blipFill>
        <p:spPr>
          <a:xfrm>
            <a:off x="628560" y="1928880"/>
            <a:ext cx="7123320" cy="4214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entury Schoolbook"/>
              </a:rPr>
              <a:t>FACHADA PANEL</a:t>
            </a:r>
            <a:endParaRPr b="0" lang="en-US" sz="3000" spc="-1" strike="noStrike">
              <a:solidFill>
                <a:srgbClr val="575f6d"/>
              </a:solidFill>
              <a:latin typeface="Century Schoolbook"/>
            </a:endParaRPr>
          </a:p>
        </p:txBody>
      </p:sp>
      <p:sp>
        <p:nvSpPr>
          <p:cNvPr id="43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s otro tipo de fachada ligera fotovoltaica. Se diferencia del muro cortina en que la fachada se interrumpe en cada forjado delimitando paneles o zonas independientes y, en consecuencia, la estructura auxiliar está apoyada en cada forjado.</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Se puede realizar con el campo solar cubriendo totalmente la fachada o en forma de franjas fotovoltaicas a lo largo de la misma, alternando con franjas transparente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6840" y="274320"/>
            <a:ext cx="818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75f6d"/>
                </a:solidFill>
                <a:latin typeface="Century Schoolbook"/>
              </a:rPr>
              <a:t>ELEMENTOS DE PROTECCIÓN SOLAR Y DE SOMBREADO</a:t>
            </a:r>
            <a:endParaRPr b="0" lang="en-US" sz="2400" spc="-1" strike="noStrike">
              <a:solidFill>
                <a:srgbClr val="575f6d"/>
              </a:solidFill>
              <a:latin typeface="Century Schoolbook"/>
            </a:endParaRPr>
          </a:p>
        </p:txBody>
      </p:sp>
      <p:sp>
        <p:nvSpPr>
          <p:cNvPr id="432" name=""/>
          <p:cNvSpPr txBox="1"/>
          <p:nvPr/>
        </p:nvSpPr>
        <p:spPr>
          <a:xfrm>
            <a:off x="457200" y="1600200"/>
            <a:ext cx="797256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Otra forma de aprovechar los módulos fotovoltaicos en las fachadas es incluirlos en dispositivos que normalmente se utilizan para dar sombra al edificio, como pueden ser parasoles, voladizos, aleros y porches, sustituyendo las lamas de sombreado tradicionales por otras con generadores fotovoltaicos que asumen la misma función de protección solar, evitando la entrada de radiación directa en verano con el consiguiente calentamiento excesivo del interior de los edificios, a la vez que permiten la entrada de luz natural. Se consigue además un ahorro en el consumo de energía eléctrica y aire acondicionado.</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575f6d"/>
              </a:solidFill>
              <a:latin typeface="Century Schoolbook"/>
            </a:endParaRPr>
          </a:p>
        </p:txBody>
      </p:sp>
      <p:sp>
        <p:nvSpPr>
          <p:cNvPr id="43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575f6d"/>
              </a:solidFill>
              <a:latin typeface="Century Schoolbook"/>
            </a:endParaRPr>
          </a:p>
        </p:txBody>
      </p:sp>
      <p:sp>
        <p:nvSpPr>
          <p:cNvPr id="436" name=""/>
          <p:cNvSpPr txBox="1"/>
          <p:nvPr/>
        </p:nvSpPr>
        <p:spPr>
          <a:xfrm>
            <a:off x="214200" y="428400"/>
            <a:ext cx="8501040" cy="48733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sta aplicación permite, en muchas ocasiones, dar a los módulos una inclinación próxima a la que proporcionaría el máximo rendimiento de la instalación, ya sea incluyendo elementos que mantienen una posición fija, como otros que incluyen sistemas de orientación.</a:t>
            </a:r>
            <a:endParaRPr b="0" lang="en-US" sz="2400" spc="-1" strike="noStrike">
              <a:solidFill>
                <a:srgbClr val="000000"/>
              </a:solidFill>
              <a:latin typeface="Century Schoolbook"/>
            </a:endParaRPr>
          </a:p>
        </p:txBody>
      </p:sp>
      <p:pic>
        <p:nvPicPr>
          <p:cNvPr id="437" name="Picture 3" descr=""/>
          <p:cNvPicPr/>
          <p:nvPr/>
        </p:nvPicPr>
        <p:blipFill>
          <a:blip r:embed="rId1"/>
          <a:stretch/>
        </p:blipFill>
        <p:spPr>
          <a:xfrm>
            <a:off x="1143000" y="2367000"/>
            <a:ext cx="6923160" cy="4282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entury Schoolbook"/>
              </a:rPr>
              <a:t>1. INTRODUCCIÓN</a:t>
            </a:r>
            <a:endParaRPr b="0" lang="en-US" sz="3000" spc="-1" strike="noStrike">
              <a:solidFill>
                <a:srgbClr val="575f6d"/>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	</a:t>
            </a:r>
            <a:r>
              <a:rPr b="0" lang="es-ES" sz="2400" spc="-1" strike="noStrike">
                <a:solidFill>
                  <a:srgbClr val="000000"/>
                </a:solidFill>
                <a:latin typeface="Century Schoolbook"/>
              </a:rPr>
              <a:t>	</a:t>
            </a:r>
            <a:r>
              <a:rPr b="0" lang="es-ES" sz="2400" spc="-1" strike="noStrike">
                <a:solidFill>
                  <a:srgbClr val="000000"/>
                </a:solidFill>
                <a:latin typeface="Century Schoolbook"/>
              </a:rPr>
              <a:t>Con el fin de aprovechar la energía solar en la producción de electricidad, pueden diseñarse dos tipos de instalacione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 </a:t>
            </a:r>
            <a:r>
              <a:rPr b="0" lang="es-ES" sz="2400" spc="-1" strike="noStrike">
                <a:solidFill>
                  <a:srgbClr val="000000"/>
                </a:solidFill>
                <a:latin typeface="Century Schoolbook"/>
              </a:rPr>
              <a:t>Instalaciones aisladas de r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 </a:t>
            </a:r>
            <a:r>
              <a:rPr b="0" lang="es-ES" sz="2400" spc="-1" strike="noStrike">
                <a:solidFill>
                  <a:srgbClr val="000000"/>
                </a:solidFill>
                <a:latin typeface="Century Schoolbook"/>
              </a:rPr>
              <a:t>Instalaciones conectadas a red.</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285480" y="285840"/>
            <a:ext cx="7467480" cy="48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575f6d"/>
                </a:solidFill>
                <a:latin typeface="Century Schoolbook"/>
              </a:rPr>
              <a:t>OTRAS APLICACIONES</a:t>
            </a:r>
            <a:endParaRPr b="0" lang="en-US" sz="2700" spc="-1" strike="noStrike">
              <a:solidFill>
                <a:srgbClr val="575f6d"/>
              </a:solidFill>
              <a:latin typeface="Century Schoolbook"/>
            </a:endParaRPr>
          </a:p>
        </p:txBody>
      </p:sp>
      <p:sp>
        <p:nvSpPr>
          <p:cNvPr id="439" name=""/>
          <p:cNvSpPr txBox="1"/>
          <p:nvPr/>
        </p:nvSpPr>
        <p:spPr>
          <a:xfrm>
            <a:off x="213840" y="857160"/>
            <a:ext cx="85726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No sólo los edificios pueden integrar sistemas fotovoltaicos en su diseño, ya que también se realiza en cubiertas de parkings, marquesinas o pérgolas, aprovechando de esta forma espacios a los que no se les puede dar otra utilidad, además con un alto rendimiento.</a:t>
            </a:r>
            <a:endParaRPr b="0" lang="en-US" sz="2400" spc="-1" strike="noStrike">
              <a:solidFill>
                <a:srgbClr val="000000"/>
              </a:solidFill>
              <a:latin typeface="Century Schoolbook"/>
            </a:endParaRPr>
          </a:p>
        </p:txBody>
      </p:sp>
      <p:pic>
        <p:nvPicPr>
          <p:cNvPr id="440" name="Picture 3" descr=""/>
          <p:cNvPicPr/>
          <p:nvPr/>
        </p:nvPicPr>
        <p:blipFill>
          <a:blip r:embed="rId1"/>
          <a:stretch/>
        </p:blipFill>
        <p:spPr>
          <a:xfrm>
            <a:off x="1571760" y="2743200"/>
            <a:ext cx="5857920" cy="4114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575f6d"/>
              </a:solidFill>
              <a:latin typeface="Century Schoolbook"/>
            </a:endParaRPr>
          </a:p>
        </p:txBody>
      </p:sp>
      <p:sp>
        <p:nvSpPr>
          <p:cNvPr id="442" name=""/>
          <p:cNvSpPr txBox="1"/>
          <p:nvPr/>
        </p:nvSpPr>
        <p:spPr>
          <a:xfrm>
            <a:off x="456840" y="1600200"/>
            <a:ext cx="782964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Otros elementos usados en el mobiliario urbano, como los de alumbrado público, integran sistemas fotovoltaicos que cubren sus necesidades de energía eléctrica, evitando el riesgo de corte de suministro eléctrico y con ello la falta de alumbrado en lugares de tránsito, a la vez que cumplen una función estética.</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575f6d"/>
              </a:solidFill>
              <a:latin typeface="Century Schoolbook"/>
            </a:endParaRPr>
          </a:p>
        </p:txBody>
      </p:sp>
      <p:sp>
        <p:nvSpPr>
          <p:cNvPr id="44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entury Schoolbook"/>
              </a:rPr>
              <a:t>2.2. TÉCNICA</a:t>
            </a:r>
            <a:endParaRPr b="0" lang="en-US" sz="3000" spc="-1" strike="noStrike">
              <a:solidFill>
                <a:srgbClr val="575f6d"/>
              </a:solidFill>
              <a:latin typeface="Century Schoolbook"/>
            </a:endParaRPr>
          </a:p>
        </p:txBody>
      </p:sp>
      <p:sp>
        <p:nvSpPr>
          <p:cNvPr id="44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l fin de una instalación solar fotovoltaica es la producción de la mayor cantidad posible de energía eléctrica, utilizando para ello módulos o paneles fotovoltaicos. Pero cuando se trata de integrar el sistema fotovoltaico en una construcción, hay que tener en cuenta una serie de factores de carácter estético que no se plantean al realizar otro tipo de montaje, y que van a obligar a la adopción de medidas de carácter técnico.</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575f6d"/>
              </a:solidFill>
              <a:latin typeface="Century Schoolbook"/>
            </a:endParaRPr>
          </a:p>
        </p:txBody>
      </p:sp>
      <p:sp>
        <p:nvSpPr>
          <p:cNvPr id="44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Dependiendo de las características de la instalación, serán necesarias soluciones más o menos particulares. Así, hay instalaciones en las que se pueden utilizar los paneles fotovoltaicos convencionales, como es el caso de instalaciones aisladas o de instalaciones sobre suelo, en las que no influye la estética, o de las instalaciones en las que el grado de integración es menor, como las instalaciones realizadas sobre cubiertas planas o las realizadas paralelas a las envolvente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575f6d"/>
              </a:solidFill>
              <a:latin typeface="Century Schoolbook"/>
            </a:endParaRPr>
          </a:p>
        </p:txBody>
      </p:sp>
      <p:sp>
        <p:nvSpPr>
          <p:cNvPr id="45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s mayores exigencias en el diseño de nuevos productos las presentan las instalaciones integradas. En este caso, los módulos se convierten en un elemento estructural, y por tanto, dejando aparte el aspecto energético, habrá que realizarlos con las mismas características de resistencia estructural y mecánica que se le exigen a lo materiales tradicionales a los que sustituyen.</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575f6d"/>
              </a:solidFill>
              <a:latin typeface="Century Schoolbook"/>
            </a:endParaRPr>
          </a:p>
        </p:txBody>
      </p:sp>
      <p:sp>
        <p:nvSpPr>
          <p:cNvPr id="45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os </a:t>
            </a:r>
            <a:r>
              <a:rPr b="1" lang="es-ES" sz="2400" spc="-1" strike="noStrike">
                <a:solidFill>
                  <a:srgbClr val="000000"/>
                </a:solidFill>
                <a:latin typeface="Century Schoolbook"/>
              </a:rPr>
              <a:t>vidrios usados para la elaboración de </a:t>
            </a:r>
            <a:r>
              <a:rPr b="0" lang="es-ES" sz="2400" spc="-1" strike="noStrike">
                <a:solidFill>
                  <a:srgbClr val="000000"/>
                </a:solidFill>
                <a:latin typeface="Century Schoolbook"/>
              </a:rPr>
              <a:t>módulos fotovoltaicos deben cumplir las mismas directivas que los productos de construcción. Es importante que presenten la máxima resistencia contra la rotura, sobre todo aquellos destinados a cubrir zonas de paso de personas, para evitar su caída rápida en caso de rotura.</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PANEL DOBLE VIDRIO</a:t>
            </a:r>
            <a:endParaRPr b="0" lang="en-US" sz="3000" spc="-1" strike="noStrike">
              <a:solidFill>
                <a:srgbClr val="575f6d"/>
              </a:solidFill>
              <a:latin typeface="Century Schoolbook"/>
            </a:endParaRPr>
          </a:p>
        </p:txBody>
      </p:sp>
      <p:sp>
        <p:nvSpPr>
          <p:cNvPr id="45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55" name="Picture 2" descr=""/>
          <p:cNvPicPr/>
          <p:nvPr/>
        </p:nvPicPr>
        <p:blipFill>
          <a:blip r:embed="rId1"/>
          <a:stretch/>
        </p:blipFill>
        <p:spPr>
          <a:xfrm>
            <a:off x="1143000" y="1500120"/>
            <a:ext cx="6878520" cy="51879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PANEL CRISTAL-CRISTAL-VIDRIO</a:t>
            </a:r>
            <a:endParaRPr b="0" lang="en-US" sz="3000" spc="-1" strike="noStrike">
              <a:solidFill>
                <a:srgbClr val="575f6d"/>
              </a:solidFill>
              <a:latin typeface="Century Schoolbook"/>
            </a:endParaRPr>
          </a:p>
        </p:txBody>
      </p:sp>
      <p:sp>
        <p:nvSpPr>
          <p:cNvPr id="45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58" name="Picture 2" descr=""/>
          <p:cNvPicPr/>
          <p:nvPr/>
        </p:nvPicPr>
        <p:blipFill>
          <a:blip r:embed="rId1"/>
          <a:stretch/>
        </p:blipFill>
        <p:spPr>
          <a:xfrm>
            <a:off x="1428840" y="1428840"/>
            <a:ext cx="6342120" cy="52480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575f6d"/>
              </a:solidFill>
              <a:latin typeface="Century Schoolbook"/>
            </a:endParaRPr>
          </a:p>
        </p:txBody>
      </p:sp>
      <p:sp>
        <p:nvSpPr>
          <p:cNvPr id="460" name=""/>
          <p:cNvSpPr txBox="1"/>
          <p:nvPr/>
        </p:nvSpPr>
        <p:spPr>
          <a:xfrm>
            <a:off x="142560" y="404280"/>
            <a:ext cx="8643960" cy="606924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El proceso de obtención del material con el que se construyen las células, condiciona la forma y el tamaño que éstas pueden tener.</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Las células de silicio monocristalino se obtienen a partir de un cristal-germen y son de forma circular, aunque se suelen recortar para darles forma cuadrada con los bordes redondeados y así aprovechar mejor la superficie del módulo.</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La forma en la que se fabrican las células de silicio multicristalino permite directamente la obtención de células cuadradas o rectangulares, y la tecnología de lámina delgada, no produce células individuales que posteriormente haya que conectar, sino una fina capa de 1 μm o 2 </a:t>
            </a:r>
            <a:r>
              <a:rPr b="0" lang="el-GR" sz="2200" spc="-1" strike="noStrike">
                <a:solidFill>
                  <a:srgbClr val="000000"/>
                </a:solidFill>
                <a:latin typeface="Century Schoolbook"/>
              </a:rPr>
              <a:t>μ</a:t>
            </a:r>
            <a:r>
              <a:rPr b="0" lang="es-ES" sz="2200" spc="-1" strike="noStrike">
                <a:solidFill>
                  <a:srgbClr val="000000"/>
                </a:solidFill>
                <a:latin typeface="Century Schoolbook"/>
              </a:rPr>
              <a:t>m de espesor de material semiconductor (silicio amorfo, teleruro de cadmio, seleniuro de cobre e indio, etc.) que se deposita sobre un sustrato apropiado, formándose un módulo continuo que no requiere interconexiones interiores.</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575f6d"/>
              </a:solidFill>
              <a:latin typeface="Century Schoolbook"/>
            </a:endParaRPr>
          </a:p>
        </p:txBody>
      </p:sp>
      <p:sp>
        <p:nvSpPr>
          <p:cNvPr id="360"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s instalaciones aisladas de red se realizan en lugares donde no llega la red eléctrica como son las viviendas aisladas, aplicaciones agrícolas y ganaderas, estaciones de telecomunicaciones y señalización, alumbrado y bombeo de agua.</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575f6d"/>
              </a:solidFill>
              <a:latin typeface="Century Schoolbook"/>
            </a:endParaRPr>
          </a:p>
        </p:txBody>
      </p:sp>
      <p:sp>
        <p:nvSpPr>
          <p:cNvPr id="462"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n cuanto al color, las células monocristalinas tienen un color homogéneo, normalmente azul. En las células multicristalinas el color no es homogéneo, ya que por su proceso de fabricación, el silicio no cristaliza de manera uniforme. Las células se recubren por su parte posterior con un material antirreflectante a base de bióxido de titanio o zirconio.</a:t>
            </a: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Variando el espesor de la capa antirreflectante puede variarse el color normal de las células, pero esto también hace que varíe el rango de longitudes de onda reflejadas y, por tanto, su rendimiento.</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575f6d"/>
              </a:solidFill>
              <a:latin typeface="Century Schoolbook"/>
            </a:endParaRPr>
          </a:p>
        </p:txBody>
      </p:sp>
      <p:sp>
        <p:nvSpPr>
          <p:cNvPr id="46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65" name="Picture 2" descr=""/>
          <p:cNvPicPr/>
          <p:nvPr/>
        </p:nvPicPr>
        <p:blipFill>
          <a:blip r:embed="rId1"/>
          <a:stretch/>
        </p:blipFill>
        <p:spPr>
          <a:xfrm>
            <a:off x="4500720" y="2214720"/>
            <a:ext cx="3381120" cy="3400200"/>
          </a:xfrm>
          <a:prstGeom prst="rect">
            <a:avLst/>
          </a:prstGeom>
          <a:ln w="0">
            <a:noFill/>
          </a:ln>
        </p:spPr>
      </p:pic>
      <p:pic>
        <p:nvPicPr>
          <p:cNvPr id="466" name="Picture 3" descr=""/>
          <p:cNvPicPr/>
          <p:nvPr/>
        </p:nvPicPr>
        <p:blipFill>
          <a:blip r:embed="rId2"/>
          <a:stretch/>
        </p:blipFill>
        <p:spPr>
          <a:xfrm>
            <a:off x="714240" y="2286000"/>
            <a:ext cx="3000600" cy="3321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575f6d"/>
              </a:solidFill>
              <a:latin typeface="Century Schoolbook"/>
            </a:endParaRPr>
          </a:p>
        </p:txBody>
      </p:sp>
      <p:sp>
        <p:nvSpPr>
          <p:cNvPr id="468" name=""/>
          <p:cNvSpPr txBox="1"/>
          <p:nvPr/>
        </p:nvSpPr>
        <p:spPr>
          <a:xfrm>
            <a:off x="428400" y="428400"/>
            <a:ext cx="7467480" cy="48733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También puede darse distinto diseño a los contactos de la parte posterior de la célula. Normalmente forman una malla muy tupida que cubre prácticamente toda la superficie y que puede presentar distintas formas, aunque también puede diseñarse en forma de película ópticamente transparente, que hará que la célula también lo sea.</a:t>
            </a:r>
            <a:endParaRPr b="0" lang="en-US" sz="2400" spc="-1" strike="noStrike">
              <a:solidFill>
                <a:srgbClr val="000000"/>
              </a:solidFill>
              <a:latin typeface="Century Schoolbook"/>
            </a:endParaRPr>
          </a:p>
        </p:txBody>
      </p:sp>
      <p:pic>
        <p:nvPicPr>
          <p:cNvPr id="469" name="Picture 2" descr=""/>
          <p:cNvPicPr/>
          <p:nvPr/>
        </p:nvPicPr>
        <p:blipFill>
          <a:blip r:embed="rId1"/>
          <a:stretch/>
        </p:blipFill>
        <p:spPr>
          <a:xfrm>
            <a:off x="1785960" y="3417840"/>
            <a:ext cx="5429160" cy="3440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575f6d"/>
              </a:solidFill>
              <a:latin typeface="Century Schoolbook"/>
            </a:endParaRPr>
          </a:p>
        </p:txBody>
      </p:sp>
      <p:sp>
        <p:nvSpPr>
          <p:cNvPr id="471" name=""/>
          <p:cNvSpPr txBox="1"/>
          <p:nvPr/>
        </p:nvSpPr>
        <p:spPr>
          <a:xfrm>
            <a:off x="428400" y="642960"/>
            <a:ext cx="7786440" cy="592920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Diferentes aspectos se logran también serigrafiando el vidrio trasero. La variación del color del vidrio trasero no es difícil y no afecta significativamente al rendimiento del módulo. Los fondos pueden ser coloreados con tonos afines o en contraste con el de las células, ser totalmente transparentes o traslúcidos, o tratados con ácido según convenga al diseño lanteado.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 evolución en este campo es continua, y no dejan de surgir y mejorarse técnicas que permiten la transformación de la energía del sol en energía eléctrica, como es el caso de las</a:t>
            </a:r>
            <a:r>
              <a:rPr b="1" lang="es-ES" sz="2400" spc="-1" strike="noStrike">
                <a:solidFill>
                  <a:srgbClr val="000000"/>
                </a:solidFill>
                <a:latin typeface="Century Schoolbook"/>
              </a:rPr>
              <a:t> nanopartículas (</a:t>
            </a:r>
            <a:r>
              <a:rPr b="0" lang="es-ES" sz="2400" spc="-1" strike="noStrike">
                <a:solidFill>
                  <a:srgbClr val="000000"/>
                </a:solidFill>
                <a:latin typeface="Century Schoolbook"/>
              </a:rPr>
              <a:t>Son particulas con un tamano por debajo de 300 nm.) , que permiten la creación dediseños muy avanzados.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575f6d"/>
              </a:solidFill>
              <a:latin typeface="Century Schoolbook"/>
            </a:endParaRPr>
          </a:p>
        </p:txBody>
      </p:sp>
      <p:sp>
        <p:nvSpPr>
          <p:cNvPr id="473" name=""/>
          <p:cNvSpPr txBox="1"/>
          <p:nvPr/>
        </p:nvSpPr>
        <p:spPr>
          <a:xfrm>
            <a:off x="500040" y="642960"/>
            <a:ext cx="78580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l número de células y su disposición en el módulo se pueden variar por motivos estéticos para darle mayor o menor transparencia, aunque hay que tener en cuenta que al disminuir el número de células se reduce en proporción directa la potencia eléctrica que puede obtener.</a:t>
            </a:r>
            <a:endParaRPr b="0" lang="en-US" sz="2400" spc="-1" strike="noStrike">
              <a:solidFill>
                <a:srgbClr val="000000"/>
              </a:solidFill>
              <a:latin typeface="Century Schoolbook"/>
            </a:endParaRPr>
          </a:p>
        </p:txBody>
      </p:sp>
      <p:pic>
        <p:nvPicPr>
          <p:cNvPr id="474" name="Picture 2" descr=""/>
          <p:cNvPicPr/>
          <p:nvPr/>
        </p:nvPicPr>
        <p:blipFill>
          <a:blip r:embed="rId1"/>
          <a:stretch/>
        </p:blipFill>
        <p:spPr>
          <a:xfrm>
            <a:off x="642960" y="2857680"/>
            <a:ext cx="7510320" cy="37764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6840" y="274680"/>
            <a:ext cx="818676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575f6d"/>
                </a:solidFill>
                <a:latin typeface="Century Schoolbook"/>
              </a:rPr>
              <a:t>EJERCICIOS DE REPASO Y AUTOEVALUACIÓN</a:t>
            </a:r>
            <a:br>
              <a:rPr sz="2700"/>
            </a:br>
            <a:r>
              <a:rPr b="1" lang="es-ES" sz="2700" spc="-1" strike="noStrike">
                <a:solidFill>
                  <a:srgbClr val="575f6d"/>
                </a:solidFill>
                <a:latin typeface="Century Schoolbook"/>
              </a:rPr>
              <a:t>(ENTREGAR CON NOMBRE Y FECHA)</a:t>
            </a:r>
            <a:endParaRPr b="0" lang="en-US" sz="2700" spc="-1" strike="noStrike">
              <a:solidFill>
                <a:srgbClr val="575f6d"/>
              </a:solidFill>
              <a:latin typeface="Century Schoolbook"/>
            </a:endParaRPr>
          </a:p>
        </p:txBody>
      </p:sp>
      <p:sp>
        <p:nvSpPr>
          <p:cNvPr id="476" name=""/>
          <p:cNvSpPr txBox="1"/>
          <p:nvPr/>
        </p:nvSpPr>
        <p:spPr>
          <a:xfrm>
            <a:off x="142920" y="1214280"/>
            <a:ext cx="8501040" cy="542952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entury Schoolbook"/>
              </a:rPr>
              <a:t>	</a:t>
            </a:r>
            <a:r>
              <a:rPr b="0" lang="es-ES" sz="1300" spc="-1" strike="noStrike">
                <a:solidFill>
                  <a:srgbClr val="000000"/>
                </a:solidFill>
                <a:latin typeface="Century Schoolbook"/>
              </a:rPr>
              <a:t>1. ¿Cómo es la colocación de los módulos cuando existe superposición?</a:t>
            </a:r>
            <a:endParaRPr b="0" lang="en-US" sz="1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entury Schoolbook"/>
              </a:rPr>
              <a:t>	</a:t>
            </a:r>
            <a:r>
              <a:rPr b="0" lang="es-ES" sz="1300" spc="-1" strike="noStrike">
                <a:solidFill>
                  <a:srgbClr val="000000"/>
                </a:solidFill>
                <a:latin typeface="Century Schoolbook"/>
              </a:rPr>
              <a:t>_____________________________________________________________</a:t>
            </a:r>
            <a:endParaRPr b="0" lang="en-US" sz="1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entury Schoolbook"/>
              </a:rPr>
              <a:t>	</a:t>
            </a:r>
            <a:r>
              <a:rPr b="0" lang="es-ES" sz="1300" spc="-1" strike="noStrike">
                <a:solidFill>
                  <a:srgbClr val="000000"/>
                </a:solidFill>
                <a:latin typeface="Century Schoolbook"/>
              </a:rPr>
              <a:t>_____________________________________________________________</a:t>
            </a:r>
            <a:endParaRPr b="0" lang="en-US" sz="1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entury Schoolbook"/>
              </a:rPr>
              <a:t>	</a:t>
            </a:r>
            <a:r>
              <a:rPr b="0" lang="es-ES" sz="1300" spc="-1" strike="noStrike">
                <a:solidFill>
                  <a:srgbClr val="000000"/>
                </a:solidFill>
                <a:latin typeface="Century Schoolbook"/>
              </a:rPr>
              <a:t>_____________________________________________________________</a:t>
            </a:r>
            <a:endParaRPr b="0" lang="en-US" sz="1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entury Schoolbook"/>
              </a:rPr>
              <a:t>	</a:t>
            </a:r>
            <a:r>
              <a:rPr b="0" lang="es-ES" sz="1300" spc="-1" strike="noStrike">
                <a:solidFill>
                  <a:srgbClr val="000000"/>
                </a:solidFill>
                <a:latin typeface="Century Schoolbook"/>
              </a:rPr>
              <a:t>_____________________________________________________________</a:t>
            </a:r>
            <a:endParaRPr b="0" lang="en-US" sz="1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entury Schoolbook"/>
              </a:rPr>
              <a:t>	</a:t>
            </a:r>
            <a:r>
              <a:rPr b="0" lang="es-ES" sz="1300" spc="-1" strike="noStrike">
                <a:solidFill>
                  <a:srgbClr val="000000"/>
                </a:solidFill>
                <a:latin typeface="Century Schoolbook"/>
              </a:rPr>
              <a:t>_____________________________________________________________</a:t>
            </a:r>
            <a:endParaRPr b="0" lang="en-US" sz="1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entury Schoolbook"/>
              </a:rPr>
              <a:t>	</a:t>
            </a:r>
            <a:r>
              <a:rPr b="0" lang="es-ES" sz="1300" spc="-1" strike="noStrike">
                <a:solidFill>
                  <a:srgbClr val="000000"/>
                </a:solidFill>
                <a:latin typeface="Century Schoolbook"/>
              </a:rPr>
              <a:t>2. De las siguientes frases, indique cuál es verdadera o falsa.</a:t>
            </a:r>
            <a:endParaRPr b="0" lang="en-US" sz="1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entury Schoolbook"/>
              </a:rPr>
              <a:t>	</a:t>
            </a:r>
            <a:r>
              <a:rPr b="0" lang="es-ES" sz="1300" spc="-1" strike="noStrike">
                <a:solidFill>
                  <a:srgbClr val="000000"/>
                </a:solidFill>
                <a:latin typeface="Century Schoolbook"/>
              </a:rPr>
              <a:t>a. En las cubiertas fotovoltaicas únicamente se emplean tejas que integren las propias células fotovoltaicas.</a:t>
            </a:r>
            <a:endParaRPr b="0" lang="en-US" sz="1300" spc="-1" strike="noStrike">
              <a:solidFill>
                <a:srgbClr val="000000"/>
              </a:solidFill>
              <a:latin typeface="Century Schoolbook"/>
            </a:endParaRPr>
          </a:p>
          <a:p>
            <a:pPr lvl="1" marL="639720" indent="-272880">
              <a:lnSpc>
                <a:spcPct val="80000"/>
              </a:lnSpc>
              <a:spcBef>
                <a:spcPts val="300"/>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Schoolbook"/>
              </a:rPr>
              <a:t>Verdadero</a:t>
            </a:r>
            <a:endParaRPr b="0" lang="en-US" sz="1200" spc="-1" strike="noStrike">
              <a:solidFill>
                <a:srgbClr val="000000"/>
              </a:solidFill>
              <a:latin typeface="Century Schoolbook"/>
            </a:endParaRPr>
          </a:p>
          <a:p>
            <a:pPr lvl="1" marL="639720" indent="-272880">
              <a:lnSpc>
                <a:spcPct val="80000"/>
              </a:lnSpc>
              <a:spcBef>
                <a:spcPts val="300"/>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Schoolbook"/>
              </a:rPr>
              <a:t>Falso</a:t>
            </a:r>
            <a:endParaRPr b="0" lang="en-US" sz="1200" spc="-1" strike="noStrike">
              <a:solidFill>
                <a:srgbClr val="000000"/>
              </a:solidFill>
              <a:latin typeface="Century Schoolbook"/>
            </a:endParaRPr>
          </a:p>
          <a:p>
            <a:pPr lvl="1" marL="639720" indent="-272880">
              <a:lnSpc>
                <a:spcPct val="80000"/>
              </a:lnSpc>
              <a:spcBef>
                <a:spcPts val="300"/>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entury Schoolbook"/>
              </a:rPr>
              <a:t>	</a:t>
            </a:r>
            <a:r>
              <a:rPr b="0" lang="es-ES" sz="1300" spc="-1" strike="noStrike">
                <a:solidFill>
                  <a:srgbClr val="000000"/>
                </a:solidFill>
                <a:latin typeface="Century Schoolbook"/>
              </a:rPr>
              <a:t>b. La mayor desventaja que presentan los paneles flexibles que se adhieren a las cubiertas planas es la perdida por sombras.</a:t>
            </a:r>
            <a:endParaRPr b="0" lang="en-US" sz="1300" spc="-1" strike="noStrike">
              <a:solidFill>
                <a:srgbClr val="000000"/>
              </a:solidFill>
              <a:latin typeface="Century Schoolbook"/>
            </a:endParaRPr>
          </a:p>
          <a:p>
            <a:pPr lvl="1" marL="639720" indent="-272880">
              <a:lnSpc>
                <a:spcPct val="80000"/>
              </a:lnSpc>
              <a:spcBef>
                <a:spcPts val="300"/>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Schoolbook"/>
              </a:rPr>
              <a:t>Verdadero</a:t>
            </a:r>
            <a:endParaRPr b="0" lang="en-US" sz="1200" spc="-1" strike="noStrike">
              <a:solidFill>
                <a:srgbClr val="000000"/>
              </a:solidFill>
              <a:latin typeface="Century Schoolbook"/>
            </a:endParaRPr>
          </a:p>
          <a:p>
            <a:pPr lvl="1" marL="639720" indent="-272880">
              <a:lnSpc>
                <a:spcPct val="80000"/>
              </a:lnSpc>
              <a:spcBef>
                <a:spcPts val="300"/>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Schoolbook"/>
              </a:rPr>
              <a:t>Falso</a:t>
            </a:r>
            <a:endParaRPr b="0" lang="en-US" sz="1200" spc="-1" strike="noStrike">
              <a:solidFill>
                <a:srgbClr val="000000"/>
              </a:solidFill>
              <a:latin typeface="Century Schoolbook"/>
            </a:endParaRPr>
          </a:p>
          <a:p>
            <a:pPr lvl="1" marL="639720" indent="-272880">
              <a:lnSpc>
                <a:spcPct val="80000"/>
              </a:lnSpc>
              <a:spcBef>
                <a:spcPts val="300"/>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entury Schoolbook"/>
              </a:rPr>
              <a:t>	</a:t>
            </a:r>
            <a:r>
              <a:rPr b="0" lang="es-ES" sz="1300" spc="-1" strike="noStrike">
                <a:solidFill>
                  <a:srgbClr val="000000"/>
                </a:solidFill>
                <a:latin typeface="Century Schoolbook"/>
              </a:rPr>
              <a:t>c. Para la realización de cubiertas curvas suele recurrirse al empleo de estructuras especiales que se adaptan a la forma de la superficie.</a:t>
            </a:r>
            <a:endParaRPr b="0" lang="en-US" sz="1300" spc="-1" strike="noStrike">
              <a:solidFill>
                <a:srgbClr val="000000"/>
              </a:solidFill>
              <a:latin typeface="Century Schoolbook"/>
            </a:endParaRPr>
          </a:p>
          <a:p>
            <a:pPr lvl="1" marL="639720" indent="-272880">
              <a:lnSpc>
                <a:spcPct val="80000"/>
              </a:lnSpc>
              <a:spcBef>
                <a:spcPts val="300"/>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Schoolbook"/>
              </a:rPr>
              <a:t>Verdadero</a:t>
            </a:r>
            <a:endParaRPr b="0" lang="en-US" sz="1200" spc="-1" strike="noStrike">
              <a:solidFill>
                <a:srgbClr val="000000"/>
              </a:solidFill>
              <a:latin typeface="Century Schoolbook"/>
            </a:endParaRPr>
          </a:p>
          <a:p>
            <a:pPr lvl="1" marL="639720" indent="-272880">
              <a:lnSpc>
                <a:spcPct val="80000"/>
              </a:lnSpc>
              <a:spcBef>
                <a:spcPts val="300"/>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Schoolbook"/>
              </a:rPr>
              <a:t>Falso</a:t>
            </a:r>
            <a:endParaRPr b="0" lang="en-US" sz="1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entury Schoolbook"/>
              </a:rPr>
              <a:t>	</a:t>
            </a:r>
            <a:r>
              <a:rPr b="0" lang="es-ES" sz="1300" spc="-1" strike="noStrike">
                <a:solidFill>
                  <a:srgbClr val="000000"/>
                </a:solidFill>
                <a:latin typeface="Century Schoolbook"/>
              </a:rPr>
              <a:t>d. Los lucernarios presentan un alto grado de integración arquitectónica.</a:t>
            </a:r>
            <a:endParaRPr b="0" lang="en-US" sz="1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a:p>
            <a:pPr lvl="1" marL="639720" indent="-272880">
              <a:lnSpc>
                <a:spcPct val="80000"/>
              </a:lnSpc>
              <a:spcBef>
                <a:spcPts val="300"/>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Schoolbook"/>
              </a:rPr>
              <a:t>Verdadero</a:t>
            </a:r>
            <a:endParaRPr b="0" lang="en-US" sz="1200" spc="-1" strike="noStrike">
              <a:solidFill>
                <a:srgbClr val="000000"/>
              </a:solidFill>
              <a:latin typeface="Century Schoolbook"/>
            </a:endParaRPr>
          </a:p>
          <a:p>
            <a:pPr lvl="1" marL="639720" indent="-272880">
              <a:lnSpc>
                <a:spcPct val="80000"/>
              </a:lnSpc>
              <a:spcBef>
                <a:spcPts val="300"/>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Schoolbook"/>
              </a:rPr>
              <a:t>Falso</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3 Rectángulo"/>
          <p:cNvSpPr/>
          <p:nvPr/>
        </p:nvSpPr>
        <p:spPr>
          <a:xfrm>
            <a:off x="324000" y="907920"/>
            <a:ext cx="82486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Schoolbook"/>
              </a:rPr>
              <a:t>3. Indique a qué tipo de fachada corresponde cada una de las siguientes característic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Schoolbook"/>
              </a:rPr>
              <a:t>	</a:t>
            </a:r>
            <a:r>
              <a:rPr b="0" lang="es-ES" sz="1800" spc="-1" strike="noStrike">
                <a:solidFill>
                  <a:srgbClr val="000000"/>
                </a:solidFill>
                <a:latin typeface="Century Schoolbook"/>
              </a:rPr>
              <a:t>a. La construcción de la pared exterior se divide en dos capas: una interior, estanca y aislada, y otra exterior que protege a la primer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Schoolbook"/>
              </a:rPr>
              <a:t>	</a:t>
            </a:r>
            <a:r>
              <a:rPr b="0" lang="es-ES" sz="1800" spc="-1" strike="noStrike">
                <a:solidFill>
                  <a:srgbClr val="000000"/>
                </a:solidFill>
                <a:latin typeface="Century Schoolbook"/>
              </a:rPr>
              <a:t>b. Es una fachada ligera formada por montantes y travesaños, en los que la estructura auxiliar permanece suspendida y en la que el vidrio se sustituye por otro que incorpora células sola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Schoolbook"/>
              </a:rPr>
              <a:t>	</a:t>
            </a:r>
            <a:r>
              <a:rPr b="0" lang="es-ES" sz="1800" spc="-1" strike="noStrike">
                <a:solidFill>
                  <a:srgbClr val="000000"/>
                </a:solidFill>
                <a:latin typeface="Century Schoolbook"/>
              </a:rPr>
              <a:t>c. Permite combinar los paneles de acristalamiento usados normalmente en este tipo de muros con los que incorporan células fotovoltaic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Schoolbook"/>
              </a:rPr>
              <a:t>	</a:t>
            </a:r>
            <a:r>
              <a:rPr b="0" lang="es-ES" sz="1800" spc="-1" strike="noStrike">
                <a:solidFill>
                  <a:srgbClr val="000000"/>
                </a:solidFill>
                <a:latin typeface="Century Schoolbook"/>
              </a:rPr>
              <a:t>d. La fachada se interrumpe en cada forjado de modo que la estructura auxiliar esta apoyada en cada forja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456840" y="642600"/>
            <a:ext cx="7467480" cy="58309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	</a:t>
            </a:r>
            <a:r>
              <a:rPr b="0" lang="es-ES" sz="2400" spc="-1" strike="noStrike">
                <a:solidFill>
                  <a:srgbClr val="000000"/>
                </a:solidFill>
                <a:latin typeface="Century Schoolbook"/>
              </a:rPr>
              <a:t> </a:t>
            </a:r>
            <a:r>
              <a:rPr b="0" lang="es-ES" sz="2400" spc="-1" strike="noStrike">
                <a:solidFill>
                  <a:srgbClr val="000000"/>
                </a:solidFill>
                <a:latin typeface="Century Schoolbook"/>
              </a:rPr>
              <a:t>4. Indique, en la siguiente imagen, las partes de un panel cristal-cristal-vidrio.</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79" name="Picture 2" descr=""/>
          <p:cNvPicPr/>
          <p:nvPr/>
        </p:nvPicPr>
        <p:blipFill>
          <a:blip r:embed="rId1"/>
          <a:stretch/>
        </p:blipFill>
        <p:spPr>
          <a:xfrm>
            <a:off x="2000160" y="1500120"/>
            <a:ext cx="4567320" cy="51483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360" y="142920"/>
            <a:ext cx="8358120" cy="6330960"/>
          </a:xfrm>
          <a:prstGeom prst="rect">
            <a:avLst/>
          </a:prstGeom>
          <a:noFill/>
          <a:ln w="0">
            <a:noFill/>
          </a:ln>
        </p:spPr>
        <p:txBody>
          <a:bodyPr anchor="t">
            <a:normAutofit fontScale="99000"/>
          </a:bodyPr>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	</a:t>
            </a:r>
            <a:r>
              <a:rPr b="0" lang="es-ES" sz="2200" spc="-1" strike="noStrike">
                <a:solidFill>
                  <a:srgbClr val="000000"/>
                </a:solidFill>
                <a:latin typeface="Century Schoolbook"/>
              </a:rPr>
              <a:t>5. De las siguientes frases, indique cuál es verdadera o falsa.</a:t>
            </a:r>
            <a:endParaRPr b="0" lang="en-US" sz="22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	</a:t>
            </a:r>
            <a:r>
              <a:rPr b="0" lang="es-ES" sz="2200" spc="-1" strike="noStrike">
                <a:solidFill>
                  <a:srgbClr val="000000"/>
                </a:solidFill>
                <a:latin typeface="Century Schoolbook"/>
              </a:rPr>
              <a:t>a. Las células de silicio monocristalino se obtienen a partir de un cristalgermen.</a:t>
            </a:r>
            <a:endParaRPr b="0" lang="en-US" sz="2200" spc="-1" strike="noStrike">
              <a:solidFill>
                <a:srgbClr val="000000"/>
              </a:solidFill>
              <a:latin typeface="Century Schoolbook"/>
            </a:endParaRPr>
          </a:p>
          <a:p>
            <a:pPr lvl="1" marL="633240" indent="-270000">
              <a:lnSpc>
                <a:spcPct val="80000"/>
              </a:lnSpc>
              <a:spcBef>
                <a:spcPts val="476"/>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entury Schoolbook"/>
              </a:rPr>
              <a:t>Verdadero</a:t>
            </a:r>
            <a:endParaRPr b="0" lang="en-US" sz="1900" spc="-1" strike="noStrike">
              <a:solidFill>
                <a:srgbClr val="000000"/>
              </a:solidFill>
              <a:latin typeface="Century Schoolbook"/>
            </a:endParaRPr>
          </a:p>
          <a:p>
            <a:pPr lvl="1" marL="633240" indent="-270000">
              <a:lnSpc>
                <a:spcPct val="80000"/>
              </a:lnSpc>
              <a:spcBef>
                <a:spcPts val="476"/>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entury Schoolbook"/>
              </a:rPr>
              <a:t>Falso</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	</a:t>
            </a:r>
            <a:r>
              <a:rPr b="0" lang="es-ES" sz="2200" spc="-1" strike="noStrike">
                <a:solidFill>
                  <a:srgbClr val="000000"/>
                </a:solidFill>
                <a:latin typeface="Century Schoolbook"/>
              </a:rPr>
              <a:t>b. El método de fabricación de las células de silicio monocristalino permite obtener directamente celulas cuadradas o rectangulares.</a:t>
            </a:r>
            <a:endParaRPr b="0" lang="en-US" sz="2200" spc="-1" strike="noStrike">
              <a:solidFill>
                <a:srgbClr val="000000"/>
              </a:solidFill>
              <a:latin typeface="Century Schoolbook"/>
            </a:endParaRPr>
          </a:p>
          <a:p>
            <a:pPr lvl="1" marL="633240" indent="-270000">
              <a:lnSpc>
                <a:spcPct val="80000"/>
              </a:lnSpc>
              <a:spcBef>
                <a:spcPts val="476"/>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entury Schoolbook"/>
              </a:rPr>
              <a:t>Verdadero</a:t>
            </a:r>
            <a:endParaRPr b="0" lang="en-US" sz="1900" spc="-1" strike="noStrike">
              <a:solidFill>
                <a:srgbClr val="000000"/>
              </a:solidFill>
              <a:latin typeface="Century Schoolbook"/>
            </a:endParaRPr>
          </a:p>
          <a:p>
            <a:pPr lvl="1" marL="633240" indent="-270000">
              <a:lnSpc>
                <a:spcPct val="80000"/>
              </a:lnSpc>
              <a:spcBef>
                <a:spcPts val="476"/>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entury Schoolbook"/>
              </a:rPr>
              <a:t>Falso</a:t>
            </a:r>
            <a:endParaRPr b="0" lang="en-US" sz="1900" spc="-1" strike="noStrike">
              <a:solidFill>
                <a:srgbClr val="000000"/>
              </a:solidFill>
              <a:latin typeface="Century Schoolbook"/>
            </a:endParaRPr>
          </a:p>
          <a:p>
            <a:pPr lvl="1" marL="633240" indent="-270000">
              <a:lnSpc>
                <a:spcPct val="80000"/>
              </a:lnSpc>
              <a:spcBef>
                <a:spcPts val="476"/>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	</a:t>
            </a:r>
            <a:r>
              <a:rPr b="0" lang="es-ES" sz="2200" spc="-1" strike="noStrike">
                <a:solidFill>
                  <a:srgbClr val="000000"/>
                </a:solidFill>
                <a:latin typeface="Century Schoolbook"/>
              </a:rPr>
              <a:t>c. Las celulas de silicio monocristalino pueden ser de silicio amorfo, seleniuro</a:t>
            </a:r>
            <a:r>
              <a:rPr b="0" lang="pt-BR" sz="2200" spc="-1" strike="noStrike">
                <a:solidFill>
                  <a:srgbClr val="000000"/>
                </a:solidFill>
                <a:latin typeface="Century Schoolbook"/>
              </a:rPr>
              <a:t>de cobre e indio, etc.</a:t>
            </a:r>
            <a:endParaRPr b="0" lang="en-US" sz="2200" spc="-1" strike="noStrike">
              <a:solidFill>
                <a:srgbClr val="000000"/>
              </a:solidFill>
              <a:latin typeface="Century Schoolbook"/>
            </a:endParaRPr>
          </a:p>
          <a:p>
            <a:pPr lvl="1" marL="633240" indent="-270000">
              <a:lnSpc>
                <a:spcPct val="80000"/>
              </a:lnSpc>
              <a:spcBef>
                <a:spcPts val="476"/>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entury Schoolbook"/>
              </a:rPr>
              <a:t>Verdadero</a:t>
            </a:r>
            <a:endParaRPr b="0" lang="en-US" sz="1900" spc="-1" strike="noStrike">
              <a:solidFill>
                <a:srgbClr val="000000"/>
              </a:solidFill>
              <a:latin typeface="Century Schoolbook"/>
            </a:endParaRPr>
          </a:p>
          <a:p>
            <a:pPr lvl="1" marL="633240" indent="-270000">
              <a:lnSpc>
                <a:spcPct val="80000"/>
              </a:lnSpc>
              <a:spcBef>
                <a:spcPts val="476"/>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entury Schoolbook"/>
              </a:rPr>
              <a:t>Falso</a:t>
            </a:r>
            <a:endParaRPr b="0" lang="en-US" sz="1900" spc="-1" strike="noStrike">
              <a:solidFill>
                <a:srgbClr val="000000"/>
              </a:solidFill>
              <a:latin typeface="Century Schoolbook"/>
            </a:endParaRPr>
          </a:p>
          <a:p>
            <a:pPr lvl="1" marL="633240" indent="-270000">
              <a:lnSpc>
                <a:spcPct val="80000"/>
              </a:lnSpc>
              <a:spcBef>
                <a:spcPts val="476"/>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	</a:t>
            </a:r>
            <a:r>
              <a:rPr b="0" lang="es-ES" sz="2200" spc="-1" strike="noStrike">
                <a:solidFill>
                  <a:srgbClr val="000000"/>
                </a:solidFill>
                <a:latin typeface="Century Schoolbook"/>
              </a:rPr>
              <a:t>d. Las células de silicio monocristalino son de color azul homogéneo.</a:t>
            </a:r>
            <a:endParaRPr b="0" lang="en-US" sz="2200" spc="-1" strike="noStrike">
              <a:solidFill>
                <a:srgbClr val="000000"/>
              </a:solidFill>
              <a:latin typeface="Century Schoolbook"/>
            </a:endParaRPr>
          </a:p>
          <a:p>
            <a:pPr lvl="1" marL="633240" indent="-270000">
              <a:lnSpc>
                <a:spcPct val="80000"/>
              </a:lnSpc>
              <a:spcBef>
                <a:spcPts val="476"/>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entury Schoolbook"/>
              </a:rPr>
              <a:t>Verdadero</a:t>
            </a:r>
            <a:endParaRPr b="0" lang="en-US" sz="1900" spc="-1" strike="noStrike">
              <a:solidFill>
                <a:srgbClr val="000000"/>
              </a:solidFill>
              <a:latin typeface="Century Schoolbook"/>
            </a:endParaRPr>
          </a:p>
          <a:p>
            <a:pPr lvl="1" marL="633240" indent="-270000">
              <a:lnSpc>
                <a:spcPct val="80000"/>
              </a:lnSpc>
              <a:spcBef>
                <a:spcPts val="476"/>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entury Schoolbook"/>
              </a:rPr>
              <a:t>Falso</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357120" y="-360"/>
            <a:ext cx="7467840" cy="631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entury Schoolbook"/>
              </a:rPr>
              <a:t>SOLUCIONARIO CAPÍTULO 1</a:t>
            </a:r>
            <a:endParaRPr b="0" lang="en-US" sz="3000" spc="-1" strike="noStrike">
              <a:solidFill>
                <a:srgbClr val="575f6d"/>
              </a:solidFill>
              <a:latin typeface="Century Schoolbook"/>
            </a:endParaRPr>
          </a:p>
        </p:txBody>
      </p:sp>
      <p:sp>
        <p:nvSpPr>
          <p:cNvPr id="482" name=""/>
          <p:cNvSpPr txBox="1"/>
          <p:nvPr/>
        </p:nvSpPr>
        <p:spPr>
          <a:xfrm>
            <a:off x="214200" y="713880"/>
            <a:ext cx="8358480" cy="592956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	</a:t>
            </a:r>
            <a:r>
              <a:rPr b="0" lang="es-ES" sz="1700" spc="-1" strike="noStrike">
                <a:solidFill>
                  <a:srgbClr val="000000"/>
                </a:solidFill>
                <a:latin typeface="Century Schoolbook"/>
              </a:rPr>
              <a:t>1. ¿Cómo es la colocación de los módulos cuando existe superposición?</a:t>
            </a:r>
            <a:endParaRPr b="0" lang="en-US" sz="1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	</a:t>
            </a:r>
            <a:r>
              <a:rPr b="0" lang="es-ES" sz="1700" spc="-1" strike="noStrike">
                <a:solidFill>
                  <a:srgbClr val="000000"/>
                </a:solidFill>
                <a:latin typeface="Century Schoolbook"/>
              </a:rPr>
              <a:t> </a:t>
            </a:r>
            <a:r>
              <a:rPr b="0" lang="es-ES" sz="1700" spc="-1" strike="noStrike">
                <a:solidFill>
                  <a:srgbClr val="000000"/>
                </a:solidFill>
                <a:latin typeface="Century Schoolbook"/>
              </a:rPr>
              <a:t>Cuando existe superposición, la colocación de los módulos se realiza paralela a la envolvente del edificio, pero sin funcionalidad arquitectónica, ya que no sustituye a ningún elemento constructivo.</a:t>
            </a:r>
            <a:endParaRPr b="0" lang="en-US" sz="1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	</a:t>
            </a:r>
            <a:r>
              <a:rPr b="0" lang="es-ES" sz="1700" spc="-1" strike="noStrike">
                <a:solidFill>
                  <a:srgbClr val="000000"/>
                </a:solidFill>
                <a:latin typeface="Century Schoolbook"/>
              </a:rPr>
              <a:t>2. De las siguientes frases, indique cuál es verdadera o falsa.</a:t>
            </a:r>
            <a:endParaRPr b="0" lang="en-US" sz="1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	</a:t>
            </a:r>
            <a:r>
              <a:rPr b="0" lang="es-ES" sz="1700" spc="-1" strike="noStrike">
                <a:solidFill>
                  <a:srgbClr val="000000"/>
                </a:solidFill>
                <a:latin typeface="Century Schoolbook"/>
              </a:rPr>
              <a:t>a. En las cubiertas fotovoltaicas únicamente se emplean tejas que integren las propias células fotovoltaicas.</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entury Schoolbook"/>
              </a:rPr>
              <a:t>Verdadero</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u="sng">
                <a:solidFill>
                  <a:srgbClr val="000000"/>
                </a:solidFill>
                <a:uFillTx/>
                <a:latin typeface="Century Schoolbook"/>
              </a:rPr>
              <a:t>Falso</a:t>
            </a:r>
            <a:endParaRPr b="0" lang="en-US" sz="1500" spc="-1" strike="noStrike">
              <a:solidFill>
                <a:srgbClr val="000000"/>
              </a:solidFill>
              <a:latin typeface="Century Schoolbook"/>
            </a:endParaRPr>
          </a:p>
          <a:p>
            <a:pPr lvl="1" marL="63972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	</a:t>
            </a:r>
            <a:r>
              <a:rPr b="0" lang="es-ES" sz="1700" spc="-1" strike="noStrike">
                <a:solidFill>
                  <a:srgbClr val="000000"/>
                </a:solidFill>
                <a:latin typeface="Century Schoolbook"/>
              </a:rPr>
              <a:t>b. La mayor desventaja que presentan los paneles flexibles que se adhieren a las cubiertas planas es la perdida por sombras.</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entury Schoolbook"/>
              </a:rPr>
              <a:t>Verdadero</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u="sng">
                <a:solidFill>
                  <a:srgbClr val="000000"/>
                </a:solidFill>
                <a:uFillTx/>
                <a:latin typeface="Century Schoolbook"/>
              </a:rPr>
              <a:t>Falso</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	</a:t>
            </a:r>
            <a:r>
              <a:rPr b="0" lang="es-ES" sz="1700" spc="-1" strike="noStrike">
                <a:solidFill>
                  <a:srgbClr val="000000"/>
                </a:solidFill>
                <a:latin typeface="Century Schoolbook"/>
              </a:rPr>
              <a:t>c. Para la realización de cubiertas curvas suele recurrirse al empleo de estructuras especiales que se adaptan a la forma de la superficie.</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u="sng">
                <a:solidFill>
                  <a:srgbClr val="000000"/>
                </a:solidFill>
                <a:uFillTx/>
                <a:latin typeface="Century Schoolbook"/>
              </a:rPr>
              <a:t>Verdadero</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entury Schoolbook"/>
              </a:rPr>
              <a:t>Falso</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	</a:t>
            </a:r>
            <a:r>
              <a:rPr b="0" lang="es-ES" sz="1700" spc="-1" strike="noStrike">
                <a:solidFill>
                  <a:srgbClr val="000000"/>
                </a:solidFill>
                <a:latin typeface="Century Schoolbook"/>
              </a:rPr>
              <a:t>d. Los lucernarios presentan un alto grado de integración arquitectónica.</a:t>
            </a:r>
            <a:endParaRPr b="0" lang="en-US" sz="1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u="sng">
                <a:solidFill>
                  <a:srgbClr val="000000"/>
                </a:solidFill>
                <a:uFillTx/>
                <a:latin typeface="Century Schoolbook"/>
              </a:rPr>
              <a:t>Verdadero</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entury Schoolbook"/>
              </a:rPr>
              <a:t>Falso</a:t>
            </a:r>
            <a:endParaRPr b="0" lang="en-US" sz="15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575f6d"/>
              </a:solidFill>
              <a:latin typeface="Century Schoolbook"/>
            </a:endParaRPr>
          </a:p>
        </p:txBody>
      </p:sp>
      <p:sp>
        <p:nvSpPr>
          <p:cNvPr id="362" name=""/>
          <p:cNvSpPr txBox="1"/>
          <p:nvPr/>
        </p:nvSpPr>
        <p:spPr>
          <a:xfrm>
            <a:off x="285480" y="357120"/>
            <a:ext cx="8429400" cy="650088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s instalaciones conectadas a red tienen como fin la obtención de energía eléctrica para su posterior venta. Estas instalaciones están formadas por un gran número de módulos fotovoltaicos y pueden ocupar una gran superficie. Se puede distinguir entre las instalaciones sobre suelo, conocidas como huertas, granjas o parques solares, que ocupan una gran extensión de suelo rústico e instalaciones sobre edificios que incluyen las instalaciones realizadas sobre construcciones fijas, como edificios residenciales, locales comerciales, naves industriales o edificios de oficinas. Este tipo de instalaciones, por encontrarse mayoritariamente en un entorno urbano, son las indicadas para promover en ellas acciones de integración  arquitectónica, permitiendo aprovechar los espacios urbanos para generar energía de forma limpia.</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3 Rectángulo"/>
          <p:cNvSpPr/>
          <p:nvPr/>
        </p:nvSpPr>
        <p:spPr>
          <a:xfrm>
            <a:off x="357120" y="428760"/>
            <a:ext cx="8215560" cy="57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Schoolbook"/>
              </a:rPr>
              <a:t>3. Indique a qué tipo de fachada corresponde cada una de las siguientes característic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Schoolbook"/>
              </a:rPr>
              <a:t>	</a:t>
            </a:r>
            <a:r>
              <a:rPr b="0" lang="es-ES" sz="1800" spc="-1" strike="noStrike">
                <a:solidFill>
                  <a:srgbClr val="000000"/>
                </a:solidFill>
                <a:latin typeface="Century Schoolbook"/>
              </a:rPr>
              <a:t>a. La construcción de la pared exterior se divide en dos capas: una interior, estanca y aislada, y otra exterior que protege a la primera. </a:t>
            </a:r>
            <a:r>
              <a:rPr b="1" lang="es-ES" sz="2000" spc="-1" strike="noStrike">
                <a:solidFill>
                  <a:srgbClr val="000000"/>
                </a:solidFill>
                <a:latin typeface="Century Schoolbook"/>
              </a:rPr>
              <a:t>Fachada ventilad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Schoolbook"/>
              </a:rPr>
              <a:t>	</a:t>
            </a:r>
            <a:r>
              <a:rPr b="0" lang="es-ES" sz="1800" spc="-1" strike="noStrike">
                <a:solidFill>
                  <a:srgbClr val="000000"/>
                </a:solidFill>
                <a:latin typeface="Century Schoolbook"/>
              </a:rPr>
              <a:t>b. Es una fachada ligera formada por montantes y travesaños, en los que la estructura auxiliar permanece suspendida y en la que el vidrio se sustituye por otro que incorpora células sola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Schoolbook"/>
              </a:rPr>
              <a:t> </a:t>
            </a:r>
            <a:r>
              <a:rPr b="1" lang="es-ES" sz="2000" spc="-1" strike="noStrike">
                <a:solidFill>
                  <a:srgbClr val="000000"/>
                </a:solidFill>
                <a:latin typeface="Century Schoolbook"/>
              </a:rPr>
              <a:t>Muro cortin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Schoolbook"/>
              </a:rPr>
              <a:t>	</a:t>
            </a:r>
            <a:r>
              <a:rPr b="0" lang="es-ES" sz="1800" spc="-1" strike="noStrike">
                <a:solidFill>
                  <a:srgbClr val="000000"/>
                </a:solidFill>
                <a:latin typeface="Century Schoolbook"/>
              </a:rPr>
              <a:t>c. Permite combinar los paneles de acristalamiento usados normalmente en este tipo de muros con los que incorporan células fotovoltaic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Schoolbook"/>
              </a:rPr>
              <a:t>Muro cortin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Schoolbook"/>
              </a:rPr>
              <a:t>	</a:t>
            </a:r>
            <a:r>
              <a:rPr b="0" lang="es-ES" sz="1800" spc="-1" strike="noStrike">
                <a:solidFill>
                  <a:srgbClr val="000000"/>
                </a:solidFill>
                <a:latin typeface="Century Schoolbook"/>
              </a:rPr>
              <a:t>d. La fachada se interrumpe en cada forjado de modo que la estructura auxiliar esta apoyada en cada forjad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Schoolbook"/>
              </a:rPr>
              <a:t>Fachada pan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3 Rectángulo"/>
          <p:cNvSpPr/>
          <p:nvPr/>
        </p:nvSpPr>
        <p:spPr>
          <a:xfrm>
            <a:off x="357120" y="357120"/>
            <a:ext cx="8215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Schoolbook"/>
              </a:rPr>
              <a:t>4. Indique, en la siguiente imagen, las partes de un panel cristal-cristal-vidrio.</a:t>
            </a:r>
            <a:endParaRPr b="0" lang="en-US" sz="1800" spc="-1" strike="noStrike">
              <a:solidFill>
                <a:srgbClr val="000000"/>
              </a:solidFill>
              <a:latin typeface="Arial"/>
            </a:endParaRPr>
          </a:p>
        </p:txBody>
      </p:sp>
      <p:pic>
        <p:nvPicPr>
          <p:cNvPr id="485" name="Picture 2" descr=""/>
          <p:cNvPicPr/>
          <p:nvPr/>
        </p:nvPicPr>
        <p:blipFill>
          <a:blip r:embed="rId1"/>
          <a:stretch/>
        </p:blipFill>
        <p:spPr>
          <a:xfrm>
            <a:off x="642960" y="1290600"/>
            <a:ext cx="6505560" cy="53992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360" y="142920"/>
            <a:ext cx="8358120" cy="6330960"/>
          </a:xfrm>
          <a:prstGeom prst="rect">
            <a:avLst/>
          </a:prstGeom>
          <a:noFill/>
          <a:ln w="0">
            <a:noFill/>
          </a:ln>
        </p:spPr>
        <p:txBody>
          <a:bodyPr anchor="t">
            <a:normAutofit fontScale="99000"/>
          </a:bodyPr>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	</a:t>
            </a:r>
            <a:r>
              <a:rPr b="0" lang="es-ES" sz="2200" spc="-1" strike="noStrike">
                <a:solidFill>
                  <a:srgbClr val="000000"/>
                </a:solidFill>
                <a:latin typeface="Century Schoolbook"/>
              </a:rPr>
              <a:t>5. De las siguientes frases, indique cuál es verdadera o falsa.</a:t>
            </a:r>
            <a:endParaRPr b="0" lang="en-US" sz="22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	</a:t>
            </a:r>
            <a:r>
              <a:rPr b="0" lang="es-ES" sz="2200" spc="-1" strike="noStrike">
                <a:solidFill>
                  <a:srgbClr val="000000"/>
                </a:solidFill>
                <a:latin typeface="Century Schoolbook"/>
              </a:rPr>
              <a:t>a. Las células de silicio monocristalino se obtienen a partir de un cristalgermen.</a:t>
            </a:r>
            <a:endParaRPr b="0" lang="en-US" sz="2200" spc="-1" strike="noStrike">
              <a:solidFill>
                <a:srgbClr val="000000"/>
              </a:solidFill>
              <a:latin typeface="Century Schoolbook"/>
            </a:endParaRPr>
          </a:p>
          <a:p>
            <a:pPr lvl="1" marL="633240" indent="-270000">
              <a:lnSpc>
                <a:spcPct val="80000"/>
              </a:lnSpc>
              <a:spcBef>
                <a:spcPts val="476"/>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u="sng">
                <a:solidFill>
                  <a:srgbClr val="000000"/>
                </a:solidFill>
                <a:uFillTx/>
                <a:latin typeface="Century Schoolbook"/>
              </a:rPr>
              <a:t>Verdadero</a:t>
            </a:r>
            <a:endParaRPr b="0" lang="en-US" sz="1900" spc="-1" strike="noStrike">
              <a:solidFill>
                <a:srgbClr val="000000"/>
              </a:solidFill>
              <a:latin typeface="Century Schoolbook"/>
            </a:endParaRPr>
          </a:p>
          <a:p>
            <a:pPr lvl="1" marL="633240" indent="-270000">
              <a:lnSpc>
                <a:spcPct val="80000"/>
              </a:lnSpc>
              <a:spcBef>
                <a:spcPts val="476"/>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entury Schoolbook"/>
              </a:rPr>
              <a:t>Falso</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	</a:t>
            </a:r>
            <a:r>
              <a:rPr b="0" lang="es-ES" sz="2200" spc="-1" strike="noStrike">
                <a:solidFill>
                  <a:srgbClr val="000000"/>
                </a:solidFill>
                <a:latin typeface="Century Schoolbook"/>
              </a:rPr>
              <a:t>b. El método de fabricación de las células de silicio monocristalino permite obtener directamente celulas cuadradas o rectangulares.</a:t>
            </a:r>
            <a:endParaRPr b="0" lang="en-US" sz="2200" spc="-1" strike="noStrike">
              <a:solidFill>
                <a:srgbClr val="000000"/>
              </a:solidFill>
              <a:latin typeface="Century Schoolbook"/>
            </a:endParaRPr>
          </a:p>
          <a:p>
            <a:pPr lvl="1" marL="633240" indent="-270000">
              <a:lnSpc>
                <a:spcPct val="80000"/>
              </a:lnSpc>
              <a:spcBef>
                <a:spcPts val="476"/>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entury Schoolbook"/>
              </a:rPr>
              <a:t>Verdadero</a:t>
            </a:r>
            <a:endParaRPr b="0" lang="en-US" sz="1900" spc="-1" strike="noStrike">
              <a:solidFill>
                <a:srgbClr val="000000"/>
              </a:solidFill>
              <a:latin typeface="Century Schoolbook"/>
            </a:endParaRPr>
          </a:p>
          <a:p>
            <a:pPr lvl="1" marL="633240" indent="-270000">
              <a:lnSpc>
                <a:spcPct val="80000"/>
              </a:lnSpc>
              <a:spcBef>
                <a:spcPts val="476"/>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u="sng">
                <a:solidFill>
                  <a:srgbClr val="000000"/>
                </a:solidFill>
                <a:uFillTx/>
                <a:latin typeface="Century Schoolbook"/>
              </a:rPr>
              <a:t>Falso</a:t>
            </a:r>
            <a:endParaRPr b="0" lang="en-US" sz="1900" spc="-1" strike="noStrike">
              <a:solidFill>
                <a:srgbClr val="000000"/>
              </a:solidFill>
              <a:latin typeface="Century Schoolbook"/>
            </a:endParaRPr>
          </a:p>
          <a:p>
            <a:pPr lvl="1" marL="633240" indent="-270000">
              <a:lnSpc>
                <a:spcPct val="80000"/>
              </a:lnSpc>
              <a:spcBef>
                <a:spcPts val="476"/>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	</a:t>
            </a:r>
            <a:r>
              <a:rPr b="0" lang="es-ES" sz="2200" spc="-1" strike="noStrike">
                <a:solidFill>
                  <a:srgbClr val="000000"/>
                </a:solidFill>
                <a:latin typeface="Century Schoolbook"/>
              </a:rPr>
              <a:t>c. Las celulas de silicio monocristalino pueden ser de silicio amorfo, seleniuro</a:t>
            </a:r>
            <a:r>
              <a:rPr b="0" lang="pt-BR" sz="2200" spc="-1" strike="noStrike">
                <a:solidFill>
                  <a:srgbClr val="000000"/>
                </a:solidFill>
                <a:latin typeface="Century Schoolbook"/>
              </a:rPr>
              <a:t>de cobre e indio, etc.</a:t>
            </a:r>
            <a:endParaRPr b="0" lang="en-US" sz="2200" spc="-1" strike="noStrike">
              <a:solidFill>
                <a:srgbClr val="000000"/>
              </a:solidFill>
              <a:latin typeface="Century Schoolbook"/>
            </a:endParaRPr>
          </a:p>
          <a:p>
            <a:pPr lvl="1" marL="633240" indent="-270000">
              <a:lnSpc>
                <a:spcPct val="80000"/>
              </a:lnSpc>
              <a:spcBef>
                <a:spcPts val="476"/>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entury Schoolbook"/>
              </a:rPr>
              <a:t>Verdadero</a:t>
            </a:r>
            <a:endParaRPr b="0" lang="en-US" sz="1900" spc="-1" strike="noStrike">
              <a:solidFill>
                <a:srgbClr val="000000"/>
              </a:solidFill>
              <a:latin typeface="Century Schoolbook"/>
            </a:endParaRPr>
          </a:p>
          <a:p>
            <a:pPr lvl="1" marL="633240" indent="-270000">
              <a:lnSpc>
                <a:spcPct val="80000"/>
              </a:lnSpc>
              <a:spcBef>
                <a:spcPts val="476"/>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u="sng">
                <a:solidFill>
                  <a:srgbClr val="000000"/>
                </a:solidFill>
                <a:uFillTx/>
                <a:latin typeface="Century Schoolbook"/>
              </a:rPr>
              <a:t>Falso</a:t>
            </a:r>
            <a:endParaRPr b="0" lang="en-US" sz="1900" spc="-1" strike="noStrike">
              <a:solidFill>
                <a:srgbClr val="000000"/>
              </a:solidFill>
              <a:latin typeface="Century Schoolbook"/>
            </a:endParaRPr>
          </a:p>
          <a:p>
            <a:pPr lvl="1" marL="633240" indent="-270000">
              <a:lnSpc>
                <a:spcPct val="80000"/>
              </a:lnSpc>
              <a:spcBef>
                <a:spcPts val="476"/>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	</a:t>
            </a:r>
            <a:r>
              <a:rPr b="0" lang="es-ES" sz="2200" spc="-1" strike="noStrike">
                <a:solidFill>
                  <a:srgbClr val="000000"/>
                </a:solidFill>
                <a:latin typeface="Century Schoolbook"/>
              </a:rPr>
              <a:t>d. Las células de silicio monocristalino son de color azul homogéneo.</a:t>
            </a:r>
            <a:endParaRPr b="0" lang="en-US" sz="2200" spc="-1" strike="noStrike">
              <a:solidFill>
                <a:srgbClr val="000000"/>
              </a:solidFill>
              <a:latin typeface="Century Schoolbook"/>
            </a:endParaRPr>
          </a:p>
          <a:p>
            <a:pPr lvl="1" marL="633240" indent="-270000">
              <a:lnSpc>
                <a:spcPct val="80000"/>
              </a:lnSpc>
              <a:spcBef>
                <a:spcPts val="476"/>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u="sng">
                <a:solidFill>
                  <a:srgbClr val="000000"/>
                </a:solidFill>
                <a:uFillTx/>
                <a:latin typeface="Century Schoolbook"/>
              </a:rPr>
              <a:t>Verdadero</a:t>
            </a:r>
            <a:endParaRPr b="0" lang="en-US" sz="1900" spc="-1" strike="noStrike">
              <a:solidFill>
                <a:srgbClr val="000000"/>
              </a:solidFill>
              <a:latin typeface="Century Schoolbook"/>
            </a:endParaRPr>
          </a:p>
          <a:p>
            <a:pPr lvl="1" marL="633240" indent="-270000">
              <a:lnSpc>
                <a:spcPct val="80000"/>
              </a:lnSpc>
              <a:spcBef>
                <a:spcPts val="476"/>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entury Schoolbook"/>
              </a:rPr>
              <a:t>Falso</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213840" y="-360"/>
            <a:ext cx="8286840" cy="6473880"/>
          </a:xfrm>
          <a:prstGeom prst="rect">
            <a:avLst/>
          </a:prstGeom>
          <a:noFill/>
          <a:ln w="0">
            <a:noFill/>
          </a:ln>
        </p:spPr>
        <p:txBody>
          <a:bodyPr anchor="t">
            <a:normAutofit/>
          </a:bodyPr>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l nuevo Código Técnico de la Edificación (CTE)1 obliga, desde septiembre de 2006, a la incorporación en los edificios de sistemas que propicien la reducción de la demanda energética. Entre estos sistemas se encuentran los de aprovechamiento de la energía solar, mediante la incorporación de sistemas de energía solar térmica en los edificios en los que exista demanda de agua caliente sanitaria (ACS), y también obliga a la inclusión de sistemas fotovoltaicos en determinadas aplicaciones. La normativa excluye los edificios residenciales y hace una referencia explícita a los edificios que deberán adoptar la normativa, para lo cual señala el límite a partir del cual el uso de la fotovoltaica será obligatorio.</a:t>
            </a:r>
            <a:endParaRPr b="0" lang="en-US" sz="2400" spc="-1" strike="noStrike">
              <a:solidFill>
                <a:srgbClr val="000000"/>
              </a:solidFill>
              <a:latin typeface="Century Schoolbook"/>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entury Schoolbook"/>
              </a:rPr>
              <a:t>1 Las exigencias básicas sobre ahorro de energía están recogidas en el Documento Básico HE Ahorro de energía, Sección HE 5: Contribución fotovoltaica mínima de energía eléctrica.</a:t>
            </a:r>
            <a:endParaRPr b="0" lang="en-US" sz="19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entury Schoolbook"/>
              </a:rPr>
              <a:t>2. INTEGRACIÓN ESTÉTICA Y TÉCNICA</a:t>
            </a:r>
            <a:endParaRPr b="0" lang="en-US" sz="3000" spc="-1" strike="noStrike">
              <a:solidFill>
                <a:srgbClr val="575f6d"/>
              </a:solidFill>
              <a:latin typeface="Century Schoolbook"/>
            </a:endParaRPr>
          </a:p>
        </p:txBody>
      </p:sp>
      <p:sp>
        <p:nvSpPr>
          <p:cNvPr id="365"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No es lo mismo plantear una instalación solar fotovoltaica en un edificio que ya está construido, que en uno que está en fase de proyecto. En el primer caso hay que actuar con las limitaciones que imponen tanto el entorno (edificios colindantes, presencia de árboles, chimeneas u otras estructuras que proyecten sombras, etc.) como el mismo edificio(disponibilidad de espacio para montar los elementos que componen la instalación, capacidad estructural para soportarla, etc.).</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Existen diferentes grados de integración de la instalación solar fotovoltaica en la edificación.</a:t>
            </a:r>
            <a:endParaRPr b="0" lang="en-US" sz="22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El menor grado de integración lo constituyen las instalaciones montadas sobre estructuras soporte emplazadas sobre cubiertas o fachadas del edificio. </a:t>
            </a:r>
            <a:endParaRPr b="0" lang="en-US" sz="2200" spc="-1" strike="noStrike">
              <a:solidFill>
                <a:srgbClr val="000000"/>
              </a:solidFill>
              <a:latin typeface="Century Schoolbook"/>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	</a:t>
            </a:r>
            <a:r>
              <a:rPr b="0" lang="es-ES" sz="2200" spc="-1" strike="noStrike">
                <a:solidFill>
                  <a:srgbClr val="000000"/>
                </a:solidFill>
                <a:latin typeface="Century Schoolbook"/>
              </a:rPr>
              <a:t>El impacto visual que causan es muy elevado y además no suponen ningún ahorro de elementos constructivos.</a:t>
            </a:r>
            <a:endParaRPr b="0" lang="en-US" sz="2200" spc="-1" strike="noStrike">
              <a:solidFill>
                <a:srgbClr val="000000"/>
              </a:solidFill>
              <a:latin typeface="Century Schoolbook"/>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entury Schoolbook"/>
              </a:rPr>
              <a:t>Ejemplo</a:t>
            </a:r>
            <a:endParaRPr b="0" lang="en-US" sz="2200" spc="-1" strike="noStrike">
              <a:solidFill>
                <a:srgbClr val="000000"/>
              </a:solidFill>
              <a:latin typeface="Century Schoolbook"/>
            </a:endParaRPr>
          </a:p>
          <a:p>
            <a:pPr lvl="1" marL="639720" indent="-272880" algn="just">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Schoolbook"/>
              </a:rPr>
              <a:t>Una instalación que se realiza montando las estructuras cuando la edificación ya esta realizada, sin que hubieran formado parte de su proyecto inicial</a:t>
            </a:r>
            <a:r>
              <a:rPr b="0" lang="es-ES" sz="1900" spc="-1" strike="noStrike">
                <a:solidFill>
                  <a:srgbClr val="000000"/>
                </a:solidFill>
                <a:latin typeface="Century Schoolbook"/>
              </a:rPr>
              <a:t>.</a:t>
            </a:r>
            <a:endParaRPr b="0" lang="en-US" sz="1900" spc="-1" strike="noStrike">
              <a:solidFill>
                <a:srgbClr val="000000"/>
              </a:solidFill>
              <a:latin typeface="Century Schoolbook"/>
            </a:endParaRPr>
          </a:p>
          <a:p>
            <a:pPr marL="272880" indent="-272880">
              <a:lnSpc>
                <a:spcPct val="9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uario </cp:lastModifiedBy>
  <dcterms:modified xsi:type="dcterms:W3CDTF">2008-01-05T03:34:07Z</dcterms:modified>
  <cp:revision>46</cp:revision>
  <dc:subject/>
  <dc:title>Diapositiva 1</dc:title>
</cp:coreProperties>
</file>