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973-6824-42D8-B57F-F8AE4FA5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ABB-B67D-4710-8875-FF71D927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D35-17DC-4413-90FE-7FCC592D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E46-2C81-496D-BB75-49DFEA8F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E67-2C20-4821-888A-1DCBDBA1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026-BB35-49A0-A7E3-79BAE15F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C03-7023-45DD-A3AB-706A1B2E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C9C-8994-4974-8A1C-8E3BCD1D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B99-8607-4631-94B3-217A7C6E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F64-92D2-4AB5-85FC-373DD299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7D8-B616-4E82-A063-92199CD5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C03-0C16-44BE-BE5E-08ED1AF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95EE-82A6-4DB9-A7A7-3ECF4DF4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840" y="260280"/>
            <a:ext cx="8569080" cy="63374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844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cc"/>
                </a:solidFill>
                <a:latin typeface="Arial"/>
              </a:rPr>
              <a:t>PowerPoint</a:t>
            </a:r>
            <a:br>
              <a:rPr sz="4000"/>
            </a:br>
            <a:r>
              <a:rPr b="0" lang="id-ID" sz="4000" spc="-1" strike="noStrike">
                <a:solidFill>
                  <a:srgbClr val="0000cc"/>
                </a:solidFill>
                <a:latin typeface="Arial"/>
              </a:rPr>
              <a:t>Pembelajaran</a:t>
            </a:r>
            <a:br>
              <a:rPr sz="4000"/>
            </a:br>
            <a:r>
              <a:rPr b="0" lang="id-ID" sz="4000" spc="-1" strike="noStrike">
                <a:solidFill>
                  <a:srgbClr val="0000cc"/>
                </a:solidFill>
                <a:latin typeface="Arial"/>
              </a:rPr>
              <a:t>Teorema</a:t>
            </a:r>
            <a:br>
              <a:rPr sz="4000"/>
            </a:br>
            <a:r>
              <a:rPr b="0" lang="id-ID" sz="4000" spc="-1" strike="noStrike">
                <a:solidFill>
                  <a:srgbClr val="0000cc"/>
                </a:solidFill>
                <a:latin typeface="Arial"/>
              </a:rPr>
              <a:t>Pythag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413240"/>
            <a:ext cx="5662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333399"/>
                </a:solidFill>
                <a:latin typeface="Arial"/>
              </a:rPr>
              <a:t>Ole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c0000"/>
                </a:solidFill>
                <a:latin typeface="Arial"/>
              </a:rPr>
              <a:t>Fadjar Shad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c0000"/>
                </a:solidFill>
                <a:latin typeface="Arial"/>
              </a:rPr>
              <a:t>WI PPPPTK Mate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92640"/>
            <a:ext cx="8207280" cy="201600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188720" cy="1778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68360" y="476280"/>
            <a:ext cx="8207280" cy="367344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>
            <a:off x="970920" y="1268280"/>
            <a:ext cx="4321080" cy="4321440"/>
          </a:xfrm>
          <a:custGeom>
            <a:avLst/>
            <a:gdLst/>
            <a:ahLst/>
            <a:rect l="l" t="t" r="r" b="b"/>
            <a:pathLst>
              <a:path w="2722" h="2722">
                <a:moveTo>
                  <a:pt x="0" y="1815"/>
                </a:moveTo>
                <a:lnTo>
                  <a:pt x="1815" y="2722"/>
                </a:lnTo>
                <a:lnTo>
                  <a:pt x="2722" y="907"/>
                </a:lnTo>
                <a:lnTo>
                  <a:pt x="907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970920" y="27082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1815"/>
                </a:moveTo>
                <a:lnTo>
                  <a:pt x="907" y="1815"/>
                </a:lnTo>
                <a:lnTo>
                  <a:pt x="907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11280" y="4149720"/>
            <a:ext cx="2881440" cy="1440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508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149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39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57320" y="5288040"/>
            <a:ext cx="216000" cy="2160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0" y="0"/>
                </a:moveTo>
                <a:lnTo>
                  <a:pt x="0" y="136"/>
                </a:lnTo>
                <a:lnTo>
                  <a:pt x="136" y="1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71640" y="1266840"/>
            <a:ext cx="2884320" cy="1442880"/>
            <a:chOff x="971640" y="1266840"/>
            <a:chExt cx="2884320" cy="1442880"/>
          </a:xfrm>
        </p:grpSpPr>
        <p:sp>
          <p:nvSpPr>
            <p:cNvPr id="55" name=""/>
            <p:cNvSpPr/>
            <p:nvPr/>
          </p:nvSpPr>
          <p:spPr>
            <a:xfrm>
              <a:off x="971640" y="1266840"/>
              <a:ext cx="2884320" cy="1442880"/>
            </a:xfrm>
            <a:custGeom>
              <a:avLst/>
              <a:gdLst/>
              <a:ahLst/>
              <a:rect l="l" t="t" r="r" b="b"/>
              <a:pathLst>
                <a:path w="1817" h="909">
                  <a:moveTo>
                    <a:pt x="1817" y="0"/>
                  </a:moveTo>
                  <a:lnTo>
                    <a:pt x="1808" y="909"/>
                  </a:lnTo>
                  <a:lnTo>
                    <a:pt x="0" y="908"/>
                  </a:lnTo>
                  <a:lnTo>
                    <a:pt x="1817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7280" y="213372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880240" y="836640"/>
            <a:ext cx="295272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Perhatikan segitiga siku-siku i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77000" y="1649520"/>
            <a:ext cx="295272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Perhatikan persegi pink. Berapa luasny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52720" y="1268280"/>
            <a:ext cx="1440000" cy="2881440"/>
            <a:chOff x="3852720" y="1268280"/>
            <a:chExt cx="1440000" cy="2881440"/>
          </a:xfrm>
        </p:grpSpPr>
        <p:sp>
          <p:nvSpPr>
            <p:cNvPr id="60" name=""/>
            <p:cNvSpPr/>
            <p:nvPr/>
          </p:nvSpPr>
          <p:spPr>
            <a:xfrm>
              <a:off x="3852720" y="1268280"/>
              <a:ext cx="1440000" cy="2881440"/>
            </a:xfrm>
            <a:custGeom>
              <a:avLst/>
              <a:gdLst/>
              <a:ahLst/>
              <a:rect l="l" t="t" r="r" b="b"/>
              <a:pathLst>
                <a:path w="907" h="1815">
                  <a:moveTo>
                    <a:pt x="0" y="0"/>
                  </a:moveTo>
                  <a:lnTo>
                    <a:pt x="0" y="1815"/>
                  </a:lnTo>
                  <a:lnTo>
                    <a:pt x="907" y="1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67280" y="3068640"/>
              <a:ext cx="6490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852720" y="4149720"/>
            <a:ext cx="1422720" cy="719280"/>
            <a:chOff x="3852720" y="4149720"/>
            <a:chExt cx="1422720" cy="719280"/>
          </a:xfrm>
        </p:grpSpPr>
        <p:sp>
          <p:nvSpPr>
            <p:cNvPr id="63" name=""/>
            <p:cNvSpPr/>
            <p:nvPr/>
          </p:nvSpPr>
          <p:spPr>
            <a:xfrm>
              <a:off x="3852720" y="4149720"/>
              <a:ext cx="1422720" cy="719280"/>
            </a:xfrm>
            <a:custGeom>
              <a:avLst/>
              <a:gdLst/>
              <a:ahLst/>
              <a:rect l="l" t="t" r="r" b="b"/>
              <a:pathLst>
                <a:path w="896" h="453">
                  <a:moveTo>
                    <a:pt x="896" y="8"/>
                  </a:moveTo>
                  <a:cubicBezTo>
                    <a:pt x="884" y="8"/>
                    <a:pt x="872" y="8"/>
                    <a:pt x="860" y="8"/>
                  </a:cubicBezTo>
                  <a:lnTo>
                    <a:pt x="0" y="0"/>
                  </a:lnTo>
                  <a:lnTo>
                    <a:pt x="0" y="453"/>
                  </a:lnTo>
                  <a:lnTo>
                    <a:pt x="896" y="8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95640" y="41702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971640" y="1268280"/>
            <a:ext cx="2884320" cy="1442880"/>
            <a:chOff x="971640" y="1268280"/>
            <a:chExt cx="2884320" cy="1442880"/>
          </a:xfrm>
        </p:grpSpPr>
        <p:sp>
          <p:nvSpPr>
            <p:cNvPr id="66" name=""/>
            <p:cNvSpPr/>
            <p:nvPr/>
          </p:nvSpPr>
          <p:spPr>
            <a:xfrm>
              <a:off x="971640" y="1268280"/>
              <a:ext cx="2884320" cy="1442880"/>
            </a:xfrm>
            <a:custGeom>
              <a:avLst/>
              <a:gdLst/>
              <a:ahLst/>
              <a:rect l="l" t="t" r="r" b="b"/>
              <a:pathLst>
                <a:path w="1817" h="909">
                  <a:moveTo>
                    <a:pt x="1817" y="0"/>
                  </a:moveTo>
                  <a:lnTo>
                    <a:pt x="1808" y="909"/>
                  </a:lnTo>
                  <a:lnTo>
                    <a:pt x="0" y="908"/>
                  </a:lnTo>
                  <a:lnTo>
                    <a:pt x="1817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27280" y="213516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877000" y="2490840"/>
            <a:ext cx="295272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Perhatikan segi-tiga siku-siku no. I dan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1243080"/>
            <a:ext cx="1440" cy="43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70828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51280" y="1268280"/>
            <a:ext cx="1440000" cy="2881440"/>
            <a:chOff x="3851280" y="1268280"/>
            <a:chExt cx="1440000" cy="2881440"/>
          </a:xfrm>
        </p:grpSpPr>
        <p:sp>
          <p:nvSpPr>
            <p:cNvPr id="72" name=""/>
            <p:cNvSpPr/>
            <p:nvPr/>
          </p:nvSpPr>
          <p:spPr>
            <a:xfrm>
              <a:off x="3851280" y="1268280"/>
              <a:ext cx="1440000" cy="2881440"/>
            </a:xfrm>
            <a:custGeom>
              <a:avLst/>
              <a:gdLst/>
              <a:ahLst/>
              <a:rect l="l" t="t" r="r" b="b"/>
              <a:pathLst>
                <a:path w="907" h="1815">
                  <a:moveTo>
                    <a:pt x="0" y="0"/>
                  </a:moveTo>
                  <a:lnTo>
                    <a:pt x="0" y="1815"/>
                  </a:lnTo>
                  <a:lnTo>
                    <a:pt x="907" y="18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65840" y="3068640"/>
              <a:ext cx="6490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867280" y="3330720"/>
            <a:ext cx="295272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Perhatikan persegi biru dan  dua persegi m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268280"/>
            <a:ext cx="4321080" cy="4321440"/>
          </a:xfrm>
          <a:custGeom>
            <a:avLst/>
            <a:gdLst/>
            <a:ahLst/>
            <a:rect l="l" t="t" r="r" b="b"/>
            <a:pathLst>
              <a:path w="2722" h="2722">
                <a:moveTo>
                  <a:pt x="0" y="907"/>
                </a:moveTo>
                <a:lnTo>
                  <a:pt x="1814" y="0"/>
                </a:lnTo>
                <a:lnTo>
                  <a:pt x="2722" y="1815"/>
                </a:lnTo>
                <a:lnTo>
                  <a:pt x="907" y="2722"/>
                </a:lnTo>
                <a:lnTo>
                  <a:pt x="0" y="907"/>
                </a:lnTo>
                <a:close/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2708280"/>
            <a:ext cx="4321080" cy="2881440"/>
          </a:xfrm>
          <a:custGeom>
            <a:avLst/>
            <a:gdLst/>
            <a:ahLst/>
            <a:rect l="l" t="t" r="r" b="b"/>
            <a:pathLst>
              <a:path w="2722" h="1815">
                <a:moveTo>
                  <a:pt x="1814" y="908"/>
                </a:moveTo>
                <a:lnTo>
                  <a:pt x="2722" y="908"/>
                </a:lnTo>
                <a:lnTo>
                  <a:pt x="2722" y="1815"/>
                </a:lnTo>
                <a:lnTo>
                  <a:pt x="0" y="1815"/>
                </a:lnTo>
                <a:lnTo>
                  <a:pt x="0" y="0"/>
                </a:lnTo>
                <a:lnTo>
                  <a:pt x="1814" y="0"/>
                </a:lnTo>
                <a:lnTo>
                  <a:pt x="1814" y="1815"/>
                </a:ln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4118040"/>
            <a:ext cx="2952720" cy="119124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Apa yang dapat Anda katakan tentang luas daerah persegi biru dan  dua persegi mer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5487840"/>
            <a:ext cx="295272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bbe0e3"/>
                </a:solidFill>
                <a:latin typeface="Arial"/>
              </a:rPr>
              <a:t>Apa kesimpulan An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26120" y="611028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441440" y="5979960"/>
                <a:ext cx="34574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akah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56360" y="6093000"/>
            <a:ext cx="244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cc0000"/>
                </a:solidFill>
                <a:latin typeface="Arial"/>
              </a:rPr>
              <a:t>Klik Untuk Lanj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5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500"/>
                            </p:stCondLst>
                            <p:childTnLst>
                              <p:par>
                                <p:cTn id="207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10731E-006 L 0.15747 0.41975 E">
                                      <p:cBhvr>
                                        <p:cTn id="223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9306E-007 L -0.31493 0.20976 E">
                                      <p:cBhvr>
                                        <p:cTn id="229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5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6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5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6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2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4:13:21Z</dcterms:created>
  <dc:creator>FadjarShadiq</dc:creator>
  <dc:description/>
  <dc:language>en-US</dc:language>
  <cp:lastModifiedBy>TOSHIBA</cp:lastModifiedBy>
  <dcterms:modified xsi:type="dcterms:W3CDTF">2007-10-04T00:09:24Z</dcterms:modified>
  <cp:revision>6</cp:revision>
  <dc:subject/>
  <dc:title>Pembuktian Teorema Pythagoras</dc:title>
</cp:coreProperties>
</file>