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0158413" cy="7621588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Click to move the slide</a:t>
            </a: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8FE3-A899-46E0-B904-373D47F0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531D-C125-4595-9BF8-67DAABA7DCC8}" type="slidenum">
              <a:rPr b="0" lang="en-US" sz="1200" spc="-1" strike="noStrike">
                <a:solidFill>
                  <a:srgbClr val="4a7594"/>
                </a:solidFill>
                <a:latin typeface="Helvetica Neue Bold Condensed"/>
              </a:rPr>
              <a:t>&lt;number&gt;</a:t>
            </a:fld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812880" y="203040"/>
            <a:ext cx="853416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986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84040" y="215892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81288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986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84040" y="4494240"/>
            <a:ext cx="27478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5800" y="449424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88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58920"/>
            <a:ext cx="416448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2880" y="4494240"/>
            <a:ext cx="8534160" cy="213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17440" y="4101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Click to edit the title text format</a:t>
            </a: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17440" y="614628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2000"/>
          </a:bodyPr>
          <a:p>
            <a:pPr marL="1094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1" marL="109440" indent="-109440">
              <a:buClr>
                <a:srgbClr val="5483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2" marL="109440" indent="-109440">
              <a:buClr>
                <a:srgbClr val="5483a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3" marL="109440" indent="-109440">
              <a:buClr>
                <a:srgbClr val="5483a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4" marL="109440" indent="-109440">
              <a:buClr>
                <a:srgbClr val="5483a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5" marL="109440" indent="-109440">
              <a:buClr>
                <a:srgbClr val="4a759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lvl="6" marL="109440" indent="-109440">
              <a:buClr>
                <a:srgbClr val="4a7594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</p:txBody>
      </p:sp>
      <p:pic>
        <p:nvPicPr>
          <p:cNvPr id="40" name="Picture 4" descr=""/>
          <p:cNvPicPr/>
          <p:nvPr/>
        </p:nvPicPr>
        <p:blipFill>
          <a:blip r:embed="rId3"/>
          <a:stretch/>
        </p:blipFill>
        <p:spPr>
          <a:xfrm>
            <a:off x="0" y="228600"/>
            <a:ext cx="10591920" cy="148608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9385200" y="5460840"/>
            <a:ext cx="546120" cy="559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8600" y="5460840"/>
            <a:ext cx="546120" cy="55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7594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004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28560" indent="-319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97164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314360" indent="-32004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657080" indent="-319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657080" indent="-31968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657080" indent="-31968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304920" y="5956200"/>
            <a:ext cx="9921600" cy="1460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9398160" y="876240"/>
            <a:ext cx="546120" cy="55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216000" y="876240"/>
            <a:ext cx="546120" cy="55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812880" y="115560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31644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21360" indent="-3160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96084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299600" indent="-31644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638720" indent="-3160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638720" indent="-316080">
              <a:spcBef>
                <a:spcPts val="3801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638720" indent="-316080">
              <a:spcBef>
                <a:spcPts val="3801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-216000" y="0"/>
            <a:ext cx="10591920" cy="1486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9921600" cy="1460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220680" y="216000"/>
            <a:ext cx="9728280" cy="72054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7594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12520" y="2158920"/>
            <a:ext cx="41655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6000"/>
          </a:bodyPr>
          <a:p>
            <a:pPr marL="27000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53064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2" marL="82044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3" marL="110988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4" marL="1399320" indent="-27000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5" marL="1399320" indent="-27000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6" marL="1399320" indent="-270000">
              <a:spcBef>
                <a:spcPts val="2500"/>
              </a:spcBef>
              <a:buClr>
                <a:srgbClr val="4a7594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385200" y="876240"/>
            <a:ext cx="546120" cy="55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28600" y="876240"/>
            <a:ext cx="546120" cy="558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iaa.coppermoon.ca/home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iaa.coppermoon.ca/home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57320" y="22251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1" lang="en-US" sz="5800" spc="-1" strike="noStrike">
                <a:solidFill>
                  <a:srgbClr val="d5d4d6"/>
                </a:solidFill>
                <a:latin typeface="Arial"/>
              </a:rPr>
              <a:t>Presentation to the 2012 Gitxsan Summit</a:t>
            </a:r>
            <a:br>
              <a:rPr sz="5800"/>
            </a:br>
            <a:endParaRPr b="1" lang="en-US" sz="5800" spc="-1" strike="noStrike">
              <a:solidFill>
                <a:srgbClr val="d5d4d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17440" y="6146280"/>
            <a:ext cx="8229600" cy="1257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         </a:t>
            </a: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Skeena Ice Arena Association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                 </a:t>
            </a:r>
            <a:r>
              <a:rPr b="1" lang="en-US" sz="3400" spc="-1" strike="noStrike">
                <a:solidFill>
                  <a:srgbClr val="5483a6"/>
                </a:solidFill>
                <a:latin typeface="Arial"/>
              </a:rPr>
              <a:t>Building Committee</a:t>
            </a:r>
            <a:endParaRPr b="1" lang="en-US" sz="3400" spc="-1" strike="noStrike">
              <a:solidFill>
                <a:srgbClr val="5483a6"/>
              </a:solidFill>
              <a:latin typeface="Arial"/>
            </a:endParaRPr>
          </a:p>
        </p:txBody>
      </p:sp>
      <p:pic>
        <p:nvPicPr>
          <p:cNvPr id="211" name="Picture 7" descr="logo"/>
          <p:cNvPicPr/>
          <p:nvPr/>
        </p:nvPicPr>
        <p:blipFill>
          <a:blip r:embed="rId1"/>
          <a:stretch/>
        </p:blipFill>
        <p:spPr>
          <a:xfrm>
            <a:off x="3462480" y="3594240"/>
            <a:ext cx="31017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1960" y="353520"/>
            <a:ext cx="8534160" cy="1590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7594"/>
                </a:solidFill>
                <a:latin typeface="Arial"/>
              </a:rPr>
              <a:t>USRC Project Scope</a:t>
            </a:r>
            <a:endParaRPr b="0" lang="en-US" sz="44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6880" y="2009880"/>
            <a:ext cx="9217080" cy="533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Phase 1: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9.0 millio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Replacement of Ken Trombley Memorial Arena with the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Phase 2: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1.0 million (est.)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Possible Repurposing of the Ken Trombley Memorial Arena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46461"/>
                </a:solidFill>
                <a:uFillTx/>
                <a:latin typeface="Arial"/>
              </a:rPr>
              <a:t>Operational 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$250,000/yea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Arial"/>
              </a:rPr>
              <a:t>Comprehensive and collaborative programming of USRC for sport, recreation, health, wellness, </a:t>
            </a: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2500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014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a7594"/>
                </a:solidFill>
                <a:latin typeface="Arial"/>
              </a:rPr>
              <a:t>USRC DESIGN CONSIDERATIONS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8520" y="1145880"/>
            <a:ext cx="8534520" cy="604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Spectator seating for 600-800 including ‘barrier-free’ seating for wheelchair user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Building Structure will consist of insulated, pre-engineered  wood or steel building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Energy efficient, such as high R value, waste heat recovery, geo thermal, lighting systems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Five Dressing Rooms, 1 – 700sf, 4- 400sf, complete with showers and washroom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Ref’s Room , Accessible Restrooms , NHL size ice surface (200’x85’)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ce Cleaner Room ,Staff Office ,Staff room ,Meeting Room ,Team storage locker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Long House Concept for entrance Lobby , Concession in main lobby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Sprinkler Room, Electrical Room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PA system for voice and music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Players Benches, Penalty Area ,Skate Shop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Use of Wood required to meet Wood First Act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601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Rink Boards complete with puck board and plexi-glas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12880" y="2158920"/>
            <a:ext cx="85341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-693720" y="23760"/>
            <a:ext cx="11920680" cy="771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12880" y="115560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8600" cy="75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ACTIONS TO DATE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65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1658600" cy="754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ACTIONS TO DATE/IN-PROGRESS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8520" y="1288800"/>
            <a:ext cx="8534520" cy="561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ITE SURVEY                               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GEOTECHNICAL ASSESSMENT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RCHITECTUAL CONCEPT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COMMUNICATION STRATEGY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BUSINESS PLA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CTIVELY EXPLORING WOOD FIRST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MECHANICAL SYSTEMS STUDY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LEVERAGING OF ALL COMMUNITY RESOURCE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MULTI-AGENCY COLLABORATIVE MODEL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RATEGIC CONVERSATIONS AND ASSESSMENT FOR A FUNDRAISING CAMPAIGN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ACTIVE APPEAL TO PROVINCIAL AND FEDERAL GOVERNMENT FOR SUPPORT OF USRC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a7594"/>
                </a:solidFill>
                <a:latin typeface="Arial"/>
              </a:rPr>
              <a:t>FOR CHILDREN &amp; YOUTH</a:t>
            </a:r>
            <a:endParaRPr b="0" lang="en-US" sz="48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4600" y="1938240"/>
            <a:ext cx="44830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“</a:t>
            </a: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Our hope and legacy is embedded in our youth and our children”</a:t>
            </a:r>
            <a:endParaRPr b="0" lang="en-US" sz="4000" spc="-1" strike="noStrike">
              <a:solidFill>
                <a:srgbClr val="646461"/>
              </a:solidFill>
              <a:latin typeface="Arial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rcRect l="2129" t="0" r="45461" b="0"/>
          <a:stretch/>
        </p:blipFill>
        <p:spPr>
          <a:xfrm>
            <a:off x="4935600" y="2124000"/>
            <a:ext cx="4597200" cy="391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CHALLENGE &amp; OPPORTUNITY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mminent closure of the KTMA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lvl="1" marL="63720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mpact of the closure without the USRC ready will have dramatic effects on the social, physical and economic well being for </a:t>
            </a:r>
            <a:r>
              <a:rPr b="0" lang="en-CA" sz="2800" spc="-1" strike="noStrike" u="sng">
                <a:solidFill>
                  <a:srgbClr val="2d2d8a"/>
                </a:solidFill>
                <a:uFillTx/>
                <a:latin typeface="Arial"/>
              </a:rPr>
              <a:t>everyone</a:t>
            </a: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 of the Upper Skeena Region residents;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SIAA is investigating a fundraising campaign to augment sought after provincial and federal government support; </a:t>
            </a: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Promise a major financial contribution towards the construction of the USRC.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CHALLENGE &amp; OPPORTUNITY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Possibility of the USRC as a P3 (public-private-partnership)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d2d8a"/>
                </a:solidFill>
                <a:latin typeface="Arial"/>
              </a:rPr>
              <a:t>Integrate the USRC with other community infrastructure plans, and programs and services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Need to prove to the provincial and federal government that all stakeholders in the region are “all in”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-230040">
              <a:spcBef>
                <a:spcPts val="2500"/>
              </a:spcBef>
              <a:buClr>
                <a:srgbClr val="2d2d8a"/>
              </a:buClr>
              <a:buSzPct val="7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</a:rPr>
              <a:t>By working together, the USRC will be a focal point for the entire Upper Skeena, AND it will be a symbol of all people coming together to renew the community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PROFOUND REMINDERS OF </a:t>
            </a:r>
            <a:r>
              <a:rPr b="1" lang="en-US" sz="4000" spc="-1" strike="noStrike" u="sng">
                <a:solidFill>
                  <a:srgbClr val="4a7594"/>
                </a:solidFill>
                <a:uFillTx/>
                <a:latin typeface="Arial"/>
              </a:rPr>
              <a:t>WHY</a:t>
            </a:r>
            <a:endParaRPr b="0" lang="en-US" sz="40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Our destiny and heritage is in these lands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The Hazeltons’ are more than a place --- they represent an experience that changes lives and captures imagination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6504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823480" y="6174720"/>
            <a:ext cx="449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siaa.coppermoon.ca/hom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a7594"/>
                </a:solidFill>
                <a:uFillTx/>
                <a:latin typeface="Arial"/>
                <a:ea typeface="Arial"/>
              </a:rPr>
              <a:t>www.heartofthehazeltons.com 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101520"/>
            <a:ext cx="10591920" cy="14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3"/>
          <a:stretch/>
        </p:blipFill>
        <p:spPr>
          <a:xfrm>
            <a:off x="1030320" y="1127160"/>
            <a:ext cx="79423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2880" y="1506240"/>
            <a:ext cx="8534520" cy="561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4a7594"/>
                </a:solidFill>
                <a:latin typeface="Arial"/>
              </a:rPr>
              <a:t>We are</a:t>
            </a:r>
            <a:endParaRPr b="0" lang="en-US" sz="40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4a7594"/>
                </a:solidFill>
                <a:latin typeface="Arial"/>
              </a:rPr>
              <a:t>STRONGER TOGETHER</a:t>
            </a:r>
            <a:endParaRPr b="0" lang="en-US" sz="72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a7594"/>
                </a:solidFill>
                <a:latin typeface="Arial"/>
              </a:rPr>
              <a:t>Thank  You</a:t>
            </a:r>
            <a:r>
              <a:rPr b="1" i="1" lang="en-US" sz="2800" spc="-1" strike="noStrike">
                <a:solidFill>
                  <a:srgbClr val="4a7594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3283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2823480" y="6174720"/>
            <a:ext cx="4492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siaa.coppermoon.ca/home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a7594"/>
                </a:solidFill>
                <a:uFillTx/>
                <a:latin typeface="Arial"/>
                <a:ea typeface="Arial"/>
              </a:rPr>
              <a:t>www.heartofthehazeltons.com </a:t>
            </a:r>
            <a:endParaRPr b="0" lang="en-US" sz="2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0" y="101520"/>
            <a:ext cx="10591920" cy="1486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"/>
          <p:cNvPicPr/>
          <p:nvPr/>
        </p:nvPicPr>
        <p:blipFill>
          <a:blip r:embed="rId3"/>
          <a:stretch/>
        </p:blipFill>
        <p:spPr>
          <a:xfrm>
            <a:off x="1030320" y="1127160"/>
            <a:ext cx="79423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2880" y="202680"/>
            <a:ext cx="8534160" cy="87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Arial"/>
              </a:rPr>
              <a:t>PRESENTATION  OUTLINE</a:t>
            </a:r>
            <a:endParaRPr b="0" lang="en-US" sz="48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1960" y="1722600"/>
            <a:ext cx="8534160" cy="5040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atus of the Ken Trombley Memorial Arena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Vision for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Introduction of Dr. Peter Newbery, Campaign Chai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The Power of Health and Wellness, Sport &amp; Recreation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Health, Economic, Social,  Education, Community Development Value Propositions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Design Elements of the Upper Skeena Recreation Centr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Work of the SIAA to dat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Stronger Together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-348480">
              <a:spcBef>
                <a:spcPts val="1199"/>
              </a:spcBef>
              <a:buClr>
                <a:srgbClr val="2d2d8a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d2d8a"/>
                </a:solidFill>
                <a:latin typeface="Arial"/>
              </a:rPr>
              <a:t>The Opportunity and the Challenge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3484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KEN TROMBLEY MEMORIAL ARENA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12880" y="1506600"/>
            <a:ext cx="8534160" cy="56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Built by volunteers in 1971 on United Church land donated to the Skeena Ice Arena Association for recreation purposes.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2d2d8a"/>
                </a:solidFill>
                <a:latin typeface="Arial"/>
              </a:rPr>
              <a:t>2007 Structural Condition Report recommended that the 1971 portion of the facility be “phased out” and “decommissioned” within the next 3-5 years do to its age and potential for structural failure.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Operated by the Skeena Ice Arena Association as a non-profit Society and registered charity, with own source revenues/rentals and assistance from area local governments. 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Two-storey addition was constructed in 1998 at the front of the facility along with a number of improvements to the ice plant.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-21960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A “Business Plan” was completed in June 2010, which recommends constructing they </a:t>
            </a:r>
            <a:r>
              <a:rPr b="1" lang="en-CA" sz="2000" spc="-1" strike="noStrike">
                <a:solidFill>
                  <a:srgbClr val="2d2d8a"/>
                </a:solidFill>
                <a:latin typeface="Arial"/>
              </a:rPr>
              <a:t>Upper Skeena Recreation Centre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on adjacent land and to renovate the KTMA for future dry floor recreation use by the community.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1392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14400" y="209520"/>
            <a:ext cx="10159920" cy="358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14400" y="3822840"/>
            <a:ext cx="102013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a7594"/>
                </a:solidFill>
                <a:latin typeface="Helvetica Neue Light"/>
              </a:rPr>
              <a:t>VISION FOR THE </a:t>
            </a:r>
            <a:br>
              <a:rPr sz="3200"/>
            </a:br>
            <a:r>
              <a:rPr b="1" lang="en-US" sz="3200" spc="-1" strike="noStrike">
                <a:solidFill>
                  <a:srgbClr val="4a7594"/>
                </a:solidFill>
                <a:latin typeface="Helvetica Neue Light"/>
              </a:rPr>
              <a:t>UPPER SKEENA RECREATION CENTRE</a:t>
            </a:r>
            <a:endParaRPr b="0" lang="en-US" sz="32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5960" y="1433520"/>
            <a:ext cx="90727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0" algn="ctr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To be supported and utilized by the entire community, levels of government, as well as industry and private citizens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Cost-effective to build and sustainable to operate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More than a hockey arena – a gathering place for community activity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A business plan and staffing model that can respond to the need for more recreational opportunities for the community;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A collaborative governance model where the whole community is involved in decision making and invested in sustaining it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-168480">
              <a:spcBef>
                <a:spcPts val="2999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d2d8a"/>
                </a:solidFill>
                <a:latin typeface="Arial"/>
              </a:rPr>
              <a:t>Building on the volunteerism spirit which built and operated the KTMA</a:t>
            </a:r>
            <a:endParaRPr b="0" lang="en-US" sz="2200" spc="-1" strike="noStrike">
              <a:solidFill>
                <a:srgbClr val="646461"/>
              </a:solidFill>
              <a:latin typeface="Arial"/>
            </a:endParaRPr>
          </a:p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1"/>
              </a:solidFill>
              <a:latin typeface="Arial"/>
            </a:endParaRPr>
          </a:p>
          <a:p>
            <a:pPr marL="240840" indent="0"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7594"/>
                </a:solidFill>
                <a:latin typeface="Helvetica Neue Light"/>
              </a:rPr>
              <a:t>  </a:t>
            </a:r>
            <a:r>
              <a:rPr b="1" lang="en-US" sz="4400" spc="-1" strike="noStrike">
                <a:solidFill>
                  <a:srgbClr val="4a7594"/>
                </a:solidFill>
                <a:latin typeface="Helvetica Neue Light"/>
              </a:rPr>
              <a:t>Dr. Peter Newberry</a:t>
            </a:r>
            <a:br>
              <a:rPr sz="4400"/>
            </a:br>
            <a:r>
              <a:rPr b="0" lang="en-US" sz="3200" spc="-1" strike="noStrike">
                <a:solidFill>
                  <a:srgbClr val="4a7594"/>
                </a:solidFill>
                <a:latin typeface="Helvetica Neue Light"/>
              </a:rPr>
              <a:t>Chair, USRC Campaign</a:t>
            </a:r>
            <a:endParaRPr b="0" lang="en-US" sz="32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1960" y="1865160"/>
            <a:ext cx="8534160" cy="5321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An Internationally Recognized Pioneer of Rural Medicine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Builder of the Northern Medical Program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Instrumental with the Wrinch Memorial Hospital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Longtime resident of the Upper Skeena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1"/>
                </a:solidFill>
                <a:latin typeface="Arial"/>
              </a:rPr>
              <a:t>Community Builder, Philanthropist, Engaged Citizen</a:t>
            </a: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  <a:p>
            <a:pPr marL="355680" indent="-355680">
              <a:spcBef>
                <a:spcPts val="3801"/>
              </a:spcBef>
              <a:buClr>
                <a:srgbClr val="646461"/>
              </a:buClr>
              <a:buSzPct val="7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4a7594"/>
                </a:solidFill>
                <a:latin typeface="Arial"/>
              </a:rPr>
              <a:t>BENEFITS OF HEALTH &amp; WELLNESS</a:t>
            </a:r>
            <a:endParaRPr b="0" lang="en-US" sz="32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8520" y="136188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7000"/>
          </a:bodyPr>
          <a:p>
            <a:pPr marL="93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25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and active living </a:t>
            </a:r>
            <a:r>
              <a:rPr b="1" lang="en-CA" sz="2400" spc="-1" strike="noStrike">
                <a:solidFill>
                  <a:srgbClr val="646461"/>
                </a:solidFill>
                <a:latin typeface="Arial"/>
              </a:rPr>
              <a:t>are</a:t>
            </a: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 essential to personal health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is a key to balanced human development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essential to quality of life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 and wellness reduces self-destructive and anti-social behavior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y lifestyles build strong families and healthier communities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Health and wellness efforts reduce the costs of health care, social service and policy/justice. It is an integral component to education and employability of the workforce.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>
              <a:spcBef>
                <a:spcPts val="1800"/>
              </a:spcBef>
              <a:buClr>
                <a:srgbClr val="646461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46461"/>
                </a:solidFill>
                <a:latin typeface="Arial"/>
              </a:rPr>
              <a:t>Recreation and parks are significant economic generators in your community!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  <a:p>
            <a:pPr marL="9396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64646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03040"/>
            <a:ext cx="8534160" cy="1446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81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4a7594"/>
                </a:solidFill>
                <a:latin typeface="Arial"/>
              </a:rPr>
              <a:t>ECONOMIC BENEFITS </a:t>
            </a:r>
            <a:endParaRPr b="0" lang="en-US" sz="3600" spc="-1" strike="noStrike">
              <a:solidFill>
                <a:srgbClr val="4a759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8520" y="1577880"/>
            <a:ext cx="8534520" cy="561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The economic impacts to the Hazeltons and area of the construction fall into one of five categories: 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Construction jobs building the facility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Additional jobs created operating the facility 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-252720">
              <a:spcBef>
                <a:spcPts val="2500"/>
              </a:spcBef>
              <a:buClr>
                <a:srgbClr val="2d2d8a"/>
              </a:buClr>
              <a:buSzPct val="77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ndirect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New tourism and new real spending in the community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Increase in service sector jobs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•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Multiplier impacts of new housing and services to support the  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  <a:p>
            <a:pPr marL="361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                 </a:t>
            </a:r>
            <a:r>
              <a:rPr b="0" lang="en-CA" sz="2000" spc="-1" strike="noStrike">
                <a:solidFill>
                  <a:srgbClr val="2d2d8a"/>
                </a:solidFill>
                <a:latin typeface="Arial"/>
              </a:rPr>
              <a:t>families of the net new jobs created</a:t>
            </a:r>
            <a:endParaRPr b="0" lang="en-US" sz="2000" spc="-1" strike="noStrike">
              <a:solidFill>
                <a:srgbClr val="646461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</dc:creator>
  <dc:description/>
  <dc:language>en-US</dc:language>
  <cp:lastModifiedBy>Tom Berekoff</cp:lastModifiedBy>
  <cp:lastPrinted>2012-09-23T18:10:49Z</cp:lastPrinted>
  <dcterms:modified xsi:type="dcterms:W3CDTF">2012-10-17T16:12:19Z</dcterms:modified>
  <cp:revision>31</cp:revision>
  <dc:subject/>
  <dc:title>Slide 1</dc:title>
</cp:coreProperties>
</file>