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10158413" cy="7621588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d5d4d6"/>
                </a:solidFill>
                <a:latin typeface="Arial"/>
              </a:rPr>
              <a:t>Click to move the slide</a:t>
            </a:r>
            <a:endParaRPr b="1" lang="en-US" sz="5800" spc="-1" strike="noStrike">
              <a:solidFill>
                <a:srgbClr val="d5d4d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4B9A-0AB4-4473-84B0-492A98CDE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7212-347C-4917-823C-156F5BD3DF48}" type="slidenum">
              <a:rPr b="0" lang="en-US" sz="1200" spc="-1" strike="noStrike">
                <a:solidFill>
                  <a:srgbClr val="4a7594"/>
                </a:solidFill>
                <a:latin typeface="Helvetica Neue Bold Condensed"/>
              </a:rPr>
              <a:t>&lt;number&gt;</a:t>
            </a:fld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2880" y="449424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8580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9864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8404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81288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69864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8404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12880" y="203040"/>
            <a:ext cx="853416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8580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12880" y="449424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8580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9864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8404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1288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9864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8404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12880" y="203040"/>
            <a:ext cx="853416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8580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12880" y="449424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8580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864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8404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1288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864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8404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812880" y="203040"/>
            <a:ext cx="853416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18580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812880" y="449424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18580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9864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8404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81288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9864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58404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812880" y="203040"/>
            <a:ext cx="853416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18580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812880" y="449424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18580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812880" y="203040"/>
            <a:ext cx="853416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69864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8404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81288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69864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58404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8580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220680" y="216000"/>
            <a:ext cx="9728280" cy="72054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1"/>
          <p:cNvSpPr/>
          <p:nvPr/>
        </p:nvSpPr>
        <p:spPr>
          <a:xfrm>
            <a:off x="220680" y="216000"/>
            <a:ext cx="9728280" cy="72054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7440" y="4101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d5d4d6"/>
                </a:solidFill>
                <a:latin typeface="Arial"/>
              </a:rPr>
              <a:t>Click to edit the title text format</a:t>
            </a:r>
            <a:endParaRPr b="1" lang="en-US" sz="5800" spc="-1" strike="noStrike">
              <a:solidFill>
                <a:srgbClr val="d5d4d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17440" y="614628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2000"/>
          </a:bodyPr>
          <a:p>
            <a:pPr marL="1094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483a6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5483a6"/>
              </a:solidFill>
              <a:latin typeface="Arial"/>
            </a:endParaRPr>
          </a:p>
          <a:p>
            <a:pPr lvl="1" marL="109440" indent="-109440">
              <a:buClr>
                <a:srgbClr val="5483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483a6"/>
                </a:solidFill>
                <a:latin typeface="Arial"/>
              </a:rPr>
              <a:t>Second Outline Level</a:t>
            </a:r>
            <a:endParaRPr b="1" lang="en-US" sz="3400" spc="-1" strike="noStrike">
              <a:solidFill>
                <a:srgbClr val="5483a6"/>
              </a:solidFill>
              <a:latin typeface="Arial"/>
            </a:endParaRPr>
          </a:p>
          <a:p>
            <a:pPr lvl="2" marL="109440" indent="-109440">
              <a:buClr>
                <a:srgbClr val="5483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483a6"/>
                </a:solidFill>
                <a:latin typeface="Arial"/>
              </a:rPr>
              <a:t>Third Outline Level</a:t>
            </a:r>
            <a:endParaRPr b="1" lang="en-US" sz="3400" spc="-1" strike="noStrike">
              <a:solidFill>
                <a:srgbClr val="5483a6"/>
              </a:solidFill>
              <a:latin typeface="Arial"/>
            </a:endParaRPr>
          </a:p>
          <a:p>
            <a:pPr lvl="3" marL="109440" indent="-109440">
              <a:buClr>
                <a:srgbClr val="5483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483a6"/>
                </a:solidFill>
                <a:latin typeface="Arial"/>
              </a:rPr>
              <a:t>Fourth Outline Level</a:t>
            </a:r>
            <a:endParaRPr b="1" lang="en-US" sz="3400" spc="-1" strike="noStrike">
              <a:solidFill>
                <a:srgbClr val="5483a6"/>
              </a:solidFill>
              <a:latin typeface="Arial"/>
            </a:endParaRPr>
          </a:p>
          <a:p>
            <a:pPr lvl="4" marL="109440" indent="-109440">
              <a:buClr>
                <a:srgbClr val="5483a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483a6"/>
                </a:solidFill>
                <a:latin typeface="Arial"/>
              </a:rPr>
              <a:t>Fifth Outline Level</a:t>
            </a:r>
            <a:endParaRPr b="1" lang="en-US" sz="3400" spc="-1" strike="noStrike">
              <a:solidFill>
                <a:srgbClr val="5483a6"/>
              </a:solidFill>
              <a:latin typeface="Arial"/>
            </a:endParaRPr>
          </a:p>
          <a:p>
            <a:pPr lvl="5" marL="109440" indent="-109440">
              <a:buClr>
                <a:srgbClr val="4a7594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483a6"/>
                </a:solidFill>
                <a:latin typeface="Arial"/>
              </a:rPr>
              <a:t>Sixth Outline Level</a:t>
            </a:r>
            <a:endParaRPr b="1" lang="en-US" sz="3400" spc="-1" strike="noStrike">
              <a:solidFill>
                <a:srgbClr val="5483a6"/>
              </a:solidFill>
              <a:latin typeface="Arial"/>
            </a:endParaRPr>
          </a:p>
          <a:p>
            <a:pPr lvl="6" marL="109440" indent="-109440">
              <a:buClr>
                <a:srgbClr val="4a7594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483a6"/>
                </a:solidFill>
                <a:latin typeface="Arial"/>
              </a:rPr>
              <a:t>Seventh Outline Level</a:t>
            </a:r>
            <a:endParaRPr b="1" lang="en-US" sz="3400" spc="-1" strike="noStrike">
              <a:solidFill>
                <a:srgbClr val="5483a6"/>
              </a:solidFill>
              <a:latin typeface="Arial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0" y="228600"/>
            <a:ext cx="10591920" cy="148608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5"/>
          <p:cNvSpPr/>
          <p:nvPr/>
        </p:nvSpPr>
        <p:spPr>
          <a:xfrm>
            <a:off x="9385200" y="5460840"/>
            <a:ext cx="546120" cy="559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28600" y="5460840"/>
            <a:ext cx="546120" cy="559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220680" y="216000"/>
            <a:ext cx="9728280" cy="72054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7594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0000"/>
          </a:bodyPr>
          <a:p>
            <a:pPr marL="320040" indent="-32004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1" marL="628560" indent="-31968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2" marL="971640" indent="-32004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3" marL="1314360" indent="-32004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4" marL="1657080" indent="-31968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5" marL="1657080" indent="-319680">
              <a:spcBef>
                <a:spcPts val="2500"/>
              </a:spcBef>
              <a:buClr>
                <a:srgbClr val="4a7594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6" marL="1657080" indent="-319680">
              <a:spcBef>
                <a:spcPts val="2500"/>
              </a:spcBef>
              <a:buClr>
                <a:srgbClr val="4a7594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304920" y="5956200"/>
            <a:ext cx="9921600" cy="14605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9398160" y="876240"/>
            <a:ext cx="546120" cy="55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16000" y="876240"/>
            <a:ext cx="546120" cy="558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220680" y="216000"/>
            <a:ext cx="9728280" cy="72054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812880" y="1155600"/>
            <a:ext cx="8534160" cy="5321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316440" indent="-316440">
              <a:spcBef>
                <a:spcPts val="3801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1" marL="621360" indent="-316080">
              <a:spcBef>
                <a:spcPts val="3801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2" marL="960840" indent="-316440">
              <a:spcBef>
                <a:spcPts val="3801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3" marL="1299600" indent="-316440">
              <a:spcBef>
                <a:spcPts val="3801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4" marL="1638720" indent="-316080">
              <a:spcBef>
                <a:spcPts val="3801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5" marL="1638720" indent="-316080">
              <a:spcBef>
                <a:spcPts val="3801"/>
              </a:spcBef>
              <a:buClr>
                <a:srgbClr val="4a7594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6" marL="1638720" indent="-316080">
              <a:spcBef>
                <a:spcPts val="3801"/>
              </a:spcBef>
              <a:buClr>
                <a:srgbClr val="4a7594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-216000" y="0"/>
            <a:ext cx="10591920" cy="148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3"/>
          <a:stretch/>
        </p:blipFill>
        <p:spPr>
          <a:xfrm>
            <a:off x="304920" y="5943600"/>
            <a:ext cx="9921600" cy="14605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"/>
          <p:cNvSpPr/>
          <p:nvPr/>
        </p:nvSpPr>
        <p:spPr>
          <a:xfrm>
            <a:off x="220680" y="216000"/>
            <a:ext cx="9728280" cy="72054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7594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12520" y="2158920"/>
            <a:ext cx="41655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6000"/>
          </a:bodyPr>
          <a:p>
            <a:pPr marL="270000" indent="-27000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1" marL="530640" indent="-27000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2" marL="820440" indent="-27000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3" marL="1109880" indent="-27000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4" marL="1399320" indent="-27000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5" marL="1399320" indent="-270000">
              <a:spcBef>
                <a:spcPts val="2500"/>
              </a:spcBef>
              <a:buClr>
                <a:srgbClr val="4a7594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6" marL="1399320" indent="-270000">
              <a:spcBef>
                <a:spcPts val="2500"/>
              </a:spcBef>
              <a:buClr>
                <a:srgbClr val="4a7594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9385200" y="876240"/>
            <a:ext cx="546120" cy="55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228600" y="876240"/>
            <a:ext cx="546120" cy="558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iaa.coppermoon.ca/home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iaa.coppermoon.ca/home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57320" y="22251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r>
              <a:rPr b="1" lang="en-US" sz="5800" spc="-1" strike="noStrike">
                <a:solidFill>
                  <a:srgbClr val="d5d4d6"/>
                </a:solidFill>
                <a:latin typeface="Arial"/>
              </a:rPr>
              <a:t>Presentation to the 2012 Gitxsan Summit</a:t>
            </a:r>
            <a:br>
              <a:rPr sz="5800"/>
            </a:br>
            <a:endParaRPr b="1" lang="en-US" sz="5800" spc="-1" strike="noStrike">
              <a:solidFill>
                <a:srgbClr val="d5d4d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614628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483a6"/>
                </a:solidFill>
                <a:latin typeface="Arial"/>
              </a:rPr>
              <a:t>         </a:t>
            </a:r>
            <a:r>
              <a:rPr b="1" lang="en-US" sz="3400" spc="-1" strike="noStrike">
                <a:solidFill>
                  <a:srgbClr val="5483a6"/>
                </a:solidFill>
                <a:latin typeface="Arial"/>
              </a:rPr>
              <a:t>Skeena Ice Arena Association</a:t>
            </a:r>
            <a:endParaRPr b="1" lang="en-US" sz="3400" spc="-1" strike="noStrike">
              <a:solidFill>
                <a:srgbClr val="5483a6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483a6"/>
                </a:solidFill>
                <a:latin typeface="Arial"/>
              </a:rPr>
              <a:t>                 </a:t>
            </a:r>
            <a:r>
              <a:rPr b="1" lang="en-US" sz="3400" spc="-1" strike="noStrike">
                <a:solidFill>
                  <a:srgbClr val="5483a6"/>
                </a:solidFill>
                <a:latin typeface="Arial"/>
              </a:rPr>
              <a:t>Building Committee</a:t>
            </a:r>
            <a:endParaRPr b="1" lang="en-US" sz="3400" spc="-1" strike="noStrike">
              <a:solidFill>
                <a:srgbClr val="5483a6"/>
              </a:solidFill>
              <a:latin typeface="Arial"/>
            </a:endParaRPr>
          </a:p>
        </p:txBody>
      </p:sp>
      <p:pic>
        <p:nvPicPr>
          <p:cNvPr id="211" name="Picture 7" descr="logo"/>
          <p:cNvPicPr/>
          <p:nvPr/>
        </p:nvPicPr>
        <p:blipFill>
          <a:blip r:embed="rId1"/>
          <a:stretch/>
        </p:blipFill>
        <p:spPr>
          <a:xfrm>
            <a:off x="3462480" y="3594240"/>
            <a:ext cx="310176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1960" y="353520"/>
            <a:ext cx="8534160" cy="1590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7594"/>
                </a:solidFill>
                <a:latin typeface="Arial"/>
              </a:rPr>
              <a:t>USRC Project Scope</a:t>
            </a:r>
            <a:endParaRPr b="0" lang="en-US" sz="44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6880" y="2009880"/>
            <a:ext cx="9217080" cy="533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55680" indent="-35568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46461"/>
                </a:solidFill>
                <a:uFillTx/>
                <a:latin typeface="Arial"/>
              </a:rPr>
              <a:t>Phase 1: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$9.0 million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Replacement of Ken Trombley Memorial Arena with the Upper Skeena Recreation Centre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46461"/>
                </a:solidFill>
                <a:uFillTx/>
                <a:latin typeface="Arial"/>
              </a:rPr>
              <a:t>Phase 2: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$1.0 million (est.)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Possible Repurposing of the Ken Trombley Memorial Arena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46461"/>
                </a:solidFill>
                <a:uFillTx/>
                <a:latin typeface="Arial"/>
              </a:rPr>
              <a:t>Operational 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$250,000/year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Comprehensive and collaborative programming of USRC for sport, recreation, health, wellness, </a:t>
            </a:r>
            <a:r>
              <a:rPr b="1" lang="en-US" sz="2800" spc="-1" strike="noStrike">
                <a:solidFill>
                  <a:srgbClr val="646461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014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a7594"/>
                </a:solidFill>
                <a:latin typeface="Arial"/>
              </a:rPr>
              <a:t>USRC DESIGN CONSIDERATIONS </a:t>
            </a:r>
            <a:endParaRPr b="0" lang="en-US" sz="36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8520" y="1145880"/>
            <a:ext cx="8534520" cy="604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9000"/>
          </a:bodyPr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Spectator seating for 600-800 including ‘barrier-free’ seating for wheelchair users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Building Structure will consist of insulated, pre-engineered  wood or steel building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Energy efficient, such as high R value, waste heat recovery, geo thermal, lighting systems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Five Dressing Rooms, 1 – 700sf, 4- 400sf, complete with showers and washrooms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Ref’s Room , Accessible Restrooms , NHL size ice surface (200’x85’)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Ice Cleaner Room ,Staff Office ,Staff room ,Meeting Room ,Team storage lockers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Long House Concept for entrance Lobby , Concession in main lobby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Sprinkler Room, Electrical Room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PA system for voice and music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Players Benches, Penalty Area ,Skate Shop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Use of Wood required to meet Wood First Act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Rink Boards complete with puck board and plexi-glass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-693720" y="23760"/>
            <a:ext cx="11920680" cy="7713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12880" y="1155600"/>
            <a:ext cx="8534160" cy="5321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658600" cy="7543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446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ACTIONS TO DATE </a:t>
            </a:r>
            <a:endParaRPr b="0" lang="en-US" sz="36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8520" y="1577880"/>
            <a:ext cx="8534520" cy="561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6504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36504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646461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658600" cy="7543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446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ACTIONS TO DATE/IN-PROGRESS</a:t>
            </a:r>
            <a:endParaRPr b="0" lang="en-US" sz="36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8520" y="1288800"/>
            <a:ext cx="8534520" cy="561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55680" indent="-355680">
              <a:spcBef>
                <a:spcPts val="601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SITE SURVEY                               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GEOTECHNICAL ASSESSMENT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ARCHITECTUAL CONCEPTS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COMMUNICATION STRATEGY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BUSINESS PLAN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ACTIVELY EXPLORING WOOD FIRST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MECHANICAL SYSTEMS STUDY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LEVERAGING OF ALL COMMUNITY RESOURCES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MULTI-AGENCY COLLABORATIVE MODEL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STRATEGIC CONVERSATIONS AND ASSESSMENT FOR A FUNDRAISING CAMPAIGN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ACTIVE APPEAL TO PROVINCIAL AND FEDERAL GOVERNMENT FOR SUPPORT OF USRC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a7594"/>
                </a:solidFill>
                <a:latin typeface="Arial"/>
              </a:rPr>
              <a:t>FOR CHILDREN &amp; YOUTH</a:t>
            </a:r>
            <a:endParaRPr b="0" lang="en-US" sz="48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4600" y="1938240"/>
            <a:ext cx="44830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a7594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4a7594"/>
                </a:solidFill>
                <a:latin typeface="Arial"/>
              </a:rPr>
              <a:t>Our hope and legacy is embedded in our youth and our children”</a:t>
            </a:r>
            <a:endParaRPr b="0" lang="en-US" sz="4000" spc="-1" strike="noStrike">
              <a:solidFill>
                <a:srgbClr val="646461"/>
              </a:solidFill>
              <a:latin typeface="Arial"/>
            </a:endParaRPr>
          </a:p>
        </p:txBody>
      </p:sp>
      <p:pic>
        <p:nvPicPr>
          <p:cNvPr id="244" name="Picture 1" descr=""/>
          <p:cNvPicPr/>
          <p:nvPr/>
        </p:nvPicPr>
        <p:blipFill>
          <a:blip r:embed="rId1"/>
          <a:srcRect l="2129" t="0" r="45461" b="0"/>
          <a:stretch/>
        </p:blipFill>
        <p:spPr>
          <a:xfrm>
            <a:off x="4935600" y="2124000"/>
            <a:ext cx="4597200" cy="3917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446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CHALLENGE &amp; OPPORTUNITY</a:t>
            </a:r>
            <a:endParaRPr b="0" lang="en-US" sz="36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8520" y="1577880"/>
            <a:ext cx="8534520" cy="561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0000"/>
          </a:bodyPr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28320" indent="-230040">
              <a:spcBef>
                <a:spcPts val="2500"/>
              </a:spcBef>
              <a:buClr>
                <a:srgbClr val="2d2d8a"/>
              </a:buClr>
              <a:buSzPct val="77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d2d8a"/>
                </a:solidFill>
                <a:latin typeface="Arial"/>
              </a:rPr>
              <a:t>Imminent closure of the KTMA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1" marL="637200" indent="-230040">
              <a:spcBef>
                <a:spcPts val="2500"/>
              </a:spcBef>
              <a:buClr>
                <a:srgbClr val="2d2d8a"/>
              </a:buClr>
              <a:buSzPct val="77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d2d8a"/>
                </a:solidFill>
                <a:latin typeface="Arial"/>
              </a:rPr>
              <a:t>impact of the closure without the USRC ready will have dramatic effects on the social, physical and economic well being for </a:t>
            </a:r>
            <a:r>
              <a:rPr b="0" lang="en-CA" sz="2800" spc="-1" strike="noStrike" u="sng">
                <a:solidFill>
                  <a:srgbClr val="2d2d8a"/>
                </a:solidFill>
                <a:uFillTx/>
                <a:latin typeface="Arial"/>
              </a:rPr>
              <a:t>everyone</a:t>
            </a:r>
            <a:r>
              <a:rPr b="0" lang="en-CA" sz="2800" spc="-1" strike="noStrike">
                <a:solidFill>
                  <a:srgbClr val="2d2d8a"/>
                </a:solidFill>
                <a:latin typeface="Arial"/>
              </a:rPr>
              <a:t> of the Upper Skeena Region residents;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28320" indent="-230040">
              <a:spcBef>
                <a:spcPts val="2500"/>
              </a:spcBef>
              <a:buClr>
                <a:srgbClr val="2d2d8a"/>
              </a:buClr>
              <a:buSzPct val="77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d2d8a"/>
                </a:solidFill>
                <a:latin typeface="Arial"/>
              </a:rPr>
              <a:t>SIAA is investigating a fundraising campaign to augment sought after provincial and federal government support; </a:t>
            </a:r>
            <a:r>
              <a:rPr b="0" lang="en-US" sz="28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28320" indent="-230040">
              <a:spcBef>
                <a:spcPts val="2500"/>
              </a:spcBef>
              <a:buClr>
                <a:srgbClr val="2d2d8a"/>
              </a:buClr>
              <a:buSzPct val="77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</a:rPr>
              <a:t>Promise a major financial contribution towards the construction of the USRC.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446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CHALLENGE &amp; OPPORTUNITY</a:t>
            </a:r>
            <a:endParaRPr b="0" lang="en-US" sz="36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8520" y="1577880"/>
            <a:ext cx="8534520" cy="561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0000"/>
          </a:bodyPr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28320" indent="-230040">
              <a:spcBef>
                <a:spcPts val="2500"/>
              </a:spcBef>
              <a:buClr>
                <a:srgbClr val="2d2d8a"/>
              </a:buClr>
              <a:buSzPct val="77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d2d8a"/>
                </a:solidFill>
                <a:latin typeface="Arial"/>
              </a:rPr>
              <a:t>Possibility of the USRC as a P3 (public-private-partnership)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28320" indent="-230040">
              <a:spcBef>
                <a:spcPts val="2500"/>
              </a:spcBef>
              <a:buClr>
                <a:srgbClr val="2d2d8a"/>
              </a:buClr>
              <a:buSzPct val="77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d2d8a"/>
                </a:solidFill>
                <a:latin typeface="Arial"/>
              </a:rPr>
              <a:t>Integrate the USRC with other community infrastructure plans, and programs and services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28320" indent="-230040">
              <a:spcBef>
                <a:spcPts val="2500"/>
              </a:spcBef>
              <a:buClr>
                <a:srgbClr val="2d2d8a"/>
              </a:buClr>
              <a:buSzPct val="77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</a:rPr>
              <a:t>Need to prove to the provincial and federal government that all stakeholders in the region are “all in”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28320" indent="-230040">
              <a:spcBef>
                <a:spcPts val="2500"/>
              </a:spcBef>
              <a:buClr>
                <a:srgbClr val="2d2d8a"/>
              </a:buClr>
              <a:buSzPct val="77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</a:rPr>
              <a:t>By working together, the USRC will be a focal point for the entire Upper Skeena, AND it will be a symbol of all people coming together to renew the community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446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PROFOUND REMINDERS OF </a:t>
            </a:r>
            <a:r>
              <a:rPr b="1" lang="en-US" sz="4000" spc="-1" strike="noStrike" u="sng">
                <a:solidFill>
                  <a:srgbClr val="4a7594"/>
                </a:solidFill>
                <a:uFillTx/>
                <a:latin typeface="Arial"/>
              </a:rPr>
              <a:t>WHY</a:t>
            </a:r>
            <a:endParaRPr b="0" lang="en-US" sz="4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58520" y="1577880"/>
            <a:ext cx="8534520" cy="561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6504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504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504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a7594"/>
                </a:solidFill>
                <a:latin typeface="Arial"/>
              </a:rPr>
              <a:t>Our destiny and heritage is in these lands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6504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6504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a7594"/>
                </a:solidFill>
                <a:latin typeface="Arial"/>
              </a:rPr>
              <a:t>The Hazeltons’ are more than a place --- they represent an experience that changes lives and captures imagination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6504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36504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36504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2823480" y="6174720"/>
            <a:ext cx="4492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siaa.coppermoon.ca/home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a7594"/>
                </a:solidFill>
                <a:uFillTx/>
                <a:latin typeface="Arial"/>
                <a:ea typeface="Arial"/>
              </a:rPr>
              <a:t>www.heartofthehazeltons.com 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0" y="101520"/>
            <a:ext cx="10591920" cy="1486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3"/>
          <a:stretch/>
        </p:blipFill>
        <p:spPr>
          <a:xfrm>
            <a:off x="1030320" y="1127160"/>
            <a:ext cx="7942320" cy="49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902880" y="1506240"/>
            <a:ext cx="8534520" cy="561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0000"/>
          </a:bodyPr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2832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a7594"/>
                </a:solidFill>
                <a:latin typeface="Arial"/>
              </a:rPr>
              <a:t>We are</a:t>
            </a:r>
            <a:endParaRPr b="0" lang="en-US" sz="4000" spc="-1" strike="noStrike">
              <a:solidFill>
                <a:srgbClr val="646461"/>
              </a:solidFill>
              <a:latin typeface="Arial"/>
            </a:endParaRPr>
          </a:p>
          <a:p>
            <a:pPr marL="32832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4a7594"/>
                </a:solidFill>
                <a:latin typeface="Arial"/>
              </a:rPr>
              <a:t>STRONGER TOGETHER</a:t>
            </a:r>
            <a:endParaRPr b="0" lang="en-US" sz="7200" spc="-1" strike="noStrike">
              <a:solidFill>
                <a:srgbClr val="646461"/>
              </a:solidFill>
              <a:latin typeface="Arial"/>
            </a:endParaRPr>
          </a:p>
          <a:p>
            <a:pPr marL="32832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2832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a7594"/>
                </a:solidFill>
                <a:latin typeface="Arial"/>
              </a:rPr>
              <a:t>Thank  You</a:t>
            </a:r>
            <a:r>
              <a:rPr b="1" i="1" lang="en-US" sz="2800" spc="-1" strike="noStrike">
                <a:solidFill>
                  <a:srgbClr val="4a759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2823480" y="6174720"/>
            <a:ext cx="4492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siaa.coppermoon.ca/home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a7594"/>
                </a:solidFill>
                <a:uFillTx/>
                <a:latin typeface="Arial"/>
                <a:ea typeface="Arial"/>
              </a:rPr>
              <a:t>www.heartofthehazeltons.com 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0" y="101520"/>
            <a:ext cx="10591920" cy="1486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3"/>
          <a:stretch/>
        </p:blipFill>
        <p:spPr>
          <a:xfrm>
            <a:off x="1030320" y="1127160"/>
            <a:ext cx="7942320" cy="49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12880" y="202680"/>
            <a:ext cx="8534160" cy="870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Arial"/>
              </a:rPr>
              <a:t>PRESENTATION  OUTLINE</a:t>
            </a:r>
            <a:endParaRPr b="0" lang="en-US" sz="48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1960" y="1722600"/>
            <a:ext cx="8534160" cy="5040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8000"/>
          </a:bodyPr>
          <a:p>
            <a:pPr marL="348480" indent="-348480">
              <a:spcBef>
                <a:spcPts val="1199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Status of the Ken Trombley Memorial Arena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48480" indent="-348480">
              <a:spcBef>
                <a:spcPts val="1199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Vision for Upper Skeena Recreation Centre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48480" indent="-348480">
              <a:spcBef>
                <a:spcPts val="1199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Introduction of Dr. Peter Newbery, Campaign Chair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48480" indent="-348480">
              <a:spcBef>
                <a:spcPts val="1199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The Power of Health and Wellness, Sport &amp; Recreation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48480" indent="-348480">
              <a:spcBef>
                <a:spcPts val="1199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Health, Economic, Social,  Education, Community Development Value Propositions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48480" indent="-348480">
              <a:spcBef>
                <a:spcPts val="1199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Design Elements of the Upper Skeena Recreation Centre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48480" indent="-348480">
              <a:spcBef>
                <a:spcPts val="1199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Work of the SIAA to date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48480" indent="-348480">
              <a:spcBef>
                <a:spcPts val="1199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Stronger Together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48480" indent="-348480">
              <a:spcBef>
                <a:spcPts val="1199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The Opportunity and the Challenge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4848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KEN TROMBLEY MEMORIAL ARENA</a:t>
            </a:r>
            <a:endParaRPr b="0" lang="en-US" sz="36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12880" y="1506600"/>
            <a:ext cx="8534160" cy="56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6000"/>
          </a:bodyPr>
          <a:p>
            <a:pPr marL="3139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139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13920" indent="-219600">
              <a:spcBef>
                <a:spcPts val="2500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Built by volunteers in 1971 on United Church land donated to the Skeena Ice Arena Association for recreation purposes.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13920" indent="-219600">
              <a:spcBef>
                <a:spcPts val="2500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2d2d8a"/>
                </a:solidFill>
                <a:latin typeface="Arial"/>
              </a:rPr>
              <a:t>2007 Structural Condition Report recommended that the 1971 portion of the facility be “phased out” and “decommissioned” within the next 3-5 years do to its age and potential for structural failure.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13920" indent="-219600">
              <a:spcBef>
                <a:spcPts val="2500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Operated by the Skeena Ice Arena Association as a non-profit Society and registered charity, with own source revenues/rentals and assistance from area local governments. 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13920" indent="-219600">
              <a:spcBef>
                <a:spcPts val="2500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Two-storey addition was constructed in 1998 at the front of the facility along with a number of improvements to the ice plant.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13920" indent="-219600">
              <a:spcBef>
                <a:spcPts val="2500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A “Business Plan” was completed in June 2010, which recommends constructing they </a:t>
            </a:r>
            <a:r>
              <a:rPr b="1" lang="en-CA" sz="2000" spc="-1" strike="noStrike">
                <a:solidFill>
                  <a:srgbClr val="2d2d8a"/>
                </a:solidFill>
                <a:latin typeface="Arial"/>
              </a:rPr>
              <a:t>Upper Skeena Recreation Centre </a:t>
            </a: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on adjacent land and to renovate the KTMA for future dry floor recreation use by the community.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1392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139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14400" y="209520"/>
            <a:ext cx="10159920" cy="3589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14400" y="3822840"/>
            <a:ext cx="1020132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4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7594"/>
                </a:solidFill>
                <a:latin typeface="Helvetica Neue Light"/>
              </a:rPr>
              <a:t>VISION FOR THE </a:t>
            </a:r>
            <a:br>
              <a:rPr sz="3200"/>
            </a:br>
            <a:r>
              <a:rPr b="1" lang="en-US" sz="3200" spc="-1" strike="noStrike">
                <a:solidFill>
                  <a:srgbClr val="4a7594"/>
                </a:solidFill>
                <a:latin typeface="Helvetica Neue Light"/>
              </a:rPr>
              <a:t>UPPER SKEENA RECREATION CENTRE</a:t>
            </a:r>
            <a:endParaRPr b="0" lang="en-US" sz="32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5960" y="1433520"/>
            <a:ext cx="9072720" cy="561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6000"/>
          </a:bodyPr>
          <a:p>
            <a:pPr marL="240840" indent="0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24084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240840" indent="-168480">
              <a:spcBef>
                <a:spcPts val="2999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d2d8a"/>
                </a:solidFill>
                <a:latin typeface="Arial"/>
              </a:rPr>
              <a:t>To be supported and utilized by the entire community, levels of government, as well as industry and private citizens;</a:t>
            </a:r>
            <a:endParaRPr b="0" lang="en-US" sz="2200" spc="-1" strike="noStrike">
              <a:solidFill>
                <a:srgbClr val="646461"/>
              </a:solidFill>
              <a:latin typeface="Arial"/>
            </a:endParaRPr>
          </a:p>
          <a:p>
            <a:pPr marL="240840" indent="-168480">
              <a:spcBef>
                <a:spcPts val="2999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d2d8a"/>
                </a:solidFill>
                <a:latin typeface="Arial"/>
              </a:rPr>
              <a:t>Cost-effective to build and sustainable to operate;</a:t>
            </a:r>
            <a:endParaRPr b="0" lang="en-US" sz="2200" spc="-1" strike="noStrike">
              <a:solidFill>
                <a:srgbClr val="646461"/>
              </a:solidFill>
              <a:latin typeface="Arial"/>
            </a:endParaRPr>
          </a:p>
          <a:p>
            <a:pPr marL="240840" indent="-168480">
              <a:spcBef>
                <a:spcPts val="2999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d2d8a"/>
                </a:solidFill>
                <a:latin typeface="Arial"/>
              </a:rPr>
              <a:t>More than a hockey arena – a gathering place for community activity</a:t>
            </a:r>
            <a:endParaRPr b="0" lang="en-US" sz="2200" spc="-1" strike="noStrike">
              <a:solidFill>
                <a:srgbClr val="646461"/>
              </a:solidFill>
              <a:latin typeface="Arial"/>
            </a:endParaRPr>
          </a:p>
          <a:p>
            <a:pPr marL="240840" indent="-168480">
              <a:spcBef>
                <a:spcPts val="2999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d2d8a"/>
                </a:solidFill>
                <a:latin typeface="Arial"/>
              </a:rPr>
              <a:t>A business plan and staffing model that can respond to the need for more recreational opportunities for the community;</a:t>
            </a:r>
            <a:endParaRPr b="0" lang="en-US" sz="2200" spc="-1" strike="noStrike">
              <a:solidFill>
                <a:srgbClr val="646461"/>
              </a:solidFill>
              <a:latin typeface="Arial"/>
            </a:endParaRPr>
          </a:p>
          <a:p>
            <a:pPr marL="240840" indent="-168480">
              <a:spcBef>
                <a:spcPts val="2999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d2d8a"/>
                </a:solidFill>
                <a:latin typeface="Arial"/>
              </a:rPr>
              <a:t>A collaborative governance model where the whole community is involved in decision making and invested in sustaining it</a:t>
            </a:r>
            <a:endParaRPr b="0" lang="en-US" sz="2200" spc="-1" strike="noStrike">
              <a:solidFill>
                <a:srgbClr val="646461"/>
              </a:solidFill>
              <a:latin typeface="Arial"/>
            </a:endParaRPr>
          </a:p>
          <a:p>
            <a:pPr marL="240840" indent="-168480">
              <a:spcBef>
                <a:spcPts val="2999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d2d8a"/>
                </a:solidFill>
                <a:latin typeface="Arial"/>
              </a:rPr>
              <a:t>Building on the volunteerism spirit which built and operated the KTMA</a:t>
            </a:r>
            <a:endParaRPr b="0" lang="en-US" sz="2200" spc="-1" strike="noStrike">
              <a:solidFill>
                <a:srgbClr val="646461"/>
              </a:solidFill>
              <a:latin typeface="Arial"/>
            </a:endParaRPr>
          </a:p>
          <a:p>
            <a:pPr marL="240840" indent="0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240840" indent="0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7594"/>
                </a:solidFill>
                <a:latin typeface="Helvetica Neue Light"/>
              </a:rPr>
              <a:t>  </a:t>
            </a:r>
            <a:r>
              <a:rPr b="1" lang="en-US" sz="4400" spc="-1" strike="noStrike">
                <a:solidFill>
                  <a:srgbClr val="4a7594"/>
                </a:solidFill>
                <a:latin typeface="Helvetica Neue Light"/>
              </a:rPr>
              <a:t>Dr. Peter Newberry</a:t>
            </a:r>
            <a:br>
              <a:rPr sz="4400"/>
            </a:br>
            <a:r>
              <a:rPr b="0" lang="en-US" sz="3200" spc="-1" strike="noStrike">
                <a:solidFill>
                  <a:srgbClr val="4a7594"/>
                </a:solidFill>
                <a:latin typeface="Helvetica Neue Light"/>
              </a:rPr>
              <a:t>Chair, USRC Campaign</a:t>
            </a:r>
            <a:endParaRPr b="0" lang="en-US" sz="32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1960" y="1865160"/>
            <a:ext cx="8534160" cy="5321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55680" indent="-355680">
              <a:spcBef>
                <a:spcPts val="3801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1"/>
                </a:solidFill>
                <a:latin typeface="Arial"/>
              </a:rPr>
              <a:t>An Internationally Recognized Pioneer of Rural Medicine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3801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1"/>
                </a:solidFill>
                <a:latin typeface="Arial"/>
              </a:rPr>
              <a:t>Builder of the Northern Medical Program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3801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1"/>
                </a:solidFill>
                <a:latin typeface="Arial"/>
              </a:rPr>
              <a:t>Instrumental with the Wrinch Memorial Hospita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3801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1"/>
                </a:solidFill>
                <a:latin typeface="Arial"/>
              </a:rPr>
              <a:t>Longtime resident of the Upper Skeena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3801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1"/>
                </a:solidFill>
                <a:latin typeface="Arial"/>
              </a:rPr>
              <a:t>Community Builder, Philanthropist, Engaged Citizen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3801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446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4a7594"/>
                </a:solidFill>
                <a:latin typeface="Arial"/>
              </a:rPr>
              <a:t>BENEFITS OF HEALTH &amp; WELLNESS</a:t>
            </a:r>
            <a:endParaRPr b="0" lang="en-US" sz="32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8520" y="136188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7000"/>
          </a:bodyPr>
          <a:p>
            <a:pPr marL="9396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93960">
              <a:spcBef>
                <a:spcPts val="2500"/>
              </a:spcBef>
              <a:buClr>
                <a:srgbClr val="646461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46461"/>
                </a:solidFill>
                <a:latin typeface="Arial"/>
              </a:rPr>
              <a:t>Recreation and active living </a:t>
            </a:r>
            <a:r>
              <a:rPr b="1" lang="en-CA" sz="2400" spc="-1" strike="noStrike">
                <a:solidFill>
                  <a:srgbClr val="646461"/>
                </a:solidFill>
                <a:latin typeface="Arial"/>
              </a:rPr>
              <a:t>are</a:t>
            </a:r>
            <a:r>
              <a:rPr b="0" lang="en-CA" sz="2400" spc="-1" strike="noStrike">
                <a:solidFill>
                  <a:srgbClr val="646461"/>
                </a:solidFill>
                <a:latin typeface="Arial"/>
              </a:rPr>
              <a:t> essential to personal health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93960">
              <a:spcBef>
                <a:spcPts val="1800"/>
              </a:spcBef>
              <a:buClr>
                <a:srgbClr val="646461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46461"/>
                </a:solidFill>
                <a:latin typeface="Arial"/>
              </a:rPr>
              <a:t>Recreation is a key to balanced human development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93960">
              <a:spcBef>
                <a:spcPts val="1800"/>
              </a:spcBef>
              <a:buClr>
                <a:srgbClr val="646461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46461"/>
                </a:solidFill>
                <a:latin typeface="Arial"/>
              </a:rPr>
              <a:t>Recreation essential to quality of life.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93960">
              <a:spcBef>
                <a:spcPts val="1800"/>
              </a:spcBef>
              <a:buClr>
                <a:srgbClr val="646461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46461"/>
                </a:solidFill>
                <a:latin typeface="Arial"/>
              </a:rPr>
              <a:t>Health and wellness reduces self-destructive and anti-social behavior.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93960">
              <a:spcBef>
                <a:spcPts val="1800"/>
              </a:spcBef>
              <a:buClr>
                <a:srgbClr val="646461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46461"/>
                </a:solidFill>
                <a:latin typeface="Arial"/>
              </a:rPr>
              <a:t>Healthy lifestyles build strong families and healthier communities.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93960">
              <a:spcBef>
                <a:spcPts val="1800"/>
              </a:spcBef>
              <a:buClr>
                <a:srgbClr val="646461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46461"/>
                </a:solidFill>
                <a:latin typeface="Arial"/>
              </a:rPr>
              <a:t>Health and wellness efforts reduce the costs of health care, social service and policy/justice. It is an integral component to education and employability of the workforce.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93960">
              <a:spcBef>
                <a:spcPts val="1800"/>
              </a:spcBef>
              <a:buClr>
                <a:srgbClr val="646461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46461"/>
                </a:solidFill>
                <a:latin typeface="Arial"/>
              </a:rPr>
              <a:t>Recreation and parks are significant economic generators in your community!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9396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64646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446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ECONOMIC BENEFITS </a:t>
            </a:r>
            <a:endParaRPr b="0" lang="en-US" sz="36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58520" y="1577880"/>
            <a:ext cx="8534520" cy="561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9000"/>
          </a:bodyPr>
          <a:p>
            <a:pPr marL="361080" indent="-252720">
              <a:spcBef>
                <a:spcPts val="2500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The economic impacts to the Hazeltons and area of the construction fall into one of five categories: 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2500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              • </a:t>
            </a: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Construction jobs building the facility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              • </a:t>
            </a: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Additional jobs created operating the facility 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2500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Indirect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             • </a:t>
            </a: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New tourism and new real spending in the community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             • </a:t>
            </a: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Increase in service sector jobs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              • </a:t>
            </a: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Multiplier impacts of new housing and services to support the 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                 </a:t>
            </a: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families of the net new jobs created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</dc:creator>
  <dc:description/>
  <dc:language>en-US</dc:language>
  <cp:lastModifiedBy>Tom Berekoff</cp:lastModifiedBy>
  <cp:lastPrinted>2012-09-23T18:10:49Z</cp:lastPrinted>
  <dcterms:modified xsi:type="dcterms:W3CDTF">2012-10-17T16:12:19Z</dcterms:modified>
  <cp:revision>31</cp:revision>
  <dc:subject/>
  <dc:title>Slide 1</dc:title>
</cp:coreProperties>
</file>