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960480"/>
            <a:ext cx="883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2280" y="3324600"/>
            <a:ext cx="883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960480"/>
            <a:ext cx="431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800" y="960480"/>
            <a:ext cx="431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2280" y="3324600"/>
            <a:ext cx="431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1800" y="3324600"/>
            <a:ext cx="431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960480"/>
            <a:ext cx="284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41000" y="960480"/>
            <a:ext cx="284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0080" y="960480"/>
            <a:ext cx="284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2280" y="3324600"/>
            <a:ext cx="284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41000" y="3324600"/>
            <a:ext cx="284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0080" y="3324600"/>
            <a:ext cx="284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2280" y="96048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2280" y="96048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280" y="960480"/>
            <a:ext cx="431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1800" y="960480"/>
            <a:ext cx="431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960480"/>
            <a:ext cx="431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960480"/>
            <a:ext cx="431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2280" y="3324600"/>
            <a:ext cx="431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280" y="960480"/>
            <a:ext cx="431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800" y="960480"/>
            <a:ext cx="431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1800" y="3324600"/>
            <a:ext cx="431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960480"/>
            <a:ext cx="431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960480"/>
            <a:ext cx="431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280" y="3324600"/>
            <a:ext cx="883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0033"/>
                </a:solidFill>
                <a:uFillTx/>
                <a:latin typeface="Tahoma"/>
              </a:rPr>
              <a:t>Click to edit the title text format</a:t>
            </a: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96048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66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660033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 u="sng">
                <a:solidFill>
                  <a:srgbClr val="660033"/>
                </a:solidFill>
                <a:uFillTx/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8E22-8A89-40E7-B3F8-A46E5F2DE45D}" type="datetime">
              <a:rPr b="0" lang="en-GB" sz="1400" spc="-1" strike="noStrike" u="sng">
                <a:solidFill>
                  <a:srgbClr val="660033"/>
                </a:solidFill>
                <a:uFillTx/>
                <a:latin typeface="Tahom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8160" y="65527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00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33"/>
                </a:solidFill>
                <a:latin typeface="Tahoma"/>
              </a:rPr>
              <a:t>MBA 11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ate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755B-DF8D-41EA-B4D5-68162C85329F}" type="datetime">
              <a:rPr b="0" lang="en-GB" sz="1400" spc="-1" strike="noStrike" u="sng">
                <a:solidFill>
                  <a:srgbClr val="660033"/>
                </a:solidFill>
                <a:uFillTx/>
                <a:latin typeface="Tahom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Footer Placeholder 4"/>
          <p:cNvSpPr/>
          <p:nvPr/>
        </p:nvSpPr>
        <p:spPr>
          <a:xfrm>
            <a:off x="6248520" y="65530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33"/>
                </a:solidFill>
                <a:latin typeface="Tahoma"/>
              </a:rPr>
              <a:t>MBA 11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0033"/>
                </a:solidFill>
                <a:uFillTx/>
                <a:latin typeface="Tahoma"/>
              </a:rPr>
              <a:t>Physics Calculations</a:t>
            </a: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79880" indent="-479880">
              <a:spcBef>
                <a:spcPts val="700"/>
              </a:spcBef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How can I score full marks for calculation questions in an exam? (about ½ the marks in the paper!)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479880" indent="-479880">
              <a:spcBef>
                <a:spcPts val="700"/>
              </a:spcBef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6 steps for calculation bliss!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479880" indent="-479880">
              <a:spcBef>
                <a:spcPts val="799"/>
              </a:spcBef>
              <a:buClr>
                <a:srgbClr val="66003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Write down what the question tells you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479880" indent="-479880">
              <a:spcBef>
                <a:spcPts val="799"/>
              </a:spcBef>
              <a:buClr>
                <a:srgbClr val="66003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Write down what the question asks you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479880" indent="-479880">
              <a:spcBef>
                <a:spcPts val="799"/>
              </a:spcBef>
              <a:buClr>
                <a:srgbClr val="66003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Formula </a:t>
            </a: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(1 mark)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479880" indent="-479880">
              <a:spcBef>
                <a:spcPts val="799"/>
              </a:spcBef>
              <a:buClr>
                <a:srgbClr val="66003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Substitution</a:t>
            </a: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(1 mark)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479880" indent="-479880">
              <a:spcBef>
                <a:spcPts val="799"/>
              </a:spcBef>
              <a:buClr>
                <a:srgbClr val="66003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Answer</a:t>
            </a: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(1 mark)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479880" indent="-479880">
              <a:spcBef>
                <a:spcPts val="799"/>
              </a:spcBef>
              <a:buClr>
                <a:srgbClr val="66003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Units</a:t>
            </a: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(1 mark)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479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479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02:36:08Z</dcterms:created>
  <dc:creator>tempusers</dc:creator>
  <dc:description/>
  <dc:language>en-US</dc:language>
  <cp:lastModifiedBy>Matt Baker</cp:lastModifiedBy>
  <dcterms:modified xsi:type="dcterms:W3CDTF">2011-08-30T00:24:03Z</dcterms:modified>
  <cp:revision>39</cp:revision>
  <dc:subject/>
  <dc:title>Objectives – Work and Power</dc:title>
</cp:coreProperties>
</file>