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03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6812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023240" y="662796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5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celeratio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09480" y="1066680"/>
            <a:ext cx="81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We can express the formula for acceleration using the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03848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10"/>
          <p:cNvGrpSpPr/>
          <p:nvPr/>
        </p:nvGrpSpPr>
        <p:grpSpPr>
          <a:xfrm>
            <a:off x="685800" y="1981080"/>
            <a:ext cx="7391520" cy="1145520"/>
            <a:chOff x="685800" y="1981080"/>
            <a:chExt cx="7391520" cy="1145520"/>
          </a:xfrm>
        </p:grpSpPr>
        <p:sp>
          <p:nvSpPr>
            <p:cNvPr id="46" name="Rectangle 4"/>
            <p:cNvSpPr/>
            <p:nvPr/>
          </p:nvSpPr>
          <p:spPr>
            <a:xfrm>
              <a:off x="685800" y="1981080"/>
              <a:ext cx="73915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</a:rPr>
                <a:t>Acceleration = Change in velocity ÷ Change in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Text Box 6"/>
            <p:cNvSpPr/>
            <p:nvPr/>
          </p:nvSpPr>
          <p:spPr>
            <a:xfrm>
              <a:off x="3429000" y="2666880"/>
              <a:ext cx="1866960" cy="4597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a =∆v/∆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Text Box 7"/>
          <p:cNvSpPr/>
          <p:nvPr/>
        </p:nvSpPr>
        <p:spPr>
          <a:xfrm>
            <a:off x="1523880" y="390384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 = acceleration (m/s</a:t>
            </a:r>
            <a:r>
              <a:rPr b="0" lang="en-GB" sz="24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1892880" y="429264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∆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v = v – u = change in velocity 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498120" y="573264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t = time 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804400" y="4797360"/>
            <a:ext cx="32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u = initial velocity 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864160" y="522936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v = final velocity 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403280" y="325584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2db9"/>
                </a:solidFill>
                <a:latin typeface="Arial"/>
              </a:rPr>
              <a:t>or...       a = v – u /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mula triangl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971800" y="3809880"/>
            <a:ext cx="3048120" cy="198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267080" y="4267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733920" y="50292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48320" y="5029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>
            <a:off x="3657600" y="49528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8"/>
          <p:cNvSpPr/>
          <p:nvPr/>
        </p:nvSpPr>
        <p:spPr>
          <a:xfrm>
            <a:off x="4495680" y="4952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562720" y="43434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Symbol"/>
                <a:ea typeface="Symbol"/>
              </a:rPr>
              <a:t>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819520" y="43434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Symbol"/>
                <a:ea typeface="Symbol"/>
              </a:rPr>
              <a:t>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038480" y="57913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4267080" y="55990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611280" y="8380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Formula triangles help you to rearrange formula, the triangle for the acceleration formula is shown bel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609480" y="18288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Whatever quantity you are trying to find cover it up and it will leave you with the calculation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09480" y="3276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So if you were trying to find speed, a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609480" y="46483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you would cover a up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952880" y="2971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nd you are left with the su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6248520" y="3962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6477120" y="380988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  = </a:t>
            </a:r>
            <a:r>
              <a:rPr b="0" lang="en-GB" sz="2400" spc="-1" strike="noStrike" u="sng">
                <a:solidFill>
                  <a:srgbClr val="9900cc"/>
                </a:solidFill>
                <a:uFillTx/>
                <a:latin typeface="Arial"/>
              </a:rPr>
              <a:t>∆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72388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3" descr="hand pointing"/>
          <p:cNvPicPr/>
          <p:nvPr/>
        </p:nvPicPr>
        <p:blipFill>
          <a:blip r:embed="rId1"/>
          <a:stretch/>
        </p:blipFill>
        <p:spPr>
          <a:xfrm>
            <a:off x="2057400" y="5105520"/>
            <a:ext cx="2152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ba</cp:lastModifiedBy>
  <cp:lastPrinted>2000-07-24T15:04:59Z</cp:lastPrinted>
  <dcterms:modified xsi:type="dcterms:W3CDTF">2010-08-25T02:48:27Z</dcterms:modified>
  <cp:revision>184</cp:revision>
  <dc:subject/>
  <dc:title>No Slide Title</dc:title>
</cp:coreProperties>
</file>