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930-7822-4DCE-8BF8-E1C797CE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CCD4-6A45-4FE6-A138-794C35FE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5C5-4C6F-4CF5-8B48-4D5A8405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015-81D4-4BBB-B09A-66E23990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B422-EBAA-47D2-8758-844A86A3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FCE-8BFE-4A74-8EEC-CFC7F230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8966-2441-4443-B80F-F7AE2CB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2F7F-E761-4F61-84E7-97D84E9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028E-B1E0-471E-888E-9770ED4A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1CF4-D97E-4AB6-9000-4EE6BA6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1B40-F2AA-41B3-9376-285503F5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38C-CE30-479D-B00F-31FC3FE9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D0E1-81FB-42FC-A218-62DDD3AB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78D3-9F4B-4886-BA97-6B81E86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6447-A28E-42BB-8688-5D01037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E1AC-215E-41CD-95BE-0EF74334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7CA-8886-4A75-8070-8CC0E32E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0828-A5B4-48B5-8F40-B79057AE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C5EB-8BA0-4794-A4E6-FAB242D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5DFC-4E0B-4AA8-B3B4-CB173160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0ED2-3F9D-4005-B269-AF2390C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8294-4B89-4BAC-9728-60EB0853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00D-3EC8-48B2-8134-0BC7C77B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D2E3F-B38C-44FE-8D93-9E45535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44AF0-B355-4237-B167-61619927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73F5-5FF9-4599-945A-5505B7A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8B9C-3375-4335-81A9-ECBB7B9F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E906D-1616-4E45-8273-4C974CA0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0C58-D85F-43AC-B906-2A98E1B9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9698-AD2B-433A-B8C0-D3B94CED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A8A-E7FB-43D7-A27A-2B0BDB78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619-0720-4EA7-B8F0-87220A1F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03C-76B7-4827-B39D-5E0DB4B3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21A-5FB5-49C4-A17B-75CA8FF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420-8172-47E1-A20B-9E37EEC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4BB-D86A-49B1-836D-EC1DDC2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990E-367C-423C-8EE6-68D07AAF60AA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539-D78B-4880-A1FE-18C3FB6C58F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ECB-B041-40B4-B600-E35A3BC19915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7C6B-24BC-4676-ACF0-E0846859A179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02D-D579-4609-AAC2-B0FB252251CD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AFB2-E1CD-4269-8155-8D0BD710EB11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8C2D-98E3-43CB-A286-BB97F21A1E17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03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4 x 2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8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100 = I x 1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 = 10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5CF-1087-46EF-BC6A-A678CC1844C8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1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(2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24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FF4B-419F-401B-BDE1-4CDA483B3019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2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10 x 5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5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2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30 = 6 x Q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5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5F98-E7C0-41F6-91C2-23A56CFE2D01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3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5 x 2 x 1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200 = V x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V = 1V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E58-2149-4153-AB2F-F9DBB12D8A68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V = I x R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6 = I x 3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I = 2A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20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20E0-C722-49AD-AAB2-ECFFCF212FAB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4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6 x 2 x 1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2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1.2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6 x 2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12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1.2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FE1-626A-4133-9731-F09C6F2C443B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V = I x R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 = 2 x 5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V = 10V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Q =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 = 2 x (5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Q = 600C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3FD-70CC-4B5E-B282-916EDB73F726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I x t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10 x 2 x (5 x 60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60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6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rmula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 = V x Q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titu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 = 10 x 600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wer+Unit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E = 6000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or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ahoma"/>
              </a:rPr>
              <a:t>6kJ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DD83-6737-4B40-A312-9E42261D98C3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6"/>
          <p:cNvSpPr/>
          <p:nvPr/>
        </p:nvSpPr>
        <p:spPr>
          <a:xfrm>
            <a:off x="624852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950400"/>
            <a:ext cx="8893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Question 5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Energy comes from Chemical Potential Energy of the batt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ransferred to thermal energy in the resis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The resistor heat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2-15T02:30:00Z</dcterms:modified>
  <cp:revision>43</cp:revision>
  <dc:subject/>
  <dc:title>4C Work and Power</dc:title>
</cp:coreProperties>
</file>