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60B-50E0-465A-AE6C-FBB4E284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6C2-5F96-47E0-B53D-8AAD4CEE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99E-09EC-4B4C-984E-61D377E6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F3E-0EE6-4063-9C3E-EC5B41C8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2E27-BC60-4FD9-ADBC-81E9D6C9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686A-A3B7-4D32-9740-606FCFD7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BF33-46D1-4DF6-A0AE-6E178CA8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75C4-8F61-4385-BB25-5AD9CE29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F3CE-CF66-45E1-B851-B0B5DE13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C2C6-1C16-453F-9709-D7456084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2BC9-3D46-4BEA-9860-B00872EA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A90-75C8-4CCE-A45A-01C937F4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7A70-2F60-4F90-B545-8250872E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6216-401D-4FBE-B4BA-E6ED88EF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B0F5-9058-4343-A650-D25D01AC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C915-29AE-4544-BC84-02222859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BF3E-9C0B-4A53-812B-B1678FE3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5545-A2A7-482E-9D74-19A906B2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6742-C3ED-424C-9F82-C03708F1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BFF7-E5A2-438E-A0D3-49DB2112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168AE-DDA0-4B03-9585-DECD0884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EBA8-8CC8-427D-BB3D-9BE259A7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11E-AD8F-40B1-9B8E-0F7698D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0B19-3221-482D-B663-90FAD7CD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5793-9573-4208-A90A-D1218219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F1895-CA2B-48F4-BAB0-D2D98C10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C848-10E3-40ED-917F-AAB5DF2A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C09B-FE89-4D28-9A47-C530C92E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2109-8A2D-4F2D-8FF8-65EDC224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4CCF-FC58-4BEF-B42D-30B4F126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027-92B4-4E96-8163-548E8D6A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7E0-95EC-452E-ABE0-103A5A77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56B-1C58-4251-AF63-64683F64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C16-AFFF-4598-8A5C-082E8492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07B-6EF6-44D9-AB63-C2EF5232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D56-EC71-478C-945D-24B6777B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30D8-7CBA-4D0F-965E-58122866A8A8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56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CD5D-323E-4449-9830-CD083B90F54E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0191-20C5-45D0-A2F9-999A6D5EA636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24816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03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2856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CF58-6FC8-439F-8EA3-2942B17ECEBB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CFEC-E397-4873-A685-63641F63901C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24816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03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22856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87B8-8796-42A0-9149-29A1470218E7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C35A-30BB-4668-983F-2DF5E161FF8F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03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1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Q =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 = 4 x 2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Q = 80C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1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Q =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100 = I x 1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 = 10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C7D0-A039-485F-8D47-E6FC90659045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1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Q =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 = 2 x (2 x 60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Q = 240C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EDA3-0E4A-4107-A657-CCCCA49E361F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2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Q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10 x 5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5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2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Q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30 = 6 x Q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Q = 5C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EC2A-D347-429E-8D15-F76614DAA3B2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3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5 x 2 x 1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10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200 = V x 2 x 10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V = 1V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8016-5E0E-419C-824F-AC5C8057FE94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4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V = I x R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6 = I x 3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 = 2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4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Q =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 = 2 x 10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Q = 200C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DB0B-2CDF-49E0-BAC3-D71F768B85B0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4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 = 6 x 2 x 10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120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r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1.2k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Q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 = 6 x 20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120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r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1.2k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38CE-9CA6-4EE2-AA08-84E40E604CD8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V = I x R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 = 2 x 5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V = 10V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5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Q =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 = 2 x (5 x 60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Q = 600C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EA37-C9F6-460E-BF30-DA65A3B12DDE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5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 = 10 x 2 x (5 x 60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600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r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6k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Q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 = 10 x 60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600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r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6k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AEB2-F211-41CD-9136-A8A3B6ACC684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5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nergy comes from Chemical Potential Energy of the batt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Transferred to thermal energy in the resis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The resistor heats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2-15T02:30:00Z</dcterms:modified>
  <cp:revision>43</cp:revision>
  <dc:subject/>
  <dc:title>4C Work and Power</dc:title>
</cp:coreProperties>
</file>