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peed questio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Text Box 1027"/>
          <p:cNvSpPr/>
          <p:nvPr/>
        </p:nvSpPr>
        <p:spPr>
          <a:xfrm>
            <a:off x="457200" y="914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travels a distance of 100 metres in 20 seconds. What is the speed of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ike travels at a speed of 20 m/s for 20 seconds. How far does the bike travel in thi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travels at 30 m/s for 2 minutes. How far has it travelled in thi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travels at 30 km/hour. How far, in metres, will the car cover in 90 seco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Text Box 1027"/>
          <p:cNvSpPr/>
          <p:nvPr/>
        </p:nvSpPr>
        <p:spPr>
          <a:xfrm>
            <a:off x="457200" y="91440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travels a distance of 100 metres in 20 seconds. What is the speed of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= d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= 100 /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 = 5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Text Box 1027"/>
          <p:cNvSpPr/>
          <p:nvPr/>
        </p:nvSpPr>
        <p:spPr>
          <a:xfrm>
            <a:off x="457200" y="91440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ike travels at a speed of 20 m/s for 20 seconds. How far does the bike travel in thi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= d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 = d /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 = 40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914400"/>
            <a:ext cx="8077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travels at 30 m/s for 2 minutes. How far has it travelled in this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= d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 = d / (2 x 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 = 3600m or 3.6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457200" y="914400"/>
            <a:ext cx="80773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travels at 30 km/hour. How far will the car travel in 90 secon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= d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0 x1000 / 60 x 60) = d /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 = 750m or 0.75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8-30T01:16:45Z</dcterms:modified>
  <cp:revision>184</cp:revision>
  <dc:subject/>
  <dc:title>No Slide Title</dc:title>
</cp:coreProperties>
</file>