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2560-C306-4C24-A8F9-0EFE80CD14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7B9F-F855-4678-9997-BE0E27536D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 FLASH animation.  Please drag and drop the masses onto the ‘see-saw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972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7784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nciple of moment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676520" y="1066680"/>
            <a:ext cx="6095880" cy="3988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ticlockwise moments = Clockwise mo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66760" y="38736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should a force of 50N be positioned to balance the see-sa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96720" y="4273560"/>
            <a:ext cx="8137800" cy="33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d, s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clockwise moments = Clockwise mo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 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 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5 x 2 = 50 x 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r>
              <a:rPr b="0" lang="en-GB" sz="20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= 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4343400" y="2438280"/>
            <a:ext cx="685800" cy="685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666880" y="2438280"/>
            <a:ext cx="41148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209680" y="35053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274320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289548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4876920" y="20574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276720" y="1663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876920" y="1663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791320" y="2514600"/>
            <a:ext cx="0" cy="83808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525780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6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11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4800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nciple of mo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7621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g and drop any of the masses onto the “see – saw” and try to get it to balance. The masses are in kilograms and the distance in met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flash icon"/>
          <p:cNvPicPr/>
          <p:nvPr/>
        </p:nvPicPr>
        <p:blipFill>
          <a:blip r:embed="rId1"/>
          <a:stretch/>
        </p:blipFill>
        <p:spPr>
          <a:xfrm>
            <a:off x="7410600" y="12384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ShockwaveFlash1"/>
          <p:cNvGraphicFramePr/>
          <p:nvPr/>
        </p:nvGraphicFramePr>
        <p:xfrm>
          <a:off x="685800" y="1523880"/>
          <a:ext cx="7772400" cy="48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523880"/>
                    <a:ext cx="7772400" cy="4853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16360" cy="54936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rane operator activit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14360" y="797040"/>
            <a:ext cx="81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should the loading platform be on the loading arm to carry each load saf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flash icon"/>
          <p:cNvPicPr/>
          <p:nvPr/>
        </p:nvPicPr>
        <p:blipFill>
          <a:blip r:embed="rId1"/>
          <a:stretch/>
        </p:blipFill>
        <p:spPr>
          <a:xfrm>
            <a:off x="7324560" y="228600"/>
            <a:ext cx="447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ShockwaveFlash1"/>
          <p:cNvGraphicFramePr/>
          <p:nvPr/>
        </p:nvGraphicFramePr>
        <p:xfrm>
          <a:off x="684360" y="1628640"/>
          <a:ext cx="7632720" cy="45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628640"/>
                    <a:ext cx="76327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tt Baker</cp:lastModifiedBy>
  <cp:lastPrinted>2000-07-24T15:04:59Z</cp:lastPrinted>
  <dcterms:modified xsi:type="dcterms:W3CDTF">2011-10-31T10:20:13Z</dcterms:modified>
  <cp:revision>193</cp:revision>
  <dc:subject/>
  <dc:title>No Slide Title</dc:title>
</cp:coreProperties>
</file>