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AD7D-FCF6-4196-82F1-C39FB4DCC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: if the animation speed looks wrong on your computer, click on Slide Show-&gt;Custom Animation, then change the automatic timing for Group 17 o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8C2-AFC6-4EBE-A703-893CF682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A9F-4ED5-4988-92FB-864BE85C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B4A-8369-4B98-9E13-012EC5EB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902-12A2-4C28-8EE3-BECF9779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671-FA0F-4F7A-9D0B-E1DBFE44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03C-9470-40D1-BEAC-4D9B070A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F16-C947-43BE-A13A-05791354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723-55C3-4718-9048-5193E70A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C47-4B66-492D-A5DC-BA00C24A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F0E-8772-4D86-AFEE-8D54170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393-64B4-46ED-A39A-8AB2E93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683-92CB-4E79-AC12-2EF1E9B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A3F-F380-427B-B9CA-F69D11355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89960" y="3262320"/>
            <a:ext cx="554040" cy="3595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631360" y="6093000"/>
            <a:ext cx="51264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4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4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.   A book on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esulta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9718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A car travelling down the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344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248000" y="1828800"/>
            <a:ext cx="2229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914040" y="1828800"/>
            <a:ext cx="85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3809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d forces balan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blue ones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nd explain what happens to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5800" y="3733920"/>
            <a:ext cx="8153280" cy="2438280"/>
            <a:chOff x="685800" y="3733920"/>
            <a:chExt cx="8153280" cy="2438280"/>
          </a:xfrm>
        </p:grpSpPr>
        <p:sp>
          <p:nvSpPr>
            <p:cNvPr id="350" name=""/>
            <p:cNvSpPr/>
            <p:nvPr/>
          </p:nvSpPr>
          <p:spPr>
            <a:xfrm>
              <a:off x="685800" y="3733920"/>
              <a:ext cx="7924680" cy="243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38098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Vertical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38080" y="4229280"/>
            <a:ext cx="80773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ces balance.  The car does not move up or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rizont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sultan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ce, to the right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car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celerat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5410080"/>
            <a:ext cx="1224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2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 book on a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914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able exerts a reaction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2120" y="4038480"/>
            <a:ext cx="3886200" cy="2057400"/>
            <a:chOff x="762120" y="4038480"/>
            <a:chExt cx="3886200" cy="2057400"/>
          </a:xfrm>
        </p:grpSpPr>
        <p:sp>
          <p:nvSpPr>
            <p:cNvPr id="55" name=""/>
            <p:cNvSpPr/>
            <p:nvPr/>
          </p:nvSpPr>
          <p:spPr>
            <a:xfrm>
              <a:off x="762120" y="4038480"/>
              <a:ext cx="3809880" cy="205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411480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2 forces a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219480" y="3295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948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9520" y="2057400"/>
            <a:ext cx="3382200" cy="371520"/>
            <a:chOff x="1379520" y="2057400"/>
            <a:chExt cx="3382200" cy="371520"/>
          </a:xfrm>
        </p:grpSpPr>
        <p:sp>
          <p:nvSpPr>
            <p:cNvPr id="60" name=""/>
            <p:cNvSpPr/>
            <p:nvPr/>
          </p:nvSpPr>
          <p:spPr>
            <a:xfrm>
              <a:off x="1520640" y="2066760"/>
              <a:ext cx="32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0640" y="2428920"/>
              <a:ext cx="32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9520" y="2057400"/>
              <a:ext cx="277200" cy="36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0640" y="2095560"/>
              <a:ext cx="3124080" cy="312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615560" y="2058840"/>
              <a:ext cx="145800" cy="36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3048120" y="971640"/>
            <a:ext cx="0" cy="1371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2502000"/>
            <a:ext cx="4678200" cy="355680"/>
            <a:chOff x="762120" y="2502000"/>
            <a:chExt cx="4678200" cy="355680"/>
          </a:xfrm>
        </p:grpSpPr>
        <p:sp>
          <p:nvSpPr>
            <p:cNvPr id="67" name=""/>
            <p:cNvSpPr/>
            <p:nvPr/>
          </p:nvSpPr>
          <p:spPr>
            <a:xfrm>
              <a:off x="762120" y="2552760"/>
              <a:ext cx="4678200" cy="30492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2502000"/>
              <a:ext cx="467820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486400" y="2971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vity pulls the boo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2860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886200"/>
            <a:ext cx="28195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c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book weigh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62924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cancel out.  The book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2.   A book with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41680" y="1143000"/>
            <a:ext cx="61128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nother book on a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nger is pushing with a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267080" y="3429000"/>
            <a:ext cx="3886200" cy="2057400"/>
            <a:chOff x="4267080" y="3429000"/>
            <a:chExt cx="3886200" cy="2057400"/>
          </a:xfrm>
        </p:grpSpPr>
        <p:sp>
          <p:nvSpPr>
            <p:cNvPr id="79" name=""/>
            <p:cNvSpPr/>
            <p:nvPr/>
          </p:nvSpPr>
          <p:spPr>
            <a:xfrm>
              <a:off x="4267080" y="3429000"/>
              <a:ext cx="3809880" cy="205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3040" y="35053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2 forces a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4328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16160" y="2171880"/>
            <a:ext cx="2410560" cy="371160"/>
            <a:chOff x="4016160" y="2171880"/>
            <a:chExt cx="2410560" cy="371160"/>
          </a:xfrm>
        </p:grpSpPr>
        <p:sp>
          <p:nvSpPr>
            <p:cNvPr id="84" name=""/>
            <p:cNvSpPr/>
            <p:nvPr/>
          </p:nvSpPr>
          <p:spPr>
            <a:xfrm>
              <a:off x="4116960" y="2180880"/>
              <a:ext cx="228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6960" y="2543040"/>
              <a:ext cx="228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15800" y="2171880"/>
              <a:ext cx="19692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6960" y="2209680"/>
              <a:ext cx="2226960" cy="31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323760" y="2172960"/>
              <a:ext cx="10296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038480" y="2362320"/>
            <a:ext cx="147492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41560" y="2616120"/>
            <a:ext cx="4678200" cy="355680"/>
            <a:chOff x="2941560" y="2616120"/>
            <a:chExt cx="4678200" cy="355680"/>
          </a:xfrm>
        </p:grpSpPr>
        <p:sp>
          <p:nvSpPr>
            <p:cNvPr id="91" name=""/>
            <p:cNvSpPr/>
            <p:nvPr/>
          </p:nvSpPr>
          <p:spPr>
            <a:xfrm>
              <a:off x="2941560" y="2666880"/>
              <a:ext cx="4678200" cy="30492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1560" y="2616120"/>
              <a:ext cx="467820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380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a friction forc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9080" y="2514600"/>
            <a:ext cx="14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1940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cancel out.  The book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743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66672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 car travelling down the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191120"/>
            <a:ext cx="6629400" cy="1218960"/>
            <a:chOff x="685800" y="4191120"/>
            <a:chExt cx="6629400" cy="1218960"/>
          </a:xfrm>
        </p:grpSpPr>
        <p:sp>
          <p:nvSpPr>
            <p:cNvPr id="100" name=""/>
            <p:cNvSpPr/>
            <p:nvPr/>
          </p:nvSpPr>
          <p:spPr>
            <a:xfrm>
              <a:off x="685800" y="4191120"/>
              <a:ext cx="66294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428616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The forces are </a:t>
              </a:r>
              <a:r>
                <a:rPr b="1" lang="en-US" sz="2400" spc="-1" strike="noStrike">
                  <a:solidFill>
                    <a:srgbClr val="9900cc"/>
                  </a:solidFill>
                  <a:latin typeface="Arial"/>
                </a:rPr>
                <a:t>balanced</a:t>
              </a: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  (no resultant force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457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weight of the c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048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orward push of the eng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109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24800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228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05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y the friction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91280" y="1371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y the reaction forces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" y="48387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the car moves at a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121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4800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228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480" y="3733920"/>
            <a:ext cx="8153640" cy="2514600"/>
            <a:chOff x="609480" y="3733920"/>
            <a:chExt cx="8153640" cy="2514600"/>
          </a:xfrm>
        </p:grpSpPr>
        <p:sp>
          <p:nvSpPr>
            <p:cNvPr id="126" name=""/>
            <p:cNvSpPr/>
            <p:nvPr/>
          </p:nvSpPr>
          <p:spPr>
            <a:xfrm>
              <a:off x="609480" y="3733920"/>
              <a:ext cx="8153640" cy="251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8098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ton’s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a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38080" y="4343400"/>
            <a:ext cx="7925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orc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 resultant force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it is at rest, it stays at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it is moving, it keeps on moving at a constant speed in a straight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esulta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971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1.   A book sliding on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82560" y="1539720"/>
            <a:ext cx="3066120" cy="1187280"/>
            <a:chOff x="1582560" y="1539720"/>
            <a:chExt cx="3066120" cy="1187280"/>
          </a:xfrm>
        </p:grpSpPr>
        <p:sp>
          <p:nvSpPr>
            <p:cNvPr id="132" name=""/>
            <p:cNvSpPr/>
            <p:nvPr/>
          </p:nvSpPr>
          <p:spPr>
            <a:xfrm>
              <a:off x="1582560" y="1616040"/>
              <a:ext cx="144792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2573280" y="153972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2962080" y="2340000"/>
              <a:ext cx="1686600" cy="371160"/>
              <a:chOff x="2962080" y="2340000"/>
              <a:chExt cx="1686600" cy="371160"/>
            </a:xfrm>
          </p:grpSpPr>
          <p:sp>
            <p:nvSpPr>
              <p:cNvPr id="135" name=""/>
              <p:cNvSpPr/>
              <p:nvPr/>
            </p:nvSpPr>
            <p:spPr>
              <a:xfrm>
                <a:off x="3032280" y="234900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32280" y="27111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962080" y="234000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32280" y="2377800"/>
                <a:ext cx="1558440" cy="312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576680" y="234108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057400" y="2784600"/>
            <a:ext cx="7086240" cy="354960"/>
            <a:chOff x="2057400" y="2784600"/>
            <a:chExt cx="7086240" cy="354960"/>
          </a:xfrm>
        </p:grpSpPr>
        <p:sp>
          <p:nvSpPr>
            <p:cNvPr id="141" name=""/>
            <p:cNvSpPr/>
            <p:nvPr/>
          </p:nvSpPr>
          <p:spPr>
            <a:xfrm>
              <a:off x="2057400" y="2835000"/>
              <a:ext cx="7086240" cy="30456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2784600"/>
              <a:ext cx="708624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0880" y="914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the finger is pushing with a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76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2720" y="2511360"/>
            <a:ext cx="2951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371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27280" y="2689200"/>
            <a:ext cx="14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2162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a friction force of ju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there is a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esultan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for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336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676520"/>
            <a:ext cx="1447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1536840"/>
            <a:ext cx="2989800" cy="1186920"/>
            <a:chOff x="1676520" y="1536840"/>
            <a:chExt cx="2989800" cy="1186920"/>
          </a:xfrm>
        </p:grpSpPr>
        <p:sp>
          <p:nvSpPr>
            <p:cNvPr id="153" name=""/>
            <p:cNvSpPr/>
            <p:nvPr/>
          </p:nvSpPr>
          <p:spPr>
            <a:xfrm>
              <a:off x="16765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25909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2979720" y="2336760"/>
              <a:ext cx="1686600" cy="371160"/>
              <a:chOff x="2979720" y="2336760"/>
              <a:chExt cx="1686600" cy="37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30499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99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9797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49920" y="2374560"/>
                <a:ext cx="1558440" cy="312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5943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9847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914400"/>
            <a:ext cx="21337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124080"/>
            <a:ext cx="2514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362320"/>
            <a:ext cx="9907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71800" y="1536840"/>
            <a:ext cx="2989800" cy="1186920"/>
            <a:chOff x="2071800" y="1536840"/>
            <a:chExt cx="2989800" cy="1186920"/>
          </a:xfrm>
        </p:grpSpPr>
        <p:sp>
          <p:nvSpPr>
            <p:cNvPr id="166" name=""/>
            <p:cNvSpPr/>
            <p:nvPr/>
          </p:nvSpPr>
          <p:spPr>
            <a:xfrm>
              <a:off x="207180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298620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3375000" y="2336760"/>
              <a:ext cx="1686600" cy="371160"/>
              <a:chOff x="3375000" y="2336760"/>
              <a:chExt cx="1686600" cy="371160"/>
            </a:xfrm>
          </p:grpSpPr>
          <p:sp>
            <p:nvSpPr>
              <p:cNvPr id="169" name=""/>
              <p:cNvSpPr/>
              <p:nvPr/>
            </p:nvSpPr>
            <p:spPr>
              <a:xfrm>
                <a:off x="344520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4520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37500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45200" y="2374560"/>
                <a:ext cx="1558440" cy="312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498960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38004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468520" y="1536840"/>
            <a:ext cx="2989800" cy="1186920"/>
            <a:chOff x="2468520" y="1536840"/>
            <a:chExt cx="2989800" cy="1186920"/>
          </a:xfrm>
        </p:grpSpPr>
        <p:sp>
          <p:nvSpPr>
            <p:cNvPr id="176" name=""/>
            <p:cNvSpPr/>
            <p:nvPr/>
          </p:nvSpPr>
          <p:spPr>
            <a:xfrm>
              <a:off x="24685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33829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"/>
            <p:cNvGrpSpPr/>
            <p:nvPr/>
          </p:nvGrpSpPr>
          <p:grpSpPr>
            <a:xfrm>
              <a:off x="3771720" y="2336760"/>
              <a:ext cx="1686600" cy="371160"/>
              <a:chOff x="3771720" y="2336760"/>
              <a:chExt cx="1686600" cy="37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419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19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7717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41920" y="2374560"/>
                <a:ext cx="1558440" cy="312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3863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7767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65600" y="1536840"/>
            <a:ext cx="2989800" cy="1186920"/>
            <a:chOff x="2865600" y="1536840"/>
            <a:chExt cx="2989800" cy="1186920"/>
          </a:xfrm>
        </p:grpSpPr>
        <p:sp>
          <p:nvSpPr>
            <p:cNvPr id="186" name=""/>
            <p:cNvSpPr/>
            <p:nvPr/>
          </p:nvSpPr>
          <p:spPr>
            <a:xfrm>
              <a:off x="286560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3"/>
            <a:stretch/>
          </p:blipFill>
          <p:spPr>
            <a:xfrm>
              <a:off x="378000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4168800" y="2336760"/>
              <a:ext cx="1686600" cy="371160"/>
              <a:chOff x="4168800" y="2336760"/>
              <a:chExt cx="1686600" cy="371160"/>
            </a:xfrm>
          </p:grpSpPr>
          <p:sp>
            <p:nvSpPr>
              <p:cNvPr id="189" name=""/>
              <p:cNvSpPr/>
              <p:nvPr/>
            </p:nvSpPr>
            <p:spPr>
              <a:xfrm>
                <a:off x="423900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3900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416880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39000" y="2374560"/>
                <a:ext cx="1558440" cy="3121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78340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17384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62320" y="1536840"/>
            <a:ext cx="2989800" cy="1186920"/>
            <a:chOff x="3262320" y="1536840"/>
            <a:chExt cx="2989800" cy="1186920"/>
          </a:xfrm>
        </p:grpSpPr>
        <p:sp>
          <p:nvSpPr>
            <p:cNvPr id="196" name=""/>
            <p:cNvSpPr/>
            <p:nvPr/>
          </p:nvSpPr>
          <p:spPr>
            <a:xfrm>
              <a:off x="32623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6"/>
            <a:stretch/>
          </p:blipFill>
          <p:spPr>
            <a:xfrm>
              <a:off x="41767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"/>
            <p:cNvGrpSpPr/>
            <p:nvPr/>
          </p:nvGrpSpPr>
          <p:grpSpPr>
            <a:xfrm>
              <a:off x="4565520" y="2336760"/>
              <a:ext cx="1686600" cy="371160"/>
              <a:chOff x="4565520" y="2336760"/>
              <a:chExt cx="1686600" cy="371160"/>
            </a:xfrm>
          </p:grpSpPr>
          <p:sp>
            <p:nvSpPr>
              <p:cNvPr id="199" name=""/>
              <p:cNvSpPr/>
              <p:nvPr/>
            </p:nvSpPr>
            <p:spPr>
              <a:xfrm>
                <a:off x="46357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357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45655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35720" y="2374560"/>
                <a:ext cx="1558440" cy="3121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1801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5705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659040" y="1536840"/>
            <a:ext cx="2989800" cy="1186920"/>
            <a:chOff x="3659040" y="1536840"/>
            <a:chExt cx="2989800" cy="1186920"/>
          </a:xfrm>
        </p:grpSpPr>
        <p:sp>
          <p:nvSpPr>
            <p:cNvPr id="206" name=""/>
            <p:cNvSpPr/>
            <p:nvPr/>
          </p:nvSpPr>
          <p:spPr>
            <a:xfrm>
              <a:off x="36590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9"/>
            <a:stretch/>
          </p:blipFill>
          <p:spPr>
            <a:xfrm>
              <a:off x="45734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4962240" y="2336760"/>
              <a:ext cx="1686600" cy="371160"/>
              <a:chOff x="4962240" y="2336760"/>
              <a:chExt cx="1686600" cy="371160"/>
            </a:xfrm>
          </p:grpSpPr>
          <p:sp>
            <p:nvSpPr>
              <p:cNvPr id="209" name=""/>
              <p:cNvSpPr/>
              <p:nvPr/>
            </p:nvSpPr>
            <p:spPr>
              <a:xfrm>
                <a:off x="50324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324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9622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32440" y="2374560"/>
                <a:ext cx="1558440" cy="3121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5768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9672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056120" y="1536840"/>
            <a:ext cx="2989800" cy="1186920"/>
            <a:chOff x="4056120" y="1536840"/>
            <a:chExt cx="2989800" cy="1186920"/>
          </a:xfrm>
        </p:grpSpPr>
        <p:sp>
          <p:nvSpPr>
            <p:cNvPr id="216" name=""/>
            <p:cNvSpPr/>
            <p:nvPr/>
          </p:nvSpPr>
          <p:spPr>
            <a:xfrm>
              <a:off x="40561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49705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5359320" y="2336760"/>
              <a:ext cx="1686600" cy="371160"/>
              <a:chOff x="5359320" y="2336760"/>
              <a:chExt cx="1686600" cy="371160"/>
            </a:xfrm>
          </p:grpSpPr>
          <p:sp>
            <p:nvSpPr>
              <p:cNvPr id="219" name=""/>
              <p:cNvSpPr/>
              <p:nvPr/>
            </p:nvSpPr>
            <p:spPr>
              <a:xfrm>
                <a:off x="54295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295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3593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29520" y="2374560"/>
                <a:ext cx="1558440" cy="3121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9739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53643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52840" y="1536840"/>
            <a:ext cx="2989800" cy="1186920"/>
            <a:chOff x="4452840" y="1536840"/>
            <a:chExt cx="2989800" cy="1186920"/>
          </a:xfrm>
        </p:grpSpPr>
        <p:sp>
          <p:nvSpPr>
            <p:cNvPr id="226" name=""/>
            <p:cNvSpPr/>
            <p:nvPr/>
          </p:nvSpPr>
          <p:spPr>
            <a:xfrm>
              <a:off x="44528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5"/>
            <a:stretch/>
          </p:blipFill>
          <p:spPr>
            <a:xfrm>
              <a:off x="53672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"/>
            <p:cNvGrpSpPr/>
            <p:nvPr/>
          </p:nvGrpSpPr>
          <p:grpSpPr>
            <a:xfrm>
              <a:off x="5756040" y="2336760"/>
              <a:ext cx="1686600" cy="371160"/>
              <a:chOff x="5756040" y="2336760"/>
              <a:chExt cx="1686600" cy="37116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62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262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7560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26240" y="2374560"/>
                <a:ext cx="1558440" cy="3121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73706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7610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49920" y="1536840"/>
            <a:ext cx="2989800" cy="1186920"/>
            <a:chOff x="4849920" y="1536840"/>
            <a:chExt cx="2989800" cy="1186920"/>
          </a:xfrm>
        </p:grpSpPr>
        <p:sp>
          <p:nvSpPr>
            <p:cNvPr id="236" name=""/>
            <p:cNvSpPr/>
            <p:nvPr/>
          </p:nvSpPr>
          <p:spPr>
            <a:xfrm>
              <a:off x="48499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8"/>
            <a:stretch/>
          </p:blipFill>
          <p:spPr>
            <a:xfrm>
              <a:off x="57643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"/>
            <p:cNvGrpSpPr/>
            <p:nvPr/>
          </p:nvGrpSpPr>
          <p:grpSpPr>
            <a:xfrm>
              <a:off x="6153120" y="2336760"/>
              <a:ext cx="1686600" cy="371160"/>
              <a:chOff x="6153120" y="2336760"/>
              <a:chExt cx="1686600" cy="371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2233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33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1531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23320" y="2374560"/>
                <a:ext cx="1558440" cy="3121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7677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581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246640" y="1536840"/>
            <a:ext cx="2989800" cy="1186920"/>
            <a:chOff x="5246640" y="1536840"/>
            <a:chExt cx="2989800" cy="1186920"/>
          </a:xfrm>
        </p:grpSpPr>
        <p:sp>
          <p:nvSpPr>
            <p:cNvPr id="246" name=""/>
            <p:cNvSpPr/>
            <p:nvPr/>
          </p:nvSpPr>
          <p:spPr>
            <a:xfrm>
              <a:off x="52466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31"/>
            <a:stretch/>
          </p:blipFill>
          <p:spPr>
            <a:xfrm>
              <a:off x="61610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6549840" y="2336760"/>
              <a:ext cx="1686600" cy="371160"/>
              <a:chOff x="6549840" y="2336760"/>
              <a:chExt cx="1686600" cy="371160"/>
            </a:xfrm>
          </p:grpSpPr>
          <p:sp>
            <p:nvSpPr>
              <p:cNvPr id="249" name=""/>
              <p:cNvSpPr/>
              <p:nvPr/>
            </p:nvSpPr>
            <p:spPr>
              <a:xfrm>
                <a:off x="66200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200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5498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2374560"/>
                <a:ext cx="1558440" cy="3121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81644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5548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43720" y="1536840"/>
            <a:ext cx="2989800" cy="1186920"/>
            <a:chOff x="5643720" y="1536840"/>
            <a:chExt cx="2989800" cy="1186920"/>
          </a:xfrm>
        </p:grpSpPr>
        <p:sp>
          <p:nvSpPr>
            <p:cNvPr id="256" name=""/>
            <p:cNvSpPr/>
            <p:nvPr/>
          </p:nvSpPr>
          <p:spPr>
            <a:xfrm>
              <a:off x="56437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34"/>
            <a:stretch/>
          </p:blipFill>
          <p:spPr>
            <a:xfrm>
              <a:off x="65581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6946920" y="2336760"/>
              <a:ext cx="1686600" cy="371160"/>
              <a:chOff x="6946920" y="2336760"/>
              <a:chExt cx="1686600" cy="37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70171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171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9469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7120" y="2374560"/>
                <a:ext cx="1558440" cy="3121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85615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9519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40440" y="1536840"/>
            <a:ext cx="2989800" cy="1186920"/>
            <a:chOff x="6040440" y="1536840"/>
            <a:chExt cx="2989800" cy="1186920"/>
          </a:xfrm>
        </p:grpSpPr>
        <p:sp>
          <p:nvSpPr>
            <p:cNvPr id="266" name=""/>
            <p:cNvSpPr/>
            <p:nvPr/>
          </p:nvSpPr>
          <p:spPr>
            <a:xfrm>
              <a:off x="60404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7"/>
            <a:stretch/>
          </p:blipFill>
          <p:spPr>
            <a:xfrm>
              <a:off x="69548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7343640" y="2336760"/>
              <a:ext cx="1686600" cy="371160"/>
              <a:chOff x="7343640" y="2336760"/>
              <a:chExt cx="1686600" cy="371160"/>
            </a:xfrm>
          </p:grpSpPr>
          <p:sp>
            <p:nvSpPr>
              <p:cNvPr id="269" name=""/>
              <p:cNvSpPr/>
              <p:nvPr/>
            </p:nvSpPr>
            <p:spPr>
              <a:xfrm>
                <a:off x="74138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38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3436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3840" y="2374560"/>
                <a:ext cx="1558440" cy="3121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9582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3486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437160" y="1536840"/>
            <a:ext cx="2989800" cy="1186920"/>
            <a:chOff x="6437160" y="1536840"/>
            <a:chExt cx="2989800" cy="1186920"/>
          </a:xfrm>
        </p:grpSpPr>
        <p:sp>
          <p:nvSpPr>
            <p:cNvPr id="276" name=""/>
            <p:cNvSpPr/>
            <p:nvPr/>
          </p:nvSpPr>
          <p:spPr>
            <a:xfrm>
              <a:off x="64371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40"/>
            <a:stretch/>
          </p:blipFill>
          <p:spPr>
            <a:xfrm>
              <a:off x="73515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7740360" y="2336760"/>
              <a:ext cx="1686600" cy="371160"/>
              <a:chOff x="7740360" y="2336760"/>
              <a:chExt cx="1686600" cy="371160"/>
            </a:xfrm>
          </p:grpSpPr>
          <p:sp>
            <p:nvSpPr>
              <p:cNvPr id="279" name=""/>
              <p:cNvSpPr/>
              <p:nvPr/>
            </p:nvSpPr>
            <p:spPr>
              <a:xfrm>
                <a:off x="78105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105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7403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560" y="2374560"/>
                <a:ext cx="1558440" cy="3121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3549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77454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34240" y="1536840"/>
            <a:ext cx="2989800" cy="1186920"/>
            <a:chOff x="6834240" y="1536840"/>
            <a:chExt cx="2989800" cy="1186920"/>
          </a:xfrm>
        </p:grpSpPr>
        <p:sp>
          <p:nvSpPr>
            <p:cNvPr id="286" name=""/>
            <p:cNvSpPr/>
            <p:nvPr/>
          </p:nvSpPr>
          <p:spPr>
            <a:xfrm>
              <a:off x="68342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43"/>
            <a:stretch/>
          </p:blipFill>
          <p:spPr>
            <a:xfrm>
              <a:off x="77486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8137440" y="2336760"/>
              <a:ext cx="1686600" cy="371160"/>
              <a:chOff x="8137440" y="2336760"/>
              <a:chExt cx="1686600" cy="371160"/>
            </a:xfrm>
          </p:grpSpPr>
          <p:sp>
            <p:nvSpPr>
              <p:cNvPr id="289" name=""/>
              <p:cNvSpPr/>
              <p:nvPr/>
            </p:nvSpPr>
            <p:spPr>
              <a:xfrm>
                <a:off x="82076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76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81374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07640" y="2374560"/>
                <a:ext cx="1558440" cy="31212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97520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1424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230960" y="1536840"/>
            <a:ext cx="2989800" cy="1186920"/>
            <a:chOff x="7230960" y="1536840"/>
            <a:chExt cx="2989800" cy="1186920"/>
          </a:xfrm>
        </p:grpSpPr>
        <p:sp>
          <p:nvSpPr>
            <p:cNvPr id="296" name=""/>
            <p:cNvSpPr/>
            <p:nvPr/>
          </p:nvSpPr>
          <p:spPr>
            <a:xfrm>
              <a:off x="72309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46"/>
            <a:stretch/>
          </p:blipFill>
          <p:spPr>
            <a:xfrm>
              <a:off x="81453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8534160" y="2336760"/>
              <a:ext cx="1686600" cy="371160"/>
              <a:chOff x="8534160" y="2336760"/>
              <a:chExt cx="1686600" cy="371160"/>
            </a:xfrm>
          </p:grpSpPr>
          <p:sp>
            <p:nvSpPr>
              <p:cNvPr id="299" name=""/>
              <p:cNvSpPr/>
              <p:nvPr/>
            </p:nvSpPr>
            <p:spPr>
              <a:xfrm>
                <a:off x="86043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6043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85341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04360" y="2374560"/>
                <a:ext cx="1558440" cy="312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01487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85392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8040" y="1536840"/>
            <a:ext cx="2989800" cy="1186920"/>
            <a:chOff x="7628040" y="1536840"/>
            <a:chExt cx="2989800" cy="1186920"/>
          </a:xfrm>
        </p:grpSpPr>
        <p:sp>
          <p:nvSpPr>
            <p:cNvPr id="306" name=""/>
            <p:cNvSpPr/>
            <p:nvPr/>
          </p:nvSpPr>
          <p:spPr>
            <a:xfrm>
              <a:off x="76280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85424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"/>
            <p:cNvGrpSpPr/>
            <p:nvPr/>
          </p:nvGrpSpPr>
          <p:grpSpPr>
            <a:xfrm>
              <a:off x="8931240" y="2336760"/>
              <a:ext cx="1686600" cy="371160"/>
              <a:chOff x="8931240" y="2336760"/>
              <a:chExt cx="1686600" cy="371160"/>
            </a:xfrm>
          </p:grpSpPr>
          <p:sp>
            <p:nvSpPr>
              <p:cNvPr id="309" name=""/>
              <p:cNvSpPr/>
              <p:nvPr/>
            </p:nvSpPr>
            <p:spPr>
              <a:xfrm>
                <a:off x="90014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0014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89312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001440" y="2374560"/>
                <a:ext cx="1558440" cy="31212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05458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89362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024760" y="1536840"/>
            <a:ext cx="2989800" cy="1186920"/>
            <a:chOff x="8024760" y="1536840"/>
            <a:chExt cx="2989800" cy="1186920"/>
          </a:xfrm>
        </p:grpSpPr>
        <p:sp>
          <p:nvSpPr>
            <p:cNvPr id="316" name=""/>
            <p:cNvSpPr/>
            <p:nvPr/>
          </p:nvSpPr>
          <p:spPr>
            <a:xfrm>
              <a:off x="80247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52"/>
            <a:stretch/>
          </p:blipFill>
          <p:spPr>
            <a:xfrm>
              <a:off x="89391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"/>
            <p:cNvGrpSpPr/>
            <p:nvPr/>
          </p:nvGrpSpPr>
          <p:grpSpPr>
            <a:xfrm>
              <a:off x="9327960" y="2336760"/>
              <a:ext cx="1686600" cy="371160"/>
              <a:chOff x="9327960" y="2336760"/>
              <a:chExt cx="1686600" cy="371160"/>
            </a:xfrm>
          </p:grpSpPr>
          <p:sp>
            <p:nvSpPr>
              <p:cNvPr id="319" name=""/>
              <p:cNvSpPr/>
              <p:nvPr/>
            </p:nvSpPr>
            <p:spPr>
              <a:xfrm>
                <a:off x="93981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3981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3279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398160" y="2374560"/>
                <a:ext cx="1558440" cy="31212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09425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93330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421840" y="1536840"/>
            <a:ext cx="2989800" cy="1186920"/>
            <a:chOff x="8421840" y="1536840"/>
            <a:chExt cx="2989800" cy="1186920"/>
          </a:xfrm>
        </p:grpSpPr>
        <p:sp>
          <p:nvSpPr>
            <p:cNvPr id="326" name=""/>
            <p:cNvSpPr/>
            <p:nvPr/>
          </p:nvSpPr>
          <p:spPr>
            <a:xfrm>
              <a:off x="84218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55"/>
            <a:stretch/>
          </p:blipFill>
          <p:spPr>
            <a:xfrm>
              <a:off x="93362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9725040" y="2336760"/>
              <a:ext cx="1686600" cy="371160"/>
              <a:chOff x="9725040" y="2336760"/>
              <a:chExt cx="1686600" cy="37116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2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2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97250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240" y="2374560"/>
                <a:ext cx="1558440" cy="31212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13396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97300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238880" y="60948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52920" y="106668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now the book mo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7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9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1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7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3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9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1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7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3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9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6:47:25Z</dcterms:created>
  <dc:creator>Keith Johnson,   keith@timetabler.com   (c)</dc:creator>
  <dc:description/>
  <dc:language>en-US</dc:language>
  <cp:lastModifiedBy>IT CITY</cp:lastModifiedBy>
  <dcterms:modified xsi:type="dcterms:W3CDTF">2005-11-20T05:20:15Z</dcterms:modified>
  <cp:revision>291</cp:revision>
  <dc:subject>for Physics for You  CD-ROM</dc:subject>
  <dc:title>Forces - balanced &amp; unbalanced</dc:title>
</cp:coreProperties>
</file>