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B02-F829-4DEA-84D1-96519DCD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3F1-23DF-4A7E-B49E-4403271F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0F6-9883-47B4-974F-5E993F52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48C-EF55-48BD-B0EE-6AE939B8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510-4FF9-433C-BADA-E7CEC7B3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7D7-78B8-487F-B1AF-B2E23C68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223-919C-428E-88FE-53CB547A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576-5F26-4422-8C9C-22C7DDA6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8BE-A623-4095-BFF2-F374D150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554-5416-42D8-B3FC-7C6E645C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816-CD83-46A1-AE38-E6C59B72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2E2-1F04-4036-86E1-98421125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92F5-FA0D-4183-85C2-76752C4D7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a Mo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urning effects go bad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rane1"/>
          <p:cNvPicPr/>
          <p:nvPr/>
        </p:nvPicPr>
        <p:blipFill>
          <a:blip r:embed="rId1"/>
          <a:stretch/>
        </p:blipFill>
        <p:spPr>
          <a:xfrm>
            <a:off x="468360" y="333360"/>
            <a:ext cx="8128080" cy="60958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1"/>
          <p:cNvGrpSpPr/>
          <p:nvPr/>
        </p:nvGrpSpPr>
        <p:grpSpPr>
          <a:xfrm>
            <a:off x="4859280" y="2781360"/>
            <a:ext cx="2376360" cy="1799640"/>
            <a:chOff x="4859280" y="2781360"/>
            <a:chExt cx="2376360" cy="1799640"/>
          </a:xfrm>
        </p:grpSpPr>
        <p:sp>
          <p:nvSpPr>
            <p:cNvPr id="45" name="Line 5"/>
            <p:cNvSpPr/>
            <p:nvPr/>
          </p:nvSpPr>
          <p:spPr>
            <a:xfrm>
              <a:off x="4859280" y="2781360"/>
              <a:ext cx="1008000" cy="7272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5867280" y="2854080"/>
              <a:ext cx="936720" cy="71856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6299280" y="3573000"/>
              <a:ext cx="936360" cy="86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6443640" y="4438440"/>
              <a:ext cx="142920" cy="142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6946920" y="4438440"/>
              <a:ext cx="144360" cy="142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rane2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rane3"/>
          <p:cNvPicPr/>
          <p:nvPr/>
        </p:nvPicPr>
        <p:blipFill>
          <a:blip r:embed="rId1"/>
          <a:stretch/>
        </p:blipFill>
        <p:spPr>
          <a:xfrm>
            <a:off x="468360" y="260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5364000" y="3284640"/>
            <a:ext cx="1008360" cy="93636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9"/>
          <p:cNvGrpSpPr/>
          <p:nvPr/>
        </p:nvGrpSpPr>
        <p:grpSpPr>
          <a:xfrm>
            <a:off x="539640" y="1268280"/>
            <a:ext cx="4608360" cy="3600000"/>
            <a:chOff x="539640" y="1268280"/>
            <a:chExt cx="4608360" cy="3600000"/>
          </a:xfrm>
        </p:grpSpPr>
        <p:sp>
          <p:nvSpPr>
            <p:cNvPr id="54" name="Line 4"/>
            <p:cNvSpPr/>
            <p:nvPr/>
          </p:nvSpPr>
          <p:spPr>
            <a:xfrm>
              <a:off x="539640" y="1268280"/>
              <a:ext cx="1954440" cy="145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2494080" y="1414080"/>
              <a:ext cx="1816200" cy="14374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3332160" y="2851920"/>
              <a:ext cx="1815840" cy="173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3611880" y="4582800"/>
              <a:ext cx="27684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"/>
            <p:cNvSpPr/>
            <p:nvPr/>
          </p:nvSpPr>
          <p:spPr>
            <a:xfrm>
              <a:off x="4587840" y="4582800"/>
              <a:ext cx="27972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" name="Straight Arrow Connector 8"/>
          <p:cNvCxnSpPr/>
          <p:nvPr/>
        </p:nvCxnSpPr>
        <p:spPr>
          <a:xfrm flipV="1">
            <a:off x="3634200" y="4858920"/>
            <a:ext cx="25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TextBox 11"/>
          <p:cNvSpPr/>
          <p:nvPr/>
        </p:nvSpPr>
        <p:spPr>
          <a:xfrm>
            <a:off x="2987640" y="5508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179280" y="115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ran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13"/>
          <p:cNvSpPr/>
          <p:nvPr/>
        </p:nvSpPr>
        <p:spPr>
          <a:xfrm>
            <a:off x="468360" y="1341360"/>
            <a:ext cx="287280" cy="9352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-36360" y="227664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15"/>
          <p:cNvSpPr/>
          <p:nvPr/>
        </p:nvSpPr>
        <p:spPr>
          <a:xfrm>
            <a:off x="3780000" y="4581360"/>
            <a:ext cx="936360" cy="187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4211640" y="6094440"/>
            <a:ext cx="194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8"/>
          <p:cNvCxnSpPr/>
          <p:nvPr/>
        </p:nvCxnSpPr>
        <p:spPr>
          <a:xfrm>
            <a:off x="611280" y="1125000"/>
            <a:ext cx="3024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Straight Arrow Connector 21"/>
          <p:cNvCxnSpPr/>
          <p:nvPr/>
        </p:nvCxnSpPr>
        <p:spPr>
          <a:xfrm>
            <a:off x="3635280" y="1125000"/>
            <a:ext cx="650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8" name="Straight Connector 24"/>
          <p:cNvSpPr/>
          <p:nvPr/>
        </p:nvSpPr>
        <p:spPr>
          <a:xfrm>
            <a:off x="3635280" y="1268280"/>
            <a:ext cx="0" cy="352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1403280" y="69228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3419640" y="6825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4643280" y="1120680"/>
            <a:ext cx="46087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ne falls into the s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9"/>
          <p:cNvGrpSpPr/>
          <p:nvPr/>
        </p:nvGrpSpPr>
        <p:grpSpPr>
          <a:xfrm>
            <a:off x="539640" y="1268280"/>
            <a:ext cx="4608360" cy="3600000"/>
            <a:chOff x="539640" y="1268280"/>
            <a:chExt cx="4608360" cy="3600000"/>
          </a:xfrm>
        </p:grpSpPr>
        <p:sp>
          <p:nvSpPr>
            <p:cNvPr id="73" name="Line 4"/>
            <p:cNvSpPr/>
            <p:nvPr/>
          </p:nvSpPr>
          <p:spPr>
            <a:xfrm>
              <a:off x="539640" y="1268280"/>
              <a:ext cx="1954440" cy="145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"/>
            <p:cNvSpPr/>
            <p:nvPr/>
          </p:nvSpPr>
          <p:spPr>
            <a:xfrm>
              <a:off x="2494080" y="1414080"/>
              <a:ext cx="1816200" cy="14374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3332160" y="2851920"/>
              <a:ext cx="1815840" cy="173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3611880" y="4582800"/>
              <a:ext cx="27684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4587840" y="4582800"/>
              <a:ext cx="27972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" name="Straight Arrow Connector 8"/>
          <p:cNvCxnSpPr/>
          <p:nvPr/>
        </p:nvCxnSpPr>
        <p:spPr>
          <a:xfrm flipV="1">
            <a:off x="2556000" y="4858920"/>
            <a:ext cx="21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11"/>
          <p:cNvSpPr/>
          <p:nvPr/>
        </p:nvSpPr>
        <p:spPr>
          <a:xfrm>
            <a:off x="1908000" y="5508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79280" y="115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ran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own Arrow 13"/>
          <p:cNvSpPr/>
          <p:nvPr/>
        </p:nvSpPr>
        <p:spPr>
          <a:xfrm>
            <a:off x="324000" y="1341360"/>
            <a:ext cx="647640" cy="93528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-36360" y="227664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n Arrow 15"/>
          <p:cNvSpPr/>
          <p:nvPr/>
        </p:nvSpPr>
        <p:spPr>
          <a:xfrm>
            <a:off x="3276720" y="4581360"/>
            <a:ext cx="1871640" cy="18720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4211640" y="6094440"/>
            <a:ext cx="194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8"/>
          <p:cNvCxnSpPr/>
          <p:nvPr/>
        </p:nvCxnSpPr>
        <p:spPr>
          <a:xfrm>
            <a:off x="611280" y="1125000"/>
            <a:ext cx="1945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6" name="Straight Arrow Connector 21"/>
          <p:cNvCxnSpPr/>
          <p:nvPr/>
        </p:nvCxnSpPr>
        <p:spPr>
          <a:xfrm>
            <a:off x="2556000" y="1125000"/>
            <a:ext cx="1729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7" name="Straight Connector 24"/>
          <p:cNvSpPr/>
          <p:nvPr/>
        </p:nvSpPr>
        <p:spPr>
          <a:xfrm>
            <a:off x="2556000" y="1268280"/>
            <a:ext cx="0" cy="352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1403280" y="69228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3419640" y="6825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9"/>
          <p:cNvSpPr/>
          <p:nvPr/>
        </p:nvSpPr>
        <p:spPr>
          <a:xfrm>
            <a:off x="4643280" y="1120680"/>
            <a:ext cx="46087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y cra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-Shape 23"/>
          <p:cNvSpPr/>
          <p:nvPr/>
        </p:nvSpPr>
        <p:spPr>
          <a:xfrm rot="5400000">
            <a:off x="2411280" y="3716280"/>
            <a:ext cx="936720" cy="936720"/>
          </a:xfrm>
          <a:custGeom>
            <a:avLst/>
            <a:gdLst>
              <a:gd name="textAreaLeft" fmla="*/ 0 w 936720"/>
              <a:gd name="textAreaRight" fmla="*/ 337680 w 936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36625" h="936625">
                <a:moveTo>
                  <a:pt x="0" y="0"/>
                </a:moveTo>
                <a:lnTo>
                  <a:pt x="337607" y="0"/>
                </a:lnTo>
                <a:lnTo>
                  <a:pt x="337607" y="642581"/>
                </a:lnTo>
                <a:lnTo>
                  <a:pt x="936625" y="642581"/>
                </a:lnTo>
                <a:lnTo>
                  <a:pt x="936625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-Shape 25"/>
          <p:cNvSpPr/>
          <p:nvPr/>
        </p:nvSpPr>
        <p:spPr>
          <a:xfrm rot="10800000">
            <a:off x="5148000" y="3716280"/>
            <a:ext cx="936360" cy="936720"/>
          </a:xfrm>
          <a:custGeom>
            <a:avLst/>
            <a:gdLst>
              <a:gd name="textAreaLeft" fmla="*/ 0 w 936360"/>
              <a:gd name="textAreaRight" fmla="*/ 282960 w 936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36625" h="936625">
                <a:moveTo>
                  <a:pt x="0" y="0"/>
                </a:moveTo>
                <a:lnTo>
                  <a:pt x="283151" y="0"/>
                </a:lnTo>
                <a:lnTo>
                  <a:pt x="283151" y="599018"/>
                </a:lnTo>
                <a:lnTo>
                  <a:pt x="936625" y="599018"/>
                </a:lnTo>
                <a:lnTo>
                  <a:pt x="936625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5:04:19Z</dcterms:created>
  <dc:creator>Graeme Littler</dc:creator>
  <dc:description/>
  <dc:language>en-US</dc:language>
  <cp:lastModifiedBy>maba</cp:lastModifiedBy>
  <dcterms:modified xsi:type="dcterms:W3CDTF">2010-10-27T04:24:09Z</dcterms:modified>
  <cp:revision>7</cp:revision>
  <dc:subject/>
  <dc:title>Just a Moment!</dc:title>
</cp:coreProperties>
</file>